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143-13E0-4E4C-A535-22C563AF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E55-BACB-43C6-AE0D-F65F0FCF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6CB-339A-4B9C-B4A9-64638721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A32-C390-4CFF-877C-F5585894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1AD4-3D4E-4ACE-AE88-44D66E78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9134-B793-4D3F-9993-8E78BA94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7AE8-859F-48D5-BBD8-111C34AD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1F14-6C3D-43D3-97E3-50F15494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5A7A-058A-4D9B-88B8-CA4EE50C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10B1-2A36-4F87-9A6B-0F059CE1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BADA-07B0-41FE-99E9-EB4AF3C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740-7B77-4C1C-B40C-72FEF494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A2A3-02F0-43F2-870A-0C6191B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77E0-88C7-4514-9F4E-162AD07C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2A22-3E43-4859-9080-BB7D38E0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1875-5B3D-4C1F-BFA7-B27B9B77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D667-B944-4963-9258-C35673EF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001-6F1A-4414-8F23-B8FCA899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FA7-394A-47F5-9F28-44AC3571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EE2-9E36-4E97-9EC5-26B3E33C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6D8-5C30-4B3B-9A88-9123D4F3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19F-5392-4259-9906-D2702CE2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2F5-D7F6-49D4-9AE2-87D4F067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BE1-6DA5-4F42-A74B-B6C352F5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B53E-0E10-42D8-86AB-6C11E116B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3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9DFC-4F5F-4CE9-BC2E-AF15C06EE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dmx.org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sbb.imf.org/Applications/web/sddshome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sbb.imf.org/Applications/web/euronote/" TargetMode="External"/><Relationship Id="rId2" Type="http://schemas.openxmlformats.org/officeDocument/2006/relationships/hyperlink" Target="http://dsbb.imf.org/Applications/web/eurostatnot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IS 2004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Geneva, 9-11 February 2004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nter-agency co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or the dissemination and exchange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f standard 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ited P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mitted 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stat, IMF, and OEC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cc66"/>
                </a:solidFill>
                <a:latin typeface="Times New Roman"/>
              </a:rPr>
              <a:t>SDDS Metadata Query Facility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SBB allows users to tap into SDDS information in four way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y Metadata Dimension(s) and Element(s) for one or more Countries and Data Categ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y Key Concepts within Metadata Element(s) for one or more Countries and Data Categ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 Advance Release Calendar information for one or more data categories and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 Summary of Observance information: cross-country practices vis-à-vis the SD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ever, the metadata cannot be interrogated and repurposed to meet specific users’ n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atistical Data and Metadata Exchange (SDMX: </a:t>
            </a:r>
            <a:r>
              <a:rPr b="0" lang="en-US" sz="4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sdmx.org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: How to achieve the open exchange of metadata within the IMF and among institu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: business practices in the field of statistical information that promote efficient processes for exchange and sharing of data and meta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: to establish common e-standards and standardization activities that result i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ins in efficienc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ing duplication of effort in our own work and the work of others in the field of statistical inform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DMX Metadata Project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data Common Vocabu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a metadata terminology standard focusing on descriptions of statistical concepts and methodologies used in the collection, processing, and dissemination of statistical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s consistency in the metadata compi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independently from any specific metadata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tates information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etadata Common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Timel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finition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Timeliness refers to the speed of dissemination of the data - i.e., the lapse of time between the end of a reference period (or a reference date) and dissemination of the data.  It reflects many factors, including some that are related to institutional arrangements, such as the preparation of accompanying commentary and print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International Monetary Fund (IMF), "Guide to the Data Dissemination Standards, Module 1: The Special Data Dissemination Standard", Washington, May 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Hyperlinks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dsbb.imf.org/Applications/web/sddshome/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ntext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The third quality component in the Eurostat Definition is "timeliness and punctuality"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Related term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ata, Quality, Punctu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DMX Metadata Project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data Reposit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ment of a platform-independent metadata exchange system providing fluid and unobstructed access to information from a large number of content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roved metadata access, analysis, and repurpo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common model or structure for describing all metadata e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ressed in UML (Unified Modeling Langua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ndered using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ked to the MCV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etadata Repositories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DMX Model – An Application to the SDD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DDS – As it st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2514600"/>
          <a:ext cx="7543440" cy="3505320"/>
        </p:xfrm>
        <a:graphic>
          <a:graphicData uri="http://schemas.openxmlformats.org/drawingml/2006/table">
            <a:tbl>
              <a:tblPr/>
              <a:tblGrid>
                <a:gridCol w="2004840"/>
                <a:gridCol w="2699280"/>
                <a:gridCol w="2839320"/>
              </a:tblGrid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MEN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EY CONCEP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ALI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semination of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cumentation on methodology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d sources used in preparing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tis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blication(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semination of component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tail, reconciliations with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ed data, and statistical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ameworks that support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tistical cross-checks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d provide assurance of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sonablenes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blication(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nent breakdown -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etadata Repositories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DMX Model – An Application to the SDD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DDS – Revisions related to SDM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514600"/>
          <a:ext cx="8001000" cy="3747600"/>
        </p:xfrm>
        <a:graphic>
          <a:graphicData uri="http://schemas.openxmlformats.org/drawingml/2006/table">
            <a:tbl>
              <a:tblPr/>
              <a:tblGrid>
                <a:gridCol w="1633680"/>
                <a:gridCol w="2193840"/>
                <a:gridCol w="2309760"/>
                <a:gridCol w="1863720"/>
              </a:tblGrid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MEN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el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el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ALITY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FERENC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semination of reference documentation on methodological soundness and types of data sources used in preparing statis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(s) and frequency of methodological publication (DQAF 5.2.1 &amp; 5.2.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rdcopy (ISB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ctronic (URL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84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semination of reference documentation that support statistical cross-checks and provide assurance of coherence and consistency over ti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(s) and frequency of statistical publication (DQAF 4.2.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rdcopy (ISB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ctronic (URL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istency over time 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thin the dataset  (DQAF 4.2.1 &amp; 4.2.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reaks in time series 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istency with other indicators/data sets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DQAF 4.2.3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rdcopy (ISB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ctronic (URL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ality assurance references / Benchmark (ROSC/DQAF, etc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rdcopy (ISB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ctronic (URL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oward an “SDMX” SDDS model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DDS metadata concept famil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building on the four dimensions of data characteristics, quality, access, and integrity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ology and dissemination 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cribes—in four levels—greater detail and specificity in the metadata provi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s comparability and the sharing of content among providers and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linked to other metadata systems and extended, using XML and a common termi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s as an input for the XML tagging of metadata across SDMX 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tates information management across diverse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full or partial metadata sha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ssues for discus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xt pha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Combining outputs from all SDMX activities to refine and extend data/metadata exchange for selected “pilot” dom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s for migrating metadata from the “old” to the “new”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es the SDMX approach parallel initiatives underway in national agencies? How can these efforts be harmoniz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wth of Internet-based modes of data and metadata disse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spread recognition of the need for precise and robust tool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 information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 the quality (and quantity) of  the information retr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comparability of data from multiple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e DSBB &amp; Interagency Cooperatio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MF, in collaboration with the ECB and Eurostat, disseminate harmonized statistical metadata in SDDS format on the Interne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CB’s Euro area metadat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dsbb.imf.org/Applications/web/euronote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ancial and external sector metadata covering 7 statistical domains for the 12 participating Member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urostat’s Indicator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http://dsbb.imf.org/Applications/web/eurostatnote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nd structural indicators covering 14 statistical domains for the 15 participating Member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ECB’s Euro area metadata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accessible </a:t>
            </a:r>
            <a:r>
              <a:rPr b="0" i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on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the DSBB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ncial sect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banking sec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system: ECB and national central banks (NCBs) of the 12 participating Member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interest ra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rnal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balance of pay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international reserves and foreign currency liqu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international investment 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ro area exchange ra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Eurostat’s Euro Indicators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accessible </a:t>
            </a:r>
            <a:r>
              <a:rPr b="0" i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the DSBB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Euro indicators metadata by do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tional accou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ustry, Commerce, Services and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armonized Indices of Consumer Pr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bour marke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onetary and financial indicato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alance of paymen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ternal tr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siness and Consumer surve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metadata is also provided to Eurostat’s Structural Indicators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eneral economic background; Employment; Innovation and Research; Economic reform; Social cohesion; Environm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May 1, 2004 the number of countries will increase: from EU15 to EU25, thereby dramatically increasing access to metadata in SDDS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tadata within the OEC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ecentralised system of collection, storage and dissemination for 30 Member countries (plus a limited number of non-member st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limited metadata are stored in databases actually linked to the statistics they descri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rporate metadata facility and metadata model are under development: META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ECD Metasto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metadata stored by different Directorates to be linked to various outp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links to metadata maintained by other international organizations and nation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its search and qu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inked to other elements of the OECD’s corporate data environ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ECD.STAT and the OECD Glossary of Statistical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: develop governance practices for accessing the repositories of other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SBB Content: 3 types of metadat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cription to the SDDS has grown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5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tion in the General Data Dissemination System (GDDS): Metadata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68 countr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s on the Observance of Standards and Codes: Data Modules prepared using the Data Quality Assessment Framework (DQAF)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9 countr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includ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 SDDS subscribers and 7 GDDS participa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on the Data Quality Reference Site (DQR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DDS/GDDS/DQRS: the IMF’s main metadata repositories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DDS and GDDS metadata (18 data categories), which cover many of the same statistical domains as the metadata maintained by ECB and Euros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DDS and GDDS metadata may be que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ely 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soon as a common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QRS based metadata (ROSC reports) will soon become query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mapped to the SDDS/GDDS metadata repositor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: These three repositories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 harmon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gainst a common metadata model nor are they linked to other organizations’ reposi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0:17:51Z</dcterms:created>
  <dc:creator>sparsonson</dc:creator>
  <dc:description/>
  <dc:language>en-US</dc:language>
  <cp:lastModifiedBy>RPiche</cp:lastModifiedBy>
  <dcterms:modified xsi:type="dcterms:W3CDTF">2004-02-04T22:03:23Z</dcterms:modified>
  <cp:revision>54</cp:revision>
  <dc:subject/>
  <dc:title>Ob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31029007</vt:r8>
  </property>
  <property fmtid="{D5CDD505-2E9C-101B-9397-08002B2CF9AE}" pid="3" name="_AuthorEmail">
    <vt:lpwstr>RPICHE@imf.org</vt:lpwstr>
  </property>
  <property fmtid="{D5CDD505-2E9C-101B-9397-08002B2CF9AE}" pid="4" name="_AuthorEmailDisplayName">
    <vt:lpwstr>Piche, Rene</vt:lpwstr>
  </property>
  <property fmtid="{D5CDD505-2E9C-101B-9397-08002B2CF9AE}" pid="5" name="_EmailSubject">
    <vt:lpwstr>METIS - slides; comments on Feb 3 version.</vt:lpwstr>
  </property>
</Properties>
</file>