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01F-AA38-404F-8CF2-627D930F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235-C6A3-482B-9629-BF764D80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9E8-65CA-4BCA-B681-21B17754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40F3-42EE-44D1-B987-3C90AE1F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929C-AE51-4639-8D9D-B0FA5E61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4981-5C86-477F-9579-21C44F87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6C58-AACA-4013-8060-F0CD6D52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5785-A32B-43FE-80BD-321B4706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B44B-08C9-488D-A6CA-D67E0B0D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2325-2DE2-4DCC-91D8-620155D9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DE1E-8D95-4BDA-9A73-04698E9C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ED3-6AA8-49B7-AB56-18BD899B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4F36-1551-401A-93C4-07B5D799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63CF-8A07-4BB3-ABED-29F6D87F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BDC3-3869-4DDB-A75C-A6613D3B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EBEF-CDE0-487A-905B-D3C4FEFA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58B0-BE94-4DD4-BF86-84C39FD0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2D8F-6F5A-4BF3-9B7E-C9377EFD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1433-5DFA-4E9F-A31F-B9DA4DA0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EE29-272D-46EB-894B-95CFD84E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FB3-83BF-4A44-837D-00251EA4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A01-AB78-4D0E-BFBA-6CEEDF35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83E-A0E4-4EA2-A04A-792075B7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D15-1651-438E-B1DC-B9BB22E8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B998-AA4B-42CD-B4BD-557FD53BB5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3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3314-168A-42A3-9740-E70260BA41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dmx.org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sbb.imf.org/Applications/web/sddshome/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sbb.imf.org/Applications/web/euronote/" TargetMode="External"/><Relationship Id="rId2" Type="http://schemas.openxmlformats.org/officeDocument/2006/relationships/hyperlink" Target="http://dsbb.imf.org/Applications/web/eurostatnote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IS 2004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Geneva, 9-11 February 2004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nter-agency coop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or the dissemination and exchange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of standard meta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ited Pa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mitted 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rostat, IMF, and OEC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cc66"/>
                </a:solidFill>
                <a:latin typeface="Times New Roman"/>
              </a:rPr>
              <a:t>SDDS Metadata Query Facility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SBB allows users to tap into SDDS information in four way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y Metadata Dimension(s) and Element(s) for one or more Countries and Data Categ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y Key Concepts within Metadata Element(s) for one or more Countries and Data Categ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 Advance Release Calendar information for one or more data categories and cou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 Summary of Observance information: cross-country practices vis-à-vis the SD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owever, the metadata cannot be interrogated and repurposed to meet specific users’ nee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tatistical Data and Metadata Exchange (SDMX: </a:t>
            </a:r>
            <a:r>
              <a:rPr b="0" lang="en-US" sz="40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www.sdmx.org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SUE: How to achieve the open exchange of metadata within the IMF and among institu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: business practices in the field of statistical information that promote efficient processes for exchange and sharing of data and meta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: to establish common e-standards and standardization activities that result i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ins in efficienc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ing duplication of effort in our own work and the work of others in the field of statistical inform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DMX Metadata Project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data Common 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of a metadata terminology standard focusing on descriptions of statistical concepts and methodologies used in the collection, processing, and dissemination of statistical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s consistency in the metadata compi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independently from any specific metadata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ilitates information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etadata Common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examp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Timeli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Definition: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Timeliness refers to the speed of dissemination of the data - i.e., the lapse of time between the end of a reference period (or a reference date) and dissemination of the data.  It reflects many factors, including some that are related to institutional arrangements, such as the preparation of accompanying commentary and print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International Monetary Fund (IMF), "Guide to the Data Dissemination Standards, Module 1: The Special Data Dissemination Standard", Washington, May 19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Hyperlinks: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dsbb.imf.org/Applications/web/sddshome/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ontext: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The third quality component in the Eurostat Definition is "timeliness and punctuality"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Related term: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ata, Quality, Punctua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DMX Metadata Project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data Reposit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ment of a platform-independent metadata exchange system providing fluid and unobstructed access to information from a large number of content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roved metadata access, analysis, and repurpo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common model or structure for describing all metadata e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pressed in UML (Unified Modeling Languag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ndered using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nked to the MCV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etadata Repositories</a:t>
            </a:r>
            <a:br>
              <a:rPr sz="40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DMX Model – An Application to the SDD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DDS – As it st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2514600"/>
          <a:ext cx="7543440" cy="3505320"/>
        </p:xfrm>
        <a:graphic>
          <a:graphicData uri="http://schemas.openxmlformats.org/drawingml/2006/table">
            <a:tbl>
              <a:tblPr/>
              <a:tblGrid>
                <a:gridCol w="2004840"/>
                <a:gridCol w="2699280"/>
                <a:gridCol w="2839320"/>
              </a:tblGrid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MENS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EMENT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EY CONCEPT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UALIT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ssemination of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cumentation on methodology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d sources used in preparing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atistic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ublication(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0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ssemination of component 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tail, reconciliations with 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ed data, and statistical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rameworks that support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atistical cross-checks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d provide assurance of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asonablenes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ublication(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onent breakdown -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etadata Repositories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DMX Model – An Application to the SDD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DDS – Revisions related to SDM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2514600"/>
          <a:ext cx="8001000" cy="3747600"/>
        </p:xfrm>
        <a:graphic>
          <a:graphicData uri="http://schemas.openxmlformats.org/drawingml/2006/table">
            <a:tbl>
              <a:tblPr/>
              <a:tblGrid>
                <a:gridCol w="1633680"/>
                <a:gridCol w="2193840"/>
                <a:gridCol w="2309760"/>
                <a:gridCol w="1863720"/>
              </a:tblGrid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MENS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EMENT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vel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vel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UALITY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FERENC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ssemination of reference documentation on methodological soundness and types of data sources used in preparing statistic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tle(s) and frequency of methodological publication (DQAF 5.2.1 &amp; 5.2.2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ardcopy (ISBN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ectronic (URL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84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ssemination of reference documentation that support statistical cross-checks and provide assurance of coherence and consistency over ti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tle(s) and frequency of statistical publication (DQAF 4.2.2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ardcopy (ISBN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ectronic (URL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istency over time 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ithin the dataset  (DQAF 4.2.1 &amp; 4.2.2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reaks in time series da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istency with other indicators/data sets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DQAF 4.2.3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ardcopy (ISBN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ectronic (URL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uality assurance references / Benchmark (ROSC/DQAF, etc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ardcopy (ISBN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ectronic (URL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Toward an “SDMX” SDDS model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DDS metadata concept famil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building on the four dimensions of data characteristics, quality, access, and integrity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thodology and dissemination form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cribes—in four levels—greater detail and specificity in the metadata provi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es comparability and the sharing of content among providers and u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linked to other metadata systems and extended, using XML and a common termi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s as an input for the XML tagging of metadata across SDMX orga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ilitates information management across diverse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full or partial metadata sha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ssues for discuss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xt pha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Combining outputs from all SDMX activities to refine and extend data/metadata exchange for selected “pilot” doma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es for migrating metadata from the “old” to the “new”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es the SDMX approach parallel initiatives underway in national agencies? How can these efforts be harmoniz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wth of Internet-based modes of data and metadata disse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spread recognition of the need for precise and robust tool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e information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 the quality (and quantity) of  the information retrie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comparability of data from multiple 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The DSBB &amp; Interagency Cooperation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MF, in collaboration with the ECB and Eurostat, disseminate harmonized statistical metadata in SDDS format on the Interne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CB’s Euro area metadat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dsbb.imf.org/Applications/web/euronote/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ancial and external sector metadata covering 7 statistical domains for the 12 participating Member 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urostat’s Indicators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http://dsbb.imf.org/Applications/web/eurostatnote/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ro and structural indicators covering 14 statistical domains for the 15 participating Member 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ECB’s Euro area metadata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(accessible </a:t>
            </a:r>
            <a:r>
              <a:rPr b="0" i="1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on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the DSBB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ncial sect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ro area banking sect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rosystem: ECB and national central banks (NCBs) of the 12 participating Member 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ro area interest ra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rnal s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ro area balance of pay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ro area international reserves and foreign currency liquid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ro area international investment 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ro area exchange ra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Eurostat’s Euro Indicators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(accessible </a:t>
            </a:r>
            <a:r>
              <a:rPr b="0" i="1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the DSBB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ss to Euro indicators metadata by dom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tional accou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dustry, Commerce, Services and Ener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armonized Indices of Consumer Pr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abour marke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onetary and financial indicato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alance of paymen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ternal tra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siness and Consumer surve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ss to metadata is also provided to Eurostat’s Structural Indicators: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eneral economic background; Employment; Innovation and Research; Economic reform; Social cohesion; Environm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May 1, 2004 the number of countries will increase: from EU15 to EU25, thereby dramatically increasing access to metadata in SDDS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tadata within the OEC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ecentralised system of collection, storage and dissemination for 30 Member countries (plus a limited number of non-member sta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limited metadata are stored in databases actually linked to the statistics they descri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rporate metadata facility and metadata model are under development: METAST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ECD Metasto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metadata stored by different Directorates to be linked to various outpu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links to metadata maintained by other international organizations and nation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mits search and qu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linked to other elements of the OECD’s corporate data environ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ECD.STAT and the OECD Glossary of Statistical 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: develop governance practices for accessing the repositories of other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SBB Content: 3 types of metadat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cription to the SDDS has grown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55 cou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ipation in the General Data Dissemination System (GDDS): Metadata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68 countri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s on the Observance of Standards and Codes: Data Modules prepared using the Data Quality Assessment Framework (DQAF)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29 countri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including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 SDDS subscribers and 7 GDDS participan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on the Data Quality Reference Site (DQR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DDS/GDDS/DQRS: the IMF’s main metadata repositories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DDS and GDDS metadata (18 data categories), which cover many of the same statistical domains as the metadata maintained by ECB and Euros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DDS and GDDS metadata may be quer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parately n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soon as a common reposi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QRS based metadata (ROSC reports) will soon become queryab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mapped to the SDDS/GDDS metadata repository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: These three repositories a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 harmon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gainst a common metadata model nor are they linked to other organizations’ reposi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20:17:51Z</dcterms:created>
  <dc:creator>sparsonson</dc:creator>
  <dc:description/>
  <dc:language>en-US</dc:language>
  <cp:lastModifiedBy>RPiche</cp:lastModifiedBy>
  <dcterms:modified xsi:type="dcterms:W3CDTF">2004-02-04T22:03:23Z</dcterms:modified>
  <cp:revision>54</cp:revision>
  <dc:subject/>
  <dc:title>Obj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31029007</vt:r8>
  </property>
  <property fmtid="{D5CDD505-2E9C-101B-9397-08002B2CF9AE}" pid="3" name="_AuthorEmail">
    <vt:lpwstr>RPICHE@imf.org</vt:lpwstr>
  </property>
  <property fmtid="{D5CDD505-2E9C-101B-9397-08002B2CF9AE}" pid="4" name="_AuthorEmailDisplayName">
    <vt:lpwstr>Piche, Rene</vt:lpwstr>
  </property>
  <property fmtid="{D5CDD505-2E9C-101B-9397-08002B2CF9AE}" pid="5" name="_EmailSubject">
    <vt:lpwstr>METIS - slides; comments on Feb 3 version.</vt:lpwstr>
  </property>
</Properties>
</file>