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18.wmf" ContentType="image/x-wmf"/>
  <Override PartName="/ppt/media/image3.jpeg" ContentType="image/jpe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D3F6A-609C-48A2-B6F4-DA0AFAA2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F6748-2BF3-4646-9121-16E05083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AECD5-603D-483F-B687-37D6C996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382D1-716B-40DD-B22E-327435BF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58C0F-71EA-42E6-A867-5FAAFD56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F060-7F5A-491C-9C07-A518BC96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265CB-37DD-447E-80D3-6445D5A6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D538D-B7AB-45F0-A430-7691CD81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03E74-B0B7-4A1B-A405-F22DD156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9CC77-F14B-48D9-A2FA-405506AA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C81B-79D5-48FF-ADC5-9ADE0C2D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7012F-90EF-4020-9D2F-FFA47C67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5200" indent="-18432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1400" indent="-185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0200" indent="-1983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719360" indent="-1983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kulma_o_yp" descr=""/>
          <p:cNvPicPr/>
          <p:nvPr/>
        </p:nvPicPr>
        <p:blipFill>
          <a:blip r:embed="rId2"/>
          <a:stretch/>
        </p:blipFill>
        <p:spPr>
          <a:xfrm>
            <a:off x="6529320" y="0"/>
            <a:ext cx="3376800" cy="8222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602400"/>
            <a:ext cx="4381560" cy="250920"/>
          </a:xfrm>
          <a:prstGeom prst="rect">
            <a:avLst/>
          </a:prstGeom>
          <a:ln w="0">
            <a:noFill/>
          </a:ln>
        </p:spPr>
      </p:pic>
      <p:pic>
        <p:nvPicPr>
          <p:cNvPr id="4" name="logo_engl" descr=""/>
          <p:cNvPicPr/>
          <p:nvPr/>
        </p:nvPicPr>
        <p:blipFill>
          <a:blip r:embed="rId4"/>
          <a:stretch/>
        </p:blipFill>
        <p:spPr>
          <a:xfrm>
            <a:off x="762120" y="235080"/>
            <a:ext cx="2806560" cy="527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086240" y="6324120"/>
            <a:ext cx="1530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686440" y="6324120"/>
            <a:ext cx="552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2984-CB12-49B5-9EB2-78CD3608DB31}" type="slidenum">
              <a:rPr b="0" lang="fi-FI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809880" y="6324120"/>
            <a:ext cx="320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1828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86240" y="6400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4343400" y="640044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ulma_o_yp" descr=""/>
          <p:cNvPicPr/>
          <p:nvPr/>
        </p:nvPicPr>
        <p:blipFill>
          <a:blip r:embed="rId2"/>
          <a:stretch/>
        </p:blipFill>
        <p:spPr>
          <a:xfrm>
            <a:off x="6529320" y="0"/>
            <a:ext cx="3376800" cy="822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6602400"/>
            <a:ext cx="4381560" cy="250920"/>
          </a:xfrm>
          <a:prstGeom prst="rect">
            <a:avLst/>
          </a:prstGeom>
          <a:ln w="0">
            <a:noFill/>
          </a:ln>
        </p:spPr>
      </p:pic>
      <p:pic>
        <p:nvPicPr>
          <p:cNvPr id="49" name="logo_engl" descr=""/>
          <p:cNvPicPr/>
          <p:nvPr/>
        </p:nvPicPr>
        <p:blipFill>
          <a:blip r:embed="rId4"/>
          <a:stretch/>
        </p:blipFill>
        <p:spPr>
          <a:xfrm>
            <a:off x="762120" y="235080"/>
            <a:ext cx="2806560" cy="527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808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755640" algn="ctr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131840" algn="ctr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21000" algn="ctr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533412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Joint UNECE/Eurostat/OECD work session on statistical metadata (METIS)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neva, 9-11 February 2004, Topic (ii): Metadata interchange / WP.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MetaAPI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improving the usability of existing metadata systems by application programming interfac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etaAPI services in the futu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905120"/>
            <a:ext cx="9068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classification services (including correspondence table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cep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rvices for the metadata of data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rvices to create and maintain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rvices for mixed tasks (e.g. producing metadata rich publication t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ternal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84320">
              <a:lnSpc>
                <a:spcPct val="100000"/>
              </a:lnSpc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5E4CC-B07F-48FA-B3A5-8B74D0A27C1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3753000" cy="4438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4953240" cy="4573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42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How does it work, what the user se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ample from our testing site: Getting classification codes and la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733920"/>
            <a:ext cx="1523880" cy="1600200"/>
          </a:xfrm>
          <a:prstGeom prst="rightArrow">
            <a:avLst>
              <a:gd name="adj1" fmla="val 46722"/>
              <a:gd name="adj2" fmla="val 32968"/>
            </a:avLst>
          </a:prstGeom>
          <a:solidFill>
            <a:srgbClr val="f2ef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s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049D-75AA-495E-BF34-BC7A78D3A0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2254320" cy="26668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42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How does it work, what really happe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spcAft>
                <a:spcPts val="499"/>
              </a:spcAft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etting classification codes and la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4495680"/>
            <a:ext cx="1676160" cy="609840"/>
          </a:xfrm>
          <a:prstGeom prst="rect">
            <a:avLst/>
          </a:prstGeom>
          <a:solidFill>
            <a:srgbClr val="6bc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Data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86520" y="1828800"/>
            <a:ext cx="1584360" cy="444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Meta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1295280"/>
            <a:ext cx="15843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EasyM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86520" y="2624040"/>
            <a:ext cx="1584360" cy="576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TKM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3505320"/>
            <a:ext cx="158436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3505320"/>
            <a:ext cx="158436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Concept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3505320"/>
            <a:ext cx="158436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UFile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5486400"/>
            <a:ext cx="863640" cy="792000"/>
          </a:xfrm>
          <a:prstGeom prst="can">
            <a:avLst>
              <a:gd name="adj" fmla="val 25000"/>
            </a:avLst>
          </a:prstGeom>
          <a:solidFill>
            <a:srgbClr val="6bc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5486400"/>
            <a:ext cx="863640" cy="792000"/>
          </a:xfrm>
          <a:prstGeom prst="can">
            <a:avLst>
              <a:gd name="adj" fmla="val 25000"/>
            </a:avLst>
          </a:prstGeom>
          <a:solidFill>
            <a:srgbClr val="6bc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Co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5486400"/>
            <a:ext cx="863640" cy="792000"/>
          </a:xfrm>
          <a:prstGeom prst="can">
            <a:avLst>
              <a:gd name="adj" fmla="val 25000"/>
            </a:avLst>
          </a:prstGeom>
          <a:solidFill>
            <a:srgbClr val="6bc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U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438280" y="2133720"/>
            <a:ext cx="3657600" cy="2514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758800" y="56379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915400" y="41900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2057400"/>
            <a:ext cx="33526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176724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ahoma"/>
              </a:rPr>
              <a:t>SOAP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93084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ahoma"/>
              </a:rPr>
              <a:t>SOAP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25672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4038480"/>
            <a:ext cx="1219320" cy="6098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866920" y="4800600"/>
            <a:ext cx="38124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952520" y="3048120"/>
            <a:ext cx="114300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2286000"/>
            <a:ext cx="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095880" y="5105520"/>
            <a:ext cx="30492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943240" y="4114800"/>
            <a:ext cx="60948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715000" y="3200040"/>
            <a:ext cx="83808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086600" y="22096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5486400"/>
            <a:ext cx="990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04920" y="1741320"/>
            <a:ext cx="2514600" cy="2320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8153280" y="1066680"/>
            <a:ext cx="1305000" cy="17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C9E3-49FB-46D3-980E-0CB2DD4834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etaAPI implem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72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0000" indent="-1800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7920" indent="-1785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NET web service components (public interf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7920" indent="-1785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NET binary components (internal interfa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7920" indent="-1785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base and MS SQL Server databases to store meta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0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0000" indent="-1800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7920" indent="-1785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NET, PowerBuilder, SAS applic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7920" indent="-1785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XML based systems in dissemin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7920" indent="-1785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row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7920" indent="-1785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ything (with support of using web ser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632240" cy="13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344C-5A9B-4C93-AF61-FA076C9B2C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hange manag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922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-1836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want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9440" indent="-1821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ave the possibility to adopt new standards and common tools in the future without changing every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9440" indent="-1821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solate the effects of system changes to a known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3600" indent="-1836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at is wh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9440" indent="-1821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should not allow direct connections to metadata systems and datab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9440" indent="-1821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metadata business should take place through Meta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3600" indent="-1836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owever, the uncertainty of the remaining lifetime of the present systems has slightly slowed down the speed of creating new services into Meta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3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B637F-98E0-4A65-BCE9-605F506EE0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hange manag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3716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ample: all background systems are repla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80880" y="2057400"/>
          <a:ext cx="9296640" cy="38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929664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EFC25-695C-4CB4-BD15-9BEE5DA7E71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420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Experiences so fa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922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taAPI has now been used in one real production system and in some test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periences have been pos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b services are easy to use with modern application development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XML skills are needed after receiving the result s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ed techniques seems to be efficient (but no benchmarking has been do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client side optimisation may be necessary because XML documents can be large and parsing them can be time-consu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C437-D888-4624-A420-E0397BD30C8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What’s next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724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servic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ing MetaAPI in new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uidance of users, client side tools, formatting layers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ilding connections to commercial software pack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ta management decis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option of commo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ew user interfaces on top of MetaAPI, Metadata Por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ternal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114800" y="5181480"/>
            <a:ext cx="1968480" cy="10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03EAC-402C-4855-9AB6-2F8F12837B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tatistics Finland’s metadata syste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929628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7C1DB-4DC4-4A55-BC4C-5744BBC49F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lassification database (main menu screen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657600" y="2209680"/>
          <a:ext cx="54864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209680"/>
                    <a:ext cx="54864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838080" y="2286720"/>
            <a:ext cx="182880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3124440"/>
            <a:ext cx="213372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rrespondence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191480"/>
            <a:ext cx="21337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4953600"/>
            <a:ext cx="21337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ey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505320"/>
            <a:ext cx="1447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971800" y="39625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971800" y="4190760"/>
            <a:ext cx="1447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666880"/>
            <a:ext cx="1752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D039-54EE-47AF-A207-410F30FFA5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8380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lassification scree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133720" y="1295280"/>
          <a:ext cx="42670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95280"/>
                    <a:ext cx="42670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181480" y="1752480"/>
          <a:ext cx="4421160" cy="455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752480"/>
                    <a:ext cx="442116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62120" y="2200680"/>
            <a:ext cx="12189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962800"/>
            <a:ext cx="13716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03480" y="3611520"/>
            <a:ext cx="777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705840"/>
            <a:ext cx="13716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057400" y="28195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057400" y="1904760"/>
            <a:ext cx="26668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1143360"/>
            <a:ext cx="25146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etadata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7467120" y="15238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FC095-6EAC-460F-8EBE-795ACA3318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lassification versions in the datab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2362320"/>
          <a:ext cx="411480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41148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029200" y="2362320"/>
          <a:ext cx="4038480" cy="39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362320"/>
                    <a:ext cx="40384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762120" y="1524600"/>
            <a:ext cx="40384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1524600"/>
            <a:ext cx="38862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ext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58A6B-A539-4350-BDE2-8093AF3F8A2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blems with the present metadata syste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r interfaces are somewhat out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chnical and statistical metadata are interming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is no direct data connection to several file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xt descriptions are not sufficiently structured and the description power of plain text is not adequate for mathematical formulas, figures, highlighting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aining in application development does not yet have any practical connection to metadata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3DE6-1266-48AC-8127-59E86FA63D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8381880" y="685800"/>
            <a:ext cx="1219320" cy="1216080"/>
            <a:chOff x="8381880" y="685800"/>
            <a:chExt cx="1219320" cy="1216080"/>
          </a:xfrm>
        </p:grpSpPr>
        <p:graphicFrame>
          <p:nvGraphicFramePr>
            <p:cNvPr id="126" name=""/>
            <p:cNvGraphicFramePr/>
            <p:nvPr/>
          </p:nvGraphicFramePr>
          <p:xfrm>
            <a:off x="8460000" y="763920"/>
            <a:ext cx="1099080" cy="109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460000" y="763920"/>
                      <a:ext cx="1099080" cy="109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8381880" y="685800"/>
              <a:ext cx="1216800" cy="1216080"/>
            </a:xfrm>
            <a:prstGeom prst="donut">
              <a:avLst>
                <a:gd name="adj" fmla="val 7861"/>
              </a:avLst>
            </a:prstGeom>
            <a:solidFill>
              <a:srgbClr val="ffc5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 rot="5683800">
              <a:off x="8555400" y="675360"/>
              <a:ext cx="882720" cy="101952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Circle">
                <a:avLst>
                  <a:gd name="adj" fmla="val 64230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000000"/>
                  </a:solidFill>
                  <a:latin typeface="Tahoma"/>
                </a:rPr>
                <a:t>TUOTANTOMALLIPROJEKTI 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Tahoma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83400">
              <a:off x="8029440" y="1305000"/>
              <a:ext cx="632880" cy="267480"/>
            </a:xfrm>
            <a:prstGeom prst="rect">
              <a:avLst/>
            </a:prstGeom>
          </p:spPr>
          <p:txBody>
            <a:bodyPr wrap="none" fromWordArt="1" lIns="90000" rIns="90000" tIns="46800" bIns="46800" anchor="ctr">
              <a:prstTxWarp prst="textArchDown">
                <a:avLst>
                  <a:gd name="adj" fmla="val 117979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Tahoma"/>
                </a:rPr>
                <a:t>TILASTOKESKUS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Tahoma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3"/>
            <a:srcRect l="0" t="0" r="80206" b="0"/>
            <a:stretch/>
          </p:blipFill>
          <p:spPr>
            <a:xfrm>
              <a:off x="9502920" y="1234800"/>
              <a:ext cx="98280" cy="1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"/>
            <a:srcRect l="0" t="0" r="80206" b="0"/>
            <a:stretch/>
          </p:blipFill>
          <p:spPr>
            <a:xfrm>
              <a:off x="8384040" y="1234800"/>
              <a:ext cx="97920" cy="1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6515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duction model projec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601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8200" indent="-1782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roves the production processes in our off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8200" indent="-1782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vers collecting, storing, processing and dissemina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8200" indent="-1782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tilises modern technologies, tools and IT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176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ta warehousing, software architectures, XML, web services, application development tools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8200" indent="-1782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fferent kinds of metadata is needed in all phases of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176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had no time (or knowledge) to find the perfect and final metadata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176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had no time to rewrite everything we already h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176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flexible, software independent solution with added change tolerance was needed to start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F2432-145C-4990-B8EA-5370C43F04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etaAPI structu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280" y="1600200"/>
          <a:ext cx="960120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96012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8600" y="6037560"/>
            <a:ext cx="624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ahoma"/>
              </a:rPr>
              <a:t>MetaAPI = Metadata Application Programming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C84F9-6AD6-4357-8080-AED922F2C2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etaAPI servi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8200" indent="-1782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t the moment we have some basic classification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176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 getting codes, labels, definitions, key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176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d only, internal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8200" indent="-1782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asic services to produce large result sets concerning a single metadata object (e.g. one classification, statistical concept or survey data with all metadata concerning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176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chemas for the structure of objects are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176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 these few services we can access all stored meta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8200" indent="-1782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ecial services for more specialised common tasks (e.g. getting a label for a single co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176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ing “sub schemas” of the ab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3246E-C5E3-44E8-A956-EA62C7E842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08:43:54Z</dcterms:created>
  <dc:creator>Mikko Mäkinen</dc:creator>
  <dc:description/>
  <dc:language>en-US</dc:language>
  <cp:lastModifiedBy>Mikko Mäkinen</cp:lastModifiedBy>
  <cp:lastPrinted>2004-02-04T10:19:01Z</cp:lastPrinted>
  <dcterms:modified xsi:type="dcterms:W3CDTF">2004-02-04T10:29:55Z</dcterms:modified>
  <cp:revision>59</cp:revision>
  <dc:subject/>
  <dc:title>Joint UNECE/Eurostat/OECD work session on statistical metadata (METIS) Geneva, 9-11 February 2004,    Topic (ii): Metadata interch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01424121</vt:r8>
  </property>
  <property fmtid="{D5CDD505-2E9C-101B-9397-08002B2CF9AE}" pid="3" name="_AuthorEmail">
    <vt:lpwstr>Marco.Pellegrino@cec.eu.int</vt:lpwstr>
  </property>
  <property fmtid="{D5CDD505-2E9C-101B-9397-08002B2CF9AE}" pid="4" name="_AuthorEmailDisplayName">
    <vt:lpwstr>PELLEGRINO Marco (ESTAT)</vt:lpwstr>
  </property>
  <property fmtid="{D5CDD505-2E9C-101B-9397-08002B2CF9AE}" pid="5" name="_EmailSubject">
    <vt:lpwstr>METIS - slides for WP7, WP26, WP6</vt:lpwstr>
  </property>
</Properties>
</file>