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wmf" ContentType="image/x-wmf"/>
  <Override PartName="/ppt/media/image3.jpeg" ContentType="image/jpe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8219-08D3-4228-9114-8388D439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F795-DA30-4155-8214-9D90E8C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E3BC-6D64-4EF7-9326-6668D65D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1A94-C503-41C0-B226-598250CC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B18A-BDCD-492A-BE07-98E8799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3B14-B4F2-4824-91BD-C3264F9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E894-BEF5-4D44-A972-8B4B7D95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B84D-39C4-4DC8-8FCF-F2F9D5DD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6EA0-3388-4F73-9B88-6468EC63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6920-89C1-4ECF-B26B-C9D33E1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4970-DDCB-4D18-8EB4-4A6248A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2474-1709-4032-8C75-C9ED2F0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020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kulma_o_yp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" name="logo_engl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86240" y="63241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86440" y="6324120"/>
            <a:ext cx="552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0A25-9C51-409F-8066-AE11FC7C66E5}" type="slidenum">
              <a:rPr b="0" lang="fi-FI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80988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3434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ulma_o_yp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9" name="logo_engl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5564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13184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21000" algn="ctr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Joint UNECE/Eurostat/OECD work session on statistical metadata (METIS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va, 9-11 February 2004, Topic (ii): Metadata interchange / WP.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MetaAPI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mproving the usability of existing metadata systems by application programming interfa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ervices in the fu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9068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classification services (including correspondence tabl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p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for the metadata of 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to create and maintain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ces for mixed tasks (e.g. producing metadata rich publication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rnal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84320">
              <a:lnSpc>
                <a:spcPct val="100000"/>
              </a:lnSpc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BEBF-A722-41F0-9F5A-85FCD32343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3753000" cy="443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953240" cy="4573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 does it work, what the user se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 from our testing site: Getting classification codes and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733920"/>
            <a:ext cx="1523880" cy="1600200"/>
          </a:xfrm>
          <a:prstGeom prst="rightArrow">
            <a:avLst>
              <a:gd name="adj1" fmla="val 46722"/>
              <a:gd name="adj2" fmla="val 32968"/>
            </a:avLst>
          </a:prstGeom>
          <a:solidFill>
            <a:srgbClr val="f2ef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s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DF91-B1E5-4D95-9612-40CBBC722B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225432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How does it work, what really happe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spcAft>
                <a:spcPts val="499"/>
              </a:spcAft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tting classification codes and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4495680"/>
            <a:ext cx="1676160" cy="609840"/>
          </a:xfrm>
          <a:prstGeom prst="rect">
            <a:avLst/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6520" y="1828800"/>
            <a:ext cx="1584360" cy="44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Meta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1295280"/>
            <a:ext cx="15843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asy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6520" y="2624040"/>
            <a:ext cx="158436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TK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oncept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3505320"/>
            <a:ext cx="1584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UFile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486400"/>
            <a:ext cx="863640" cy="792000"/>
          </a:xfrm>
          <a:prstGeom prst="can">
            <a:avLst>
              <a:gd name="adj" fmla="val 25000"/>
            </a:avLst>
          </a:prstGeom>
          <a:solidFill>
            <a:srgbClr val="6bc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U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38280" y="2133720"/>
            <a:ext cx="365760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58800" y="5637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15400" y="4190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057400"/>
            <a:ext cx="33526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17672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SOAP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93084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SOAP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2567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038480"/>
            <a:ext cx="1219320" cy="609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866920" y="480060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3048120"/>
            <a:ext cx="11430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510552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943240" y="41148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15000" y="32000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86600" y="22096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1741320"/>
            <a:ext cx="2514600" cy="232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153280" y="1066680"/>
            <a:ext cx="1305000" cy="17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E9F4-BB0C-4C55-87FB-A6F45FDD1E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7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 web service components (public interf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 binary components (internal interfa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base and MS SQL Server databases to store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0000" indent="-1800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NET, PowerBuilder, SAS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ML based systems in dissemin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7920" indent="-1785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ything (with support of using web ser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63224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0EB3-4739-401F-A820-AC843F69E8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922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w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ve the possibility to adopt new standards and common tools in the future without changing every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olate the effects of system changes to a know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is wh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should not allow direct connections to metadata systems and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9440" indent="-1821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metadata business should take place through Meta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-1836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ever, the uncertainty of the remaining lifetime of the present systems has slightly slowed down the speed of creating new services into Meta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7909-63CB-4F60-ADD9-C367533C5A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371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: all background systems are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057400"/>
          <a:ext cx="92966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92966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C679-4E12-48E8-856A-ECFE580FE8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42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xperiences so f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aAPI has now been used in one real production system and in some test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eriences have been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services are easy to use with modern application development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ML skills are needed after receiving the result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ed techniques seems to be efficient (but no benchmarking has been d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client side optimisation may be necessary because XML documents can be large and parsing them can be time-consu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EE6D-3BF0-4692-9FED-1EAE9CACA3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hat’s nex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724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MetaAPI in new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uidance of users, client side tools, formatting layer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ilding connections to commercial software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management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option of commo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user interfaces on top of MetaAPI, Metadata Por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1968480" cy="10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B471-C948-47AC-A4BD-51B7F11E3D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tatistics Finland’s metadata syst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9296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0839-009B-478C-A82B-CECD5FE273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database (main menu scree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657600" y="2209680"/>
          <a:ext cx="5486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09680"/>
                    <a:ext cx="5486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838080" y="2286720"/>
            <a:ext cx="182880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124440"/>
            <a:ext cx="213372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spondenc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191480"/>
            <a:ext cx="2133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53600"/>
            <a:ext cx="21337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5053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39625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419076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66688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86CE-3D24-4BAB-85A2-4A5E68D5C2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8380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scre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295280"/>
          <a:ext cx="4267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95280"/>
                    <a:ext cx="4267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81480" y="1752480"/>
          <a:ext cx="4421160" cy="455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752480"/>
                    <a:ext cx="44211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120" y="2200680"/>
            <a:ext cx="12189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962800"/>
            <a:ext cx="1371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03480" y="3611520"/>
            <a:ext cx="77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705840"/>
            <a:ext cx="1371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7400" y="2819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57400" y="190476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1143360"/>
            <a:ext cx="25146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adata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467120" y="15238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3677-8C93-45EC-AB0F-B8A8A47E06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lassification versions in the datab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362320"/>
          <a:ext cx="4114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4114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029200" y="2362320"/>
          <a:ext cx="403848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362320"/>
                    <a:ext cx="40384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2120" y="1524600"/>
            <a:ext cx="40384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524600"/>
            <a:ext cx="38862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xt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A0F6-0796-4415-B629-77BEF3BE68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blems with the present metadata syst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 interfaces are somewhat out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ical and statistical metadata are interming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is no direct data connection to several file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xt descriptions are not sufficiently structured and the description power of plain text is not adequate for mathematical formulas, figures, highlight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ining in application development does not yet have any practical connection to metadat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463B-7DB2-4754-AAC1-53E8BAA534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8381880" y="685800"/>
            <a:ext cx="1219320" cy="1216080"/>
            <a:chOff x="8381880" y="685800"/>
            <a:chExt cx="1219320" cy="1216080"/>
          </a:xfrm>
        </p:grpSpPr>
        <p:graphicFrame>
          <p:nvGraphicFramePr>
            <p:cNvPr id="126" name=""/>
            <p:cNvGraphicFramePr/>
            <p:nvPr/>
          </p:nvGraphicFramePr>
          <p:xfrm>
            <a:off x="8460000" y="763920"/>
            <a:ext cx="1099080" cy="109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60000" y="763920"/>
                      <a:ext cx="1099080" cy="10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8381880" y="685800"/>
              <a:ext cx="1216800" cy="1216080"/>
            </a:xfrm>
            <a:prstGeom prst="donut">
              <a:avLst>
                <a:gd name="adj" fmla="val 7861"/>
              </a:avLst>
            </a:prstGeom>
            <a:solidFill>
              <a:srgbClr val="ffc5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 rot="5683800">
              <a:off x="8555400" y="675360"/>
              <a:ext cx="882720" cy="10195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Circle">
                <a:avLst>
                  <a:gd name="adj" fmla="val 64230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Tahoma"/>
                </a:rPr>
                <a:t>TUOTANTOMALLIPROJEKTI 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Tahoma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83400">
              <a:off x="8029440" y="1305000"/>
              <a:ext cx="632880" cy="267480"/>
            </a:xfrm>
            <a:prstGeom prst="rect">
              <a:avLst/>
            </a:prstGeom>
          </p:spPr>
          <p:txBody>
            <a:bodyPr wrap="none" fromWordArt="1" lIns="90000" rIns="90000" tIns="46800" bIns="46800" anchor="ctr">
              <a:prstTxWarp prst="textArchDown">
                <a:avLst>
                  <a:gd name="adj" fmla="val 117979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Tahoma"/>
                </a:rPr>
                <a:t>TILASTOKESKUS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Tahoma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rcRect l="0" t="0" r="80206" b="0"/>
            <a:stretch/>
          </p:blipFill>
          <p:spPr>
            <a:xfrm>
              <a:off x="9502920" y="1234800"/>
              <a:ext cx="9828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"/>
            <a:srcRect l="0" t="0" r="80206" b="0"/>
            <a:stretch/>
          </p:blipFill>
          <p:spPr>
            <a:xfrm>
              <a:off x="8384040" y="1234800"/>
              <a:ext cx="97920" cy="1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515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duction model projec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60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roves the production processes in our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vers collecting, storing, processing and dissemina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es modern technologies, tools and I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warehousing, software architectures, XML, web services, application development tools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fferent kinds of metadata is needed in all phases of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d no time (or knowledge) to find the perfect and final metadata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d no time to rewrite everything we already h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flexible, software independent solution with added change tolerance was needed to start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9CC5-35B6-4A45-BE96-B0B86B0B3D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tru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1600200"/>
          <a:ext cx="96012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9601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8600" y="603756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MetaAPI = Metadata Application Programming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FAB5-2C6A-4212-BAB8-2A397D6C17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etaAPI servi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 the moment we have some basic classific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getting codes, labels, definitions, key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d only, internal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ic services to produce large result sets concerning a single metadata object (e.g. one classification, statistical concept or survey data with all metadata concerning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hemas for the structure of objec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 these few services we can access all stored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8200" indent="-17820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 services for more specialised common tasks (e.g. getting a label for a single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176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“sub schemas” of the ab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kko Mäkinen &amp; Saija Ylö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1212-2A21-4995-8E0F-39CF0B6106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8:43:54Z</dcterms:created>
  <dc:creator>Mikko Mäkinen</dc:creator>
  <dc:description/>
  <dc:language>en-US</dc:language>
  <cp:lastModifiedBy>Mikko Mäkinen</cp:lastModifiedBy>
  <cp:lastPrinted>2004-02-04T10:19:01Z</cp:lastPrinted>
  <dcterms:modified xsi:type="dcterms:W3CDTF">2004-02-04T10:29:55Z</dcterms:modified>
  <cp:revision>59</cp:revision>
  <dc:subject/>
  <dc:title>Joint UNECE/Eurostat/OECD work session on statistical metadata (METIS) Geneva, 9-11 February 2004,    Topic (ii): Metadata inter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424121</vt:r8>
  </property>
  <property fmtid="{D5CDD505-2E9C-101B-9397-08002B2CF9AE}" pid="3" name="_AuthorEmail">
    <vt:lpwstr>Marco.Pellegrino@cec.eu.int</vt:lpwstr>
  </property>
  <property fmtid="{D5CDD505-2E9C-101B-9397-08002B2CF9AE}" pid="4" name="_AuthorEmailDisplayName">
    <vt:lpwstr>PELLEGRINO Marco (ESTAT)</vt:lpwstr>
  </property>
  <property fmtid="{D5CDD505-2E9C-101B-9397-08002B2CF9AE}" pid="5" name="_EmailSubject">
    <vt:lpwstr>METIS - slides for WP7, WP26, WP6</vt:lpwstr>
  </property>
</Properties>
</file>