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4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112FA7B-45FA-4C82-BA89-4FC2BAF5836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4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o conclude I can say that we have implemented a strong back-end Client-Server solution with reusable business logic stored entirely on the database s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object-oriented technology provides flexibility and adaption to incorporate new components to the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intranet deployment is rendered secure and easy through the use of an appl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chnology used is leading-edge and very challenging.  It will definitely make future development more flex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4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fore I continue with a demonstration of the Input screens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4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fore I continue with a demonstration of the Input screens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4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MDB data modelling and a technical implementation perspec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4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MDB data modelling and a technical implementation perspec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4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tainfo is used to evaluate and understand data.It is information about the business processes that create the da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tadata is the  description of the data. It is used to facilitate access to data and to support data sharing across systems and organis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ldImg"/>
          </p:nvPr>
        </p:nvSpPr>
        <p:spPr>
          <a:xfrm>
            <a:off x="995400" y="534960"/>
            <a:ext cx="4648320" cy="3486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4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DDS from Standards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IDAS from Data Access and Control Services. This system is responsible for the archival of clean statistical data files. (Also known as confidential master files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ldImg"/>
          </p:nvPr>
        </p:nvSpPr>
        <p:spPr>
          <a:xfrm>
            <a:off x="995400" y="534960"/>
            <a:ext cx="4648320" cy="3486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4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 addition to the archival function of MIDAS it is also a facility 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IMDB will provide a snapshot of the business activity at any survey inst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initial content for the data elements will be the output data elements, the elements on CANSI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ldImg"/>
          </p:nvPr>
        </p:nvSpPr>
        <p:spPr>
          <a:xfrm>
            <a:off x="995400" y="534960"/>
            <a:ext cx="4648320" cy="34862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AAEF-91A6-4C01-9010-D697514A0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7836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15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3948480"/>
            <a:ext cx="815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6950-FC8C-47A6-B808-9107AC73C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7836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9787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1680" y="1600200"/>
            <a:ext cx="39787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948480"/>
            <a:ext cx="39787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1680" y="3948480"/>
            <a:ext cx="39787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C0CE-9378-4E4A-8069-39CA8DBC7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7836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0400" y="160020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60020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394848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0400" y="394848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394848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D2A3-6284-4892-BB54-E73111ED0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37DBD-E4A9-4729-873F-D641B76A6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7836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72B0F-4901-4AED-9A02-EE3845821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7836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B4037-CEB6-4F2A-ACC4-BD76CE950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7836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97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1680" y="1600200"/>
            <a:ext cx="397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4D5D5-85D9-468F-99A4-029D13637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7836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5E9D2-3D81-487E-A243-DC79C64F7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45684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5BD72-0684-415E-8E4C-9D4710068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7836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9787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1680" y="1600200"/>
            <a:ext cx="397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3520" y="3948480"/>
            <a:ext cx="39787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93D2F-6C04-47DD-82EC-C2785E833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7836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A430-7495-4D02-937B-E3A82D183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7836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97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1680" y="1600200"/>
            <a:ext cx="39787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11680" y="3948480"/>
            <a:ext cx="39787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B552A-A779-4E91-B145-7BA7F54BD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7836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9787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11680" y="1600200"/>
            <a:ext cx="39787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33520" y="3948480"/>
            <a:ext cx="815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E6604-DBBE-40FE-9C32-E30936250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7836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15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3520" y="3948480"/>
            <a:ext cx="815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5FB44-24F0-442B-AA09-A34C555BA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7836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9787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1680" y="1600200"/>
            <a:ext cx="39787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33520" y="3948480"/>
            <a:ext cx="39787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11680" y="3948480"/>
            <a:ext cx="39787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9BDEB-5AF3-4DE8-A0CC-8F0B63BF8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7836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90400" y="160020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46920" y="160020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33520" y="394848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90400" y="394848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46920" y="394848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93E01-4DA1-4A67-85D7-92347C793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7836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A9CA-5E8D-430E-AE30-15D3C15FB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7836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97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1680" y="1600200"/>
            <a:ext cx="397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AE3A-1749-4E41-80A9-C1F020EC4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7836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F632-273E-4957-AEAE-29D8EA37F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45684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A2A9-213C-44E6-A21D-F9BC3DA1C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7836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9787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1680" y="1600200"/>
            <a:ext cx="397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3948480"/>
            <a:ext cx="39787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DA88-9537-46E8-93B3-E45A90976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7836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97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1680" y="1600200"/>
            <a:ext cx="39787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1680" y="3948480"/>
            <a:ext cx="39787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7A53-9659-4742-975C-DDCC33C21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7836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9787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1680" y="1600200"/>
            <a:ext cx="39787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3948480"/>
            <a:ext cx="815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C0DB-8A1F-40A1-9124-58433841D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119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1199"/>
              </a:spcBef>
              <a:buClr>
                <a:srgbClr val="cc99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600200" indent="-228600">
              <a:spcBef>
                <a:spcPts val="1199"/>
              </a:spcBef>
              <a:buClr>
                <a:srgbClr val="cc99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57400" indent="-228600">
              <a:spcBef>
                <a:spcPts val="1199"/>
              </a:spcBef>
              <a:buClr>
                <a:srgbClr val="ccffcc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57400" indent="-228600">
              <a:spcBef>
                <a:spcPts val="11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57400" indent="-228600">
              <a:spcBef>
                <a:spcPts val="11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B33B9-513B-4A88-822B-BBB5F02CFE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219320"/>
            <a:ext cx="3343320" cy="46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5EBEE-E08C-4E7F-9B1C-D750FB07A5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543480"/>
            <a:ext cx="3343320" cy="45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99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cc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19051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ffff"/>
                </a:solidFill>
                <a:latin typeface="Tahoma"/>
              </a:rPr>
              <a:t>Use of Standardized Metadata to Find, Select and Access Statistical Data</a:t>
            </a:r>
            <a:br>
              <a:rPr sz="4400"/>
            </a:br>
            <a:r>
              <a:rPr b="0" lang="en-GB" sz="4400" spc="-1" strike="noStrike">
                <a:solidFill>
                  <a:srgbClr val="ccffff"/>
                </a:solidFill>
                <a:latin typeface="Tahoma"/>
              </a:rPr>
              <a:t>- </a:t>
            </a:r>
            <a:r>
              <a:rPr b="0" lang="en-GB" sz="4000" spc="-1" strike="noStrike">
                <a:solidFill>
                  <a:srgbClr val="ccffff"/>
                </a:solidFill>
                <a:latin typeface="Tahoma"/>
              </a:rPr>
              <a:t>Experience of Statistics Canada -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340000" y="4076640"/>
            <a:ext cx="640872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Joint UNECE/Eurostat/OECD 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Work Session on Statistical Metadata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(METIS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Geneva, February 9-11, 2004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indent="0" algn="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206360" y="404640"/>
          <a:ext cx="6732720" cy="604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06360" y="404640"/>
                    <a:ext cx="6732720" cy="604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919080" y="476280"/>
          <a:ext cx="7307280" cy="5905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9080" y="476280"/>
                    <a:ext cx="7307280" cy="59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1278000" y="404640"/>
          <a:ext cx="6589800" cy="604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78000" y="404640"/>
                    <a:ext cx="6589800" cy="604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1523880" y="404640"/>
          <a:ext cx="6096240" cy="604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404640"/>
                    <a:ext cx="6096240" cy="604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901800" y="404640"/>
          <a:ext cx="7342200" cy="5977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01800" y="404640"/>
                    <a:ext cx="7342200" cy="59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ffff"/>
                </a:solidFill>
                <a:latin typeface="Tahoma"/>
              </a:rPr>
              <a:t>Naming and defining variab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1773360"/>
            <a:ext cx="82296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ffff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ahoma"/>
              </a:rPr>
              <a:t>Variable = Statistical unit + property + representation </a:t>
            </a:r>
            <a:r>
              <a:rPr b="0" lang="en-GB" sz="2800" spc="-1" strike="noStrike">
                <a:solidFill>
                  <a:srgbClr val="ffffcc"/>
                </a:solidFill>
                <a:latin typeface="Tahoma"/>
              </a:rPr>
              <a:t>(as per ISO 11179 model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ffff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ahoma"/>
              </a:rPr>
              <a:t>Statistical unit is agent, event or item about which data are produced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ffff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ahoma"/>
              </a:rPr>
              <a:t>Property is characteristic of statistical unit being measure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ffff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ahoma"/>
              </a:rPr>
              <a:t>Representation is form given to resulting data, e.g. Name, Index, Type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ffff"/>
                </a:solidFill>
                <a:latin typeface="Tahoma"/>
              </a:rPr>
              <a:t>… </a:t>
            </a:r>
            <a:r>
              <a:rPr b="0" i="1" lang="en-US" sz="4400" spc="-1" strike="noStrike">
                <a:solidFill>
                  <a:srgbClr val="ccffff"/>
                </a:solidFill>
                <a:latin typeface="Tahoma"/>
              </a:rPr>
              <a:t>Naming and defining variab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915920"/>
            <a:ext cx="81532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99"/>
              </a:spcBef>
              <a:buClr>
                <a:srgbClr val="ffff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ecff"/>
                </a:solidFill>
                <a:latin typeface="Tahoma"/>
              </a:rPr>
              <a:t>Naming convention: all three elements used to create name of varia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ecff"/>
                </a:solidFill>
                <a:latin typeface="Tahoma"/>
              </a:rPr>
              <a:t>   </a:t>
            </a:r>
            <a:r>
              <a:rPr b="0" lang="en-GB" sz="3200" spc="-1" strike="noStrike">
                <a:solidFill>
                  <a:srgbClr val="ccecff"/>
                </a:solidFill>
                <a:latin typeface="Tahoma"/>
              </a:rPr>
              <a:t>- Value of Sales of Establishmen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ccecff"/>
                </a:solidFill>
                <a:latin typeface="Tahoma"/>
              </a:rPr>
              <a:t>- Type of Assets of Establishmen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ccecff"/>
                </a:solidFill>
                <a:latin typeface="Tahoma"/>
              </a:rPr>
              <a:t>- Name of Geographic location of Pers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ccecff"/>
                </a:solidFill>
                <a:latin typeface="Tahoma"/>
              </a:rPr>
              <a:t>- Type of Occupation of Pers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ccecff"/>
                </a:solidFill>
                <a:latin typeface="Tahoma"/>
              </a:rPr>
              <a:t>- Value of GDP of Econom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ffff"/>
                </a:solidFill>
                <a:latin typeface="Tahoma"/>
              </a:rPr>
              <a:t>… </a:t>
            </a:r>
            <a:r>
              <a:rPr b="0" i="1" lang="en-US" sz="4400" spc="-1" strike="noStrike">
                <a:solidFill>
                  <a:srgbClr val="ccffff"/>
                </a:solidFill>
                <a:latin typeface="Tahoma"/>
              </a:rPr>
              <a:t>Naming and defining variab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1915920"/>
            <a:ext cx="81532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199"/>
              </a:spcBef>
              <a:buClr>
                <a:srgbClr val="ffff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ecff"/>
                </a:solidFill>
                <a:latin typeface="Tahoma"/>
              </a:rPr>
              <a:t>Definition of variable provided by joined definitions of its 3 components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ecff"/>
                </a:solidFill>
                <a:latin typeface="Tahoma"/>
              </a:rPr>
              <a:t>   </a:t>
            </a:r>
            <a:r>
              <a:rPr b="0" lang="en-GB" sz="3200" spc="-1" strike="noStrike">
                <a:solidFill>
                  <a:srgbClr val="ccecff"/>
                </a:solidFill>
                <a:latin typeface="Tahoma"/>
              </a:rPr>
              <a:t>+  specification of associated </a:t>
            </a:r>
            <a:r>
              <a:rPr b="0" lang="en-GB" sz="32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ccecff"/>
                </a:solidFill>
                <a:latin typeface="Tahoma"/>
              </a:rPr>
              <a:t>classification</a:t>
            </a:r>
            <a:r>
              <a:rPr b="0" i="1" lang="en-GB" sz="3200" spc="-1" strike="noStrike" u="sng">
                <a:solidFill>
                  <a:srgbClr val="ccecff"/>
                </a:solidFill>
                <a:uFillTx/>
                <a:latin typeface="Tahoma"/>
              </a:rPr>
              <a:t>s</a:t>
            </a:r>
            <a:r>
              <a:rPr b="0" lang="en-GB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ccecff"/>
                </a:solidFill>
                <a:latin typeface="Tahoma"/>
              </a:rPr>
              <a:t>(or unit</a:t>
            </a:r>
            <a:r>
              <a:rPr b="0" i="1" lang="en-GB" sz="2800" spc="-1" strike="noStrike" u="sng">
                <a:solidFill>
                  <a:srgbClr val="ccecff"/>
                </a:solidFill>
                <a:uFillTx/>
                <a:latin typeface="Tahoma"/>
              </a:rPr>
              <a:t>s</a:t>
            </a:r>
            <a:r>
              <a:rPr b="0" lang="en-GB" sz="2800" spc="-1" strike="noStrike">
                <a:solidFill>
                  <a:srgbClr val="ccecff"/>
                </a:solidFill>
                <a:latin typeface="Tahoma"/>
              </a:rPr>
              <a:t> of measure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ecff"/>
                </a:solidFill>
                <a:latin typeface="Tahoma"/>
              </a:rPr>
              <a:t>Note about Variable – Classification relationship: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1049"/>
              </a:spcBef>
              <a:buClr>
                <a:srgbClr val="ffffcc"/>
              </a:buClr>
              <a:buSzPct val="7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ecff"/>
                </a:solidFill>
                <a:latin typeface="Tahoma"/>
              </a:rPr>
              <a:t>ISO 11179: one-to-one relationship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1049"/>
              </a:spcBef>
              <a:buClr>
                <a:srgbClr val="ffffcc"/>
              </a:buClr>
              <a:buSzPct val="7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ecff"/>
                </a:solidFill>
                <a:latin typeface="Tahoma"/>
              </a:rPr>
              <a:t>IMDB: one-to-many, but one-to-one between classification and variable in one CANSIM table 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Finding variable &amp; accessing dat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ffff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rowsing the list of 800 variables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By variable topic (20) and sub-topic (156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By statistical unit (75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By classification domain (20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ffff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arch engine to scan the list of: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ecff"/>
                </a:solidFill>
                <a:latin typeface="Tahoma"/>
              </a:rPr>
              <a:t>variable names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 in IMDB and return the ones containing the word entered or its thesaurus equivalent; or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ecff"/>
                </a:solidFill>
                <a:latin typeface="Tahoma"/>
              </a:rPr>
              <a:t>class names/codes 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within classifications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, 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arch the word entered or its thesaurus equivalent,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and return the variables and CANSIM table numbers associated with the matching code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mplementation schedu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560" y="1915920"/>
            <a:ext cx="8893080" cy="45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ff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Winter 2004: loading variables and classifications in IMDB, implementing Browsing mechanism and  “time travel”, finalizing re-design of web page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ffff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pring 2004: display new pages with new features on Intranet to obtain feedback from survey manager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ffff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Fall 2004: display on Internet 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ffff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Winter 2005: Implementation of Search mechanism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Objective of Presenta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153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ccecff"/>
                </a:solidFill>
                <a:latin typeface="Tahoma"/>
              </a:rPr>
              <a:t>Answer the question: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ccecff"/>
                </a:solidFill>
                <a:latin typeface="Tahoma"/>
              </a:rPr>
              <a:t>“</a:t>
            </a:r>
            <a:r>
              <a:rPr b="0" i="1" lang="en-GB" sz="3200" spc="-1" strike="noStrike">
                <a:solidFill>
                  <a:srgbClr val="ccecff"/>
                </a:solidFill>
                <a:latin typeface="Tahoma"/>
              </a:rPr>
              <a:t>How can the corporate Metadatabase (IMDB) of Statistics Canada help users  find, select and access statistical data held in its on-line database (CANSIM)?”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ntents of Presenta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153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ff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ecff"/>
                </a:solidFill>
                <a:latin typeface="Tahoma"/>
              </a:rPr>
              <a:t>What is CANSIM?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ff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ecff"/>
                </a:solidFill>
                <a:latin typeface="Tahoma"/>
              </a:rPr>
              <a:t>What is the IMDB?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ff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ecff"/>
                </a:solidFill>
                <a:latin typeface="Tahoma"/>
              </a:rPr>
              <a:t>Accessing CANSIM data from IMDB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ccecff"/>
                </a:solidFill>
                <a:latin typeface="Tahoma"/>
              </a:rPr>
              <a:t>Demonstration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ccecff"/>
                </a:solidFill>
                <a:latin typeface="Tahoma"/>
              </a:rPr>
              <a:t>Naming and defining variabl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ccecff"/>
                </a:solidFill>
                <a:latin typeface="Tahoma"/>
              </a:rPr>
              <a:t>Finding variable &amp; accessing dat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ccecff"/>
                </a:solidFill>
                <a:latin typeface="Tahoma"/>
              </a:rPr>
              <a:t>Implementation schedu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ffff"/>
                </a:solidFill>
                <a:latin typeface="Tahoma"/>
              </a:rPr>
              <a:t>What is CANSIM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1989000"/>
            <a:ext cx="815328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fff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ecff"/>
                </a:solidFill>
                <a:latin typeface="Tahoma"/>
              </a:rPr>
              <a:t>Stands for:</a:t>
            </a:r>
            <a:r>
              <a:rPr b="0" lang="en-GB" sz="2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1" lang="en-GB" sz="2800" spc="-1" strike="noStrike">
                <a:solidFill>
                  <a:srgbClr val="ccecff"/>
                </a:solidFill>
                <a:latin typeface="Tahoma"/>
              </a:rPr>
              <a:t>CAN</a:t>
            </a:r>
            <a:r>
              <a:rPr b="0" lang="en-GB" sz="2800" spc="-1" strike="noStrike">
                <a:solidFill>
                  <a:srgbClr val="ccecff"/>
                </a:solidFill>
                <a:latin typeface="Tahoma"/>
              </a:rPr>
              <a:t>adian </a:t>
            </a:r>
            <a:r>
              <a:rPr b="1" lang="en-GB" sz="2800" spc="-1" strike="noStrike">
                <a:solidFill>
                  <a:srgbClr val="ccecff"/>
                </a:solidFill>
                <a:latin typeface="Tahoma"/>
              </a:rPr>
              <a:t>S</a:t>
            </a:r>
            <a:r>
              <a:rPr b="0" lang="en-GB" sz="2800" spc="-1" strike="noStrike">
                <a:solidFill>
                  <a:srgbClr val="ccecff"/>
                </a:solidFill>
                <a:latin typeface="Tahoma"/>
              </a:rPr>
              <a:t>ocio-economic </a:t>
            </a:r>
            <a:r>
              <a:rPr b="1" lang="en-GB" sz="2800" spc="-1" strike="noStrike">
                <a:solidFill>
                  <a:srgbClr val="ccecff"/>
                </a:solidFill>
                <a:latin typeface="Tahoma"/>
              </a:rPr>
              <a:t>I</a:t>
            </a:r>
            <a:r>
              <a:rPr b="0" lang="en-GB" sz="2800" spc="-1" strike="noStrike">
                <a:solidFill>
                  <a:srgbClr val="ccecff"/>
                </a:solidFill>
                <a:latin typeface="Tahoma"/>
              </a:rPr>
              <a:t>nformation </a:t>
            </a:r>
            <a:r>
              <a:rPr b="1" lang="en-GB" sz="2800" spc="-1" strike="noStrike">
                <a:solidFill>
                  <a:srgbClr val="ccecff"/>
                </a:solidFill>
                <a:latin typeface="Tahoma"/>
              </a:rPr>
              <a:t>M</a:t>
            </a:r>
            <a:r>
              <a:rPr b="0" lang="en-GB" sz="2800" spc="-1" strike="noStrike">
                <a:solidFill>
                  <a:srgbClr val="ccecff"/>
                </a:solidFill>
                <a:latin typeface="Tahoma"/>
              </a:rPr>
              <a:t>anagement system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fff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ecff"/>
                </a:solidFill>
                <a:latin typeface="Tahoma"/>
              </a:rPr>
              <a:t>Corporate data dissemination databas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fff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ecff"/>
                </a:solidFill>
                <a:latin typeface="Tahoma"/>
              </a:rPr>
              <a:t>Accessible on STC Web sit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fff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ecff"/>
                </a:solidFill>
                <a:latin typeface="Tahoma"/>
              </a:rPr>
              <a:t>1.3K tables (+ 700 “terminated”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fff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ecff"/>
                </a:solidFill>
                <a:latin typeface="Tahoma"/>
              </a:rPr>
              <a:t>18.3M time series (incl. 413K “terminated”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ccecff"/>
                </a:solidFill>
                <a:latin typeface="Tahoma"/>
              </a:rPr>
              <a:t>     </a:t>
            </a:r>
            <a:r>
              <a:rPr b="0" lang="en-GB" sz="2400" spc="-1" strike="noStrike">
                <a:solidFill>
                  <a:srgbClr val="ccecff"/>
                </a:solidFill>
                <a:latin typeface="Tahoma"/>
              </a:rPr>
              <a:t>(over 14M for “health” alone)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ecff"/>
                </a:solidFill>
                <a:latin typeface="Tahoma"/>
              </a:rPr>
              <a:t>800 variables </a:t>
            </a:r>
            <a:r>
              <a:rPr b="0" lang="en-GB" sz="2400" spc="-1" strike="noStrike">
                <a:solidFill>
                  <a:srgbClr val="ccecff"/>
                </a:solidFill>
                <a:latin typeface="Tahoma"/>
              </a:rPr>
              <a:t>(as defined in IMDB)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ffff"/>
                </a:solidFill>
                <a:latin typeface="Tahoma"/>
              </a:rPr>
              <a:t>What is the IMDB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1049"/>
              </a:spcBef>
              <a:buClr>
                <a:srgbClr val="ffff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ecff"/>
                </a:solidFill>
                <a:latin typeface="Tahoma"/>
              </a:rPr>
              <a:t>Corporate repository of information on over 350 surveys</a:t>
            </a:r>
            <a:r>
              <a:rPr b="0" lang="en-GB" sz="2800" spc="-1" strike="noStrike">
                <a:solidFill>
                  <a:srgbClr val="ccecff"/>
                </a:solidFill>
                <a:latin typeface="Tahoma"/>
              </a:rPr>
              <a:t> (+400 “discontinued”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597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ahoma"/>
            </a:endParaRPr>
          </a:p>
          <a:p>
            <a:pPr lvl="1" marL="970560" indent="-5227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Monotype Sorts" charset="2"/>
              <a:buChar char="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ecff"/>
                </a:solidFill>
                <a:latin typeface="Tahoma"/>
              </a:rPr>
              <a:t>Development began in 1999 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970560" indent="-5227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Monotype Sorts" charset="2"/>
              <a:buChar char="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ecff"/>
                </a:solidFill>
                <a:latin typeface="Tahoma"/>
              </a:rPr>
              <a:t>4 pre-existing systems integrated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970560" indent="-5227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Monotype Sorts" charset="2"/>
              <a:buChar char="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ecff"/>
                </a:solidFill>
                <a:latin typeface="Tahoma"/>
              </a:rPr>
              <a:t>Supports on-line dissemination activities: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3" marL="171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ccecff"/>
                </a:solidFill>
                <a:latin typeface="Tahoma"/>
              </a:rPr>
              <a:t>The Daily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3" marL="171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ecff"/>
                </a:solidFill>
                <a:latin typeface="Tahoma"/>
              </a:rPr>
              <a:t>CANSIM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3" marL="171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ecff"/>
                </a:solidFill>
                <a:latin typeface="Tahoma"/>
              </a:rPr>
              <a:t>On-line catalogu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3" marL="171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ecff"/>
                </a:solidFill>
                <a:latin typeface="Tahoma"/>
              </a:rPr>
              <a:t>Canadian Statistic Table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1209600" y="404640"/>
          <a:ext cx="6726240" cy="604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09600" y="404640"/>
                    <a:ext cx="6726240" cy="604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ffff"/>
                </a:solidFill>
                <a:latin typeface="Tahoma"/>
              </a:rPr>
              <a:t>What is the IMDB content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362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ff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ecff"/>
                </a:solidFill>
                <a:latin typeface="Tahoma"/>
              </a:rPr>
              <a:t>HTML pages generated from IMDB: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ecff"/>
                </a:solidFill>
                <a:latin typeface="Tahoma"/>
              </a:rPr>
              <a:t>Overview of survey (mandate, users, uses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ecff"/>
                </a:solidFill>
                <a:latin typeface="Tahoma"/>
              </a:rPr>
              <a:t>Survey population &amp; Questionnaire imag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ecff"/>
                </a:solidFill>
                <a:latin typeface="Tahoma"/>
              </a:rPr>
              <a:t>Methodology description (10 components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ecff"/>
                </a:solidFill>
                <a:latin typeface="Tahoma"/>
              </a:rPr>
              <a:t>Data accuracy measure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ff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ecff"/>
                </a:solidFill>
                <a:latin typeface="Tahoma"/>
              </a:rPr>
              <a:t>In the Fall of 2004: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ecff"/>
                </a:solidFill>
                <a:latin typeface="Tahoma"/>
              </a:rPr>
              <a:t>Variable names and definition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ecff"/>
                </a:solidFill>
                <a:latin typeface="Tahoma"/>
              </a:rPr>
              <a:t>Link to classifications &amp; CANSIM table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ecff"/>
                </a:solidFill>
                <a:latin typeface="Tahoma"/>
              </a:rPr>
              <a:t>“</a:t>
            </a:r>
            <a:r>
              <a:rPr b="0" lang="en-GB" sz="2800" spc="-1" strike="noStrike">
                <a:solidFill>
                  <a:srgbClr val="ccecff"/>
                </a:solidFill>
                <a:latin typeface="Tahoma"/>
              </a:rPr>
              <a:t>Time Travel” from November 2000 o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187280" y="333360"/>
            <a:ext cx="6669360" cy="620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892080" y="333360"/>
          <a:ext cx="7361280" cy="6191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92080" y="333360"/>
                    <a:ext cx="7361280" cy="619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7T13:23:15Z</dcterms:created>
  <dc:creator>Statistics Canada</dc:creator>
  <dc:description/>
  <dc:language>en-US</dc:language>
  <cp:lastModifiedBy>bellpie</cp:lastModifiedBy>
  <cp:lastPrinted>2000-11-20T23:44:10Z</cp:lastPrinted>
  <dcterms:modified xsi:type="dcterms:W3CDTF">2004-01-30T20:06:26Z</dcterms:modified>
  <cp:revision>364</cp:revision>
  <dc:subject/>
  <dc:title>IMDB </dc:title>
</cp:coreProperties>
</file>