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36C146-828D-4EA5-AB46-9051F012D9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conclude I can say that we have implemented a strong back-end Client-Server solution with reusable business logic stored entirely on the database 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object-oriented technology provides flexibility and adaption to incorporate new components to th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ntranet deployment is rendered secure and easy through the use of an appl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chnology used is leading-edge and very challenging.  It will definitely make future development more flex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fore I continue with a demonstration of the Input screen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fore I continue with a demonstration of the Input screen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DB data modelling and a technical implementation perspe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DB data modelling and a technical implementation perspe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tainfo is used to evaluate and understand data.It is information about the business processes that create the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tadata is the  description of the data. It is used to facilitate access to data and to support data sharing across systems and organis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Img"/>
          </p:nvPr>
        </p:nvSpPr>
        <p:spPr>
          <a:xfrm>
            <a:off x="995400" y="534960"/>
            <a:ext cx="464832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DDS from Standards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DAS from Data Access and Control Services. This system is responsible for the archival of clean statistical data files. (Also known as confidential master fil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995400" y="534960"/>
            <a:ext cx="464832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addition to the archival function of MIDAS it is also a facility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MDB will provide a snapshot of the business activity at any survey in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nitial content for the data elements will be the output data elements, the elements on CANS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ldImg"/>
          </p:nvPr>
        </p:nvSpPr>
        <p:spPr>
          <a:xfrm>
            <a:off x="995400" y="534960"/>
            <a:ext cx="464832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9DC2-9D1F-416C-9D39-1E68D9A6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94848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30DA-01ED-406D-AF7A-CA86BB38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6002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9484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680" y="39484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911-48DF-4284-BA47-F44BB869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4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4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CE7-4047-4246-B3AD-8AFF0EA5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90AE-1D75-423B-B5D8-512C8C9D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C510-7C0F-4ED2-9DE2-5273E8D4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B6F0-5FF9-492B-B7CD-48EB4C17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1680" y="16002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F3BB-09B9-4591-9FA7-123EC027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342C-D453-4F1C-95B4-B06D2A24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2BE0-AE0C-4C39-B9DB-C86D75DF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6002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39484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1C49-5D5A-450A-A308-C089D4CA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23F2-DA8A-4590-8443-5DB0FD81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680" y="16002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1680" y="39484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F141-A357-4646-BC6E-D7799BB6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1680" y="16002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94848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83F5-1D7E-4177-ADD4-AE6291C4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394848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BCD6-9346-4466-B367-C493D08F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1680" y="16002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39484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1680" y="39484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8245-7451-4606-9BA1-1F634FDA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4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69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4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69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3366-9961-4E67-A33F-E9AF4E8E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F764-984E-4699-B3BE-E6D953F0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680" y="16002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F8D9-544D-484A-B44A-3EF99C3E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A0FF-60CC-453C-B374-C521D33B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C1F4-2BFE-4708-93DC-3FC6D5F5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680" y="16002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9484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4D7F-3AFC-4320-BDF3-CAAF8F24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6002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680" y="39484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57E-E3D4-4B5F-BB6F-1FF002A3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6002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94848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8C5-A3F3-4F8B-B347-575164A0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1199"/>
              </a:spcBef>
              <a:buClr>
                <a:srgbClr val="cc99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1199"/>
              </a:spcBef>
              <a:buClr>
                <a:srgbClr val="cc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1199"/>
              </a:spcBef>
              <a:buClr>
                <a:srgbClr val="ccff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57400" indent="-228600">
              <a:spcBef>
                <a:spcPts val="11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57400" indent="-228600">
              <a:spcBef>
                <a:spcPts val="11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46DC-16C3-40C8-9FC3-CE7E1AF224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3343320" cy="46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2970-D370-4E4B-A4FD-5990105C42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45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99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9051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Use of Standardized Metadata to Find, Select and Access Statistical Data</a:t>
            </a:r>
            <a:br>
              <a:rPr sz="4400"/>
            </a:b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- </a:t>
            </a:r>
            <a:r>
              <a:rPr b="0" lang="en-GB" sz="4000" spc="-1" strike="noStrike">
                <a:solidFill>
                  <a:srgbClr val="ccffff"/>
                </a:solidFill>
                <a:latin typeface="Tahoma"/>
              </a:rPr>
              <a:t>Experience of Statistics Canada -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340000" y="4076640"/>
            <a:ext cx="6408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oint UNECE/Eurostat/OECD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ork Session on Statistical Metadat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(METI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eneva, February 9-11, 2004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206360" y="404640"/>
          <a:ext cx="6732720" cy="604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6360" y="404640"/>
                    <a:ext cx="673272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919080" y="476280"/>
          <a:ext cx="730728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9080" y="476280"/>
                    <a:ext cx="730728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278000" y="404640"/>
          <a:ext cx="6589800" cy="604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78000" y="404640"/>
                    <a:ext cx="658980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523880" y="404640"/>
          <a:ext cx="6096240" cy="604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404640"/>
                    <a:ext cx="609624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901800" y="404640"/>
          <a:ext cx="7342200" cy="59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1800" y="404640"/>
                    <a:ext cx="734220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ffff"/>
                </a:solidFill>
                <a:latin typeface="Tahoma"/>
              </a:rPr>
              <a:t>Naming and defining variab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Variable = Statistical unit + property + representation </a:t>
            </a:r>
            <a:r>
              <a:rPr b="0" lang="en-GB" sz="2800" spc="-1" strike="noStrike">
                <a:solidFill>
                  <a:srgbClr val="ffffcc"/>
                </a:solidFill>
                <a:latin typeface="Tahoma"/>
              </a:rPr>
              <a:t>(as per ISO 11179 model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Statistical unit is agent, event or item about which data are produce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Property is characteristic of statistical unit being measur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Representation is form given to resulting data, e.g. Name, Index, Type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… </a:t>
            </a:r>
            <a:r>
              <a:rPr b="0" i="1" lang="en-US" sz="4400" spc="-1" strike="noStrike">
                <a:solidFill>
                  <a:srgbClr val="ccffff"/>
                </a:solidFill>
                <a:latin typeface="Tahoma"/>
              </a:rPr>
              <a:t>Naming and defining variab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915920"/>
            <a:ext cx="8153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Naming convention: all three elements used to create name of vari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- Value of Sales of Establish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- Type of Assets of Establish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- Name of Geographic location of P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- Type of Occupation of P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- Value of GDP of Econom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… </a:t>
            </a:r>
            <a:r>
              <a:rPr b="0" i="1" lang="en-US" sz="4400" spc="-1" strike="noStrike">
                <a:solidFill>
                  <a:srgbClr val="ccffff"/>
                </a:solidFill>
                <a:latin typeface="Tahoma"/>
              </a:rPr>
              <a:t>Naming and defining variab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915920"/>
            <a:ext cx="8153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Definition of variable provided by joined definitions of its 3 component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+  specification of associated </a:t>
            </a: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classification</a:t>
            </a:r>
            <a:r>
              <a:rPr b="0" i="1" lang="en-GB" sz="3200" spc="-1" strike="noStrike" u="sng">
                <a:solidFill>
                  <a:srgbClr val="ccecff"/>
                </a:solidFill>
                <a:uFillTx/>
                <a:latin typeface="Tahoma"/>
              </a:rPr>
              <a:t>s</a:t>
            </a: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(or unit</a:t>
            </a:r>
            <a:r>
              <a:rPr b="0" i="1" lang="en-GB" sz="2800" spc="-1" strike="noStrike" u="sng">
                <a:solidFill>
                  <a:srgbClr val="ccecff"/>
                </a:solidFill>
                <a:uFillTx/>
                <a:latin typeface="Tahoma"/>
              </a:rPr>
              <a:t>s</a:t>
            </a: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 of measure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Note about Variable – Classification relationship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ISO 11179: one-to-one relationship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IMDB: one-to-many, but one-to-one between classification and variable in one CANSIM table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inding variable &amp; accessing dat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owsing the list of 800 variables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y variable topic (20) and sub-topic (156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y statistical unit (75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y classification domain (20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arch engine to scan the list of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variable names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in IMDB and return the ones containing the word entered or its thesaurus equivalent; o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class names/codes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ithin classification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arch the word entered or its thesaurus equivalent,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nd return the variables and CANSIM table numbers associated with the matching cod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mplementation schedu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89308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inter 2004: loading variables and classifications in IMDB, implementing Browsing mechanism and  “time travel”, finalizing re-design of web pag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pring 2004: display new pages with new features on Intranet to obtain feedback from survey manag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all 2004: display on Internet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inter 2005: Implementation of Search mechanis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bjective of Present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ccecff"/>
                </a:solidFill>
                <a:latin typeface="Tahoma"/>
              </a:rPr>
              <a:t>Answer the question: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i="1" lang="en-GB" sz="3200" spc="-1" strike="noStrike">
                <a:solidFill>
                  <a:srgbClr val="ccecff"/>
                </a:solidFill>
                <a:latin typeface="Tahoma"/>
              </a:rPr>
              <a:t>How can the corporate Metadatabase (IMDB) of Statistics Canada help users  find, select and access statistical data held in its on-line database (CANSIM)?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tents of Present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Tahoma"/>
              </a:rPr>
              <a:t>What is CANSIM?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Tahoma"/>
              </a:rPr>
              <a:t>What is the IMDB?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Tahoma"/>
              </a:rPr>
              <a:t>Accessing CANSIM data from IMDB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Demonstration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Naming and defining variab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Finding variable &amp; accessing dat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Implementation schedu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What is CANSI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89000"/>
            <a:ext cx="8153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Tahoma"/>
              </a:rPr>
              <a:t>Stands for:</a:t>
            </a: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ccecff"/>
                </a:solidFill>
                <a:latin typeface="Tahoma"/>
              </a:rPr>
              <a:t>CAN</a:t>
            </a: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adian </a:t>
            </a:r>
            <a:r>
              <a:rPr b="1" lang="en-GB" sz="2800" spc="-1" strike="noStrike">
                <a:solidFill>
                  <a:srgbClr val="ccecff"/>
                </a:solidFill>
                <a:latin typeface="Tahoma"/>
              </a:rPr>
              <a:t>S</a:t>
            </a: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ocio-economic </a:t>
            </a:r>
            <a:r>
              <a:rPr b="1" lang="en-GB" sz="2800" spc="-1" strike="noStrike">
                <a:solidFill>
                  <a:srgbClr val="ccecff"/>
                </a:solidFill>
                <a:latin typeface="Tahoma"/>
              </a:rPr>
              <a:t>I</a:t>
            </a: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nformation </a:t>
            </a:r>
            <a:r>
              <a:rPr b="1" lang="en-GB" sz="2800" spc="-1" strike="noStrike">
                <a:solidFill>
                  <a:srgbClr val="ccecff"/>
                </a:solidFill>
                <a:latin typeface="Tahoma"/>
              </a:rPr>
              <a:t>M</a:t>
            </a: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anagement syste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Corporate data dissemination databas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Accessible on STC Web sit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1.3K tables (+ 700 “terminated”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18.3M time series (incl. 413K “terminated”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ccecff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ccecff"/>
                </a:solidFill>
                <a:latin typeface="Tahoma"/>
              </a:rPr>
              <a:t>(over 14M for “health” alone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800 variables </a:t>
            </a:r>
            <a:r>
              <a:rPr b="0" lang="en-GB" sz="2400" spc="-1" strike="noStrike">
                <a:solidFill>
                  <a:srgbClr val="ccecff"/>
                </a:solidFill>
                <a:latin typeface="Tahoma"/>
              </a:rPr>
              <a:t>(as defined in IMDB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What is the IMDB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Corporate repository of information on over 350 surveys</a:t>
            </a: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 (+400 “discontinued”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Monotype Sorts" charset="2"/>
              <a:buChar char="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Development began in 1999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Monotype Sorts" charset="2"/>
              <a:buChar char="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4 pre-existing systems integrat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Monotype Sorts" charset="2"/>
              <a:buChar char="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Supports on-line dissemination activities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3" marL="171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ecff"/>
                </a:solidFill>
                <a:latin typeface="Tahoma"/>
              </a:rPr>
              <a:t>The Dai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3" marL="171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CANSI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3" marL="171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On-line catalogu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3" marL="171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Canadian Statistic Tabl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209600" y="404640"/>
          <a:ext cx="6726240" cy="604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9600" y="404640"/>
                    <a:ext cx="672624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What is the IMDB content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HTML pages generated from IMDB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Overview of survey (mandate, users, use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Survey population &amp; Questionnaire imag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Methodology description (10 component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Data accuracy measur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In the Fall of 2004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Variable names and defini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Link to classifications &amp; CANSIM tabl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Time Travel” from November 2000 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87280" y="333360"/>
            <a:ext cx="6669360" cy="620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892080" y="333360"/>
          <a:ext cx="7361280" cy="619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2080" y="333360"/>
                    <a:ext cx="7361280" cy="61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13:23:15Z</dcterms:created>
  <dc:creator>Statistics Canada</dc:creator>
  <dc:description/>
  <dc:language>en-US</dc:language>
  <cp:lastModifiedBy>bellpie</cp:lastModifiedBy>
  <cp:lastPrinted>2000-11-20T23:44:10Z</cp:lastPrinted>
  <dcterms:modified xsi:type="dcterms:W3CDTF">2004-01-30T20:06:26Z</dcterms:modified>
  <cp:revision>364</cp:revision>
  <dc:subject/>
  <dc:title>IMDB </dc:title>
</cp:coreProperties>
</file>