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93B0-AC08-4852-B7FB-50DA218F86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AA0-7DC1-4CCD-AAAA-3A48BA9D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69A-0710-4F81-B1FF-ECBB50B3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A70-02EB-4145-B115-34276A93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85E-0FB6-4ECE-BC87-A75AC55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50B-6377-4946-88C6-235745CC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E60-F49A-4702-9382-5E8E1182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7BA-A7C1-4C50-AE01-CBD78323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341-7E8D-4A33-8892-F0899D3C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06C-2F9C-4017-B33D-046A851D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FDB-E10A-499E-A9DA-38A29A40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DF0-0854-454E-BB65-9E2D2A4A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FC6-9640-4A82-9710-7D1F310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AF9E-AB6F-48D4-BAE5-DF632541B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co.Pellegrino@cec.eu.int" TargetMode="External"/><Relationship Id="rId2" Type="http://schemas.openxmlformats.org/officeDocument/2006/relationships/hyperlink" Target="mailto:Marco.Pellegrino@cec.eu.int" TargetMode="External"/><Relationship Id="rId3" Type="http://schemas.openxmlformats.org/officeDocument/2006/relationships/hyperlink" Target="mailto:Marco.Pellegrino@cec.eu.in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orum.europa.eu.int/irc/dsis/coded/info/data/coded/en.htm" TargetMode="External"/><Relationship Id="rId2" Type="http://schemas.openxmlformats.org/officeDocument/2006/relationships/hyperlink" Target="http://europa.eu.int/comm/eurostat/ramon/" TargetMode="External"/><Relationship Id="rId3" Type="http://schemas.openxmlformats.org/officeDocument/2006/relationships/hyperlink" Target="mailto:Marco.Pellegrino@cec.eu.int" TargetMode="External"/><Relationship Id="rId4" Type="http://schemas.openxmlformats.org/officeDocument/2006/relationships/hyperlink" Target="mailto:Marco.Pellegrino@cec.eu.int" TargetMode="External"/><Relationship Id="rId5" Type="http://schemas.openxmlformats.org/officeDocument/2006/relationships/hyperlink" Target="mailto:Marco.Pellegrino@cec.eu.int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00"/>
                </a:solidFill>
                <a:latin typeface="Times New Roman"/>
              </a:rPr>
              <a:t>METIS 2004</a:t>
            </a:r>
            <a:br>
              <a:rPr sz="4400"/>
            </a:br>
            <a:r>
              <a:rPr b="0" lang="fr-FR" sz="2800" spc="-1" strike="noStrike">
                <a:solidFill>
                  <a:srgbClr val="808000"/>
                </a:solidFill>
                <a:latin typeface="Times New Roman"/>
              </a:rPr>
              <a:t>(Geneva, 9-11 February 2004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928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Times New Roman"/>
              </a:rPr>
              <a:t>Integrating Statistical Terminology Tools</a:t>
            </a:r>
            <a:br>
              <a:rPr sz="3600"/>
            </a:br>
            <a:r>
              <a:rPr b="1" lang="fr-FR" sz="3600" spc="-1" strike="noStrike">
                <a:solidFill>
                  <a:srgbClr val="0033cc"/>
                </a:solidFill>
                <a:latin typeface="Times New Roman"/>
              </a:rPr>
              <a:t>within Eurostat’s Dissemination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ntributed Paper (WP.32</a:t>
            </a: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300640"/>
            <a:ext cx="83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Bart De Norre, Dominique Groenez and Marco Pellegrino (Eurostat)</a:t>
            </a:r>
            <a:br>
              <a:rPr sz="2000"/>
            </a:b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(contact: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Marco.Pellegrino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ec.eu.int</a:t>
            </a: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)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ROSTAT'S DISSEMINATION POLIC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Fre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CENT DECISIONS CONCERNING THESEU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Revision of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NAGING STATISTICAL TERMINOLOGY TOOL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Coordination of metadata activitie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Metadata Information System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New 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9920" y="228240"/>
            <a:ext cx="79628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TADATA COMMON VOCABULARY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5840" y="2287440"/>
            <a:ext cx="168912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tadata dissemina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057400"/>
            <a:ext cx="1371600" cy="70812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47960" y="2071800"/>
            <a:ext cx="1343160" cy="63756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7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tadata Glo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2440080"/>
            <a:ext cx="1460520" cy="63756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istical gloss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114800"/>
            <a:ext cx="1913040" cy="12160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3400" y="4129200"/>
            <a:ext cx="1884240" cy="118620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ndard Metadata items, with related agree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67120" y="1595520"/>
            <a:ext cx="2828880" cy="4581360"/>
          </a:xfrm>
          <a:prstGeom prst="ellipse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1840" y="2973240"/>
            <a:ext cx="243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4192560"/>
            <a:ext cx="1825560" cy="155916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MF (SD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 Census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ts Can I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ECD M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urostat ty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21360" y="4116240"/>
            <a:ext cx="1825560" cy="1305720"/>
          </a:xfrm>
          <a:prstGeom prst="rect">
            <a:avLst/>
          </a:prstGeom>
          <a:solidFill>
            <a:srgbClr val="ccec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national statistical standards (UN,  ILO, IMF, Eurostat, ECB,  OECD,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240000"/>
            <a:ext cx="9720" cy="939960"/>
          </a:xfrm>
          <a:custGeom>
            <a:avLst/>
            <a:gdLst/>
            <a:ahLst/>
            <a:rect l="l" t="t" r="r" b="b"/>
            <a:pathLst>
              <a:path w="6" h="592">
                <a:moveTo>
                  <a:pt x="5" y="0"/>
                </a:moveTo>
                <a:lnTo>
                  <a:pt x="0" y="591"/>
                </a:lnTo>
              </a:path>
            </a:pathLst>
          </a:custGeom>
          <a:noFill/>
          <a:ln cap="rnd"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2520" y="3117960"/>
            <a:ext cx="3240" cy="985680"/>
          </a:xfrm>
          <a:custGeom>
            <a:avLst/>
            <a:gdLst/>
            <a:ahLst/>
            <a:rect l="l" t="t" r="r" b="b"/>
            <a:pathLst>
              <a:path w="2" h="621">
                <a:moveTo>
                  <a:pt x="1" y="620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9360" y="2757600"/>
            <a:ext cx="3570480" cy="15840"/>
          </a:xfrm>
          <a:custGeom>
            <a:avLst/>
            <a:gdLst/>
            <a:ahLst/>
            <a:rect l="l" t="t" r="r" b="b"/>
            <a:pathLst>
              <a:path w="2249" h="10">
                <a:moveTo>
                  <a:pt x="2248" y="9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66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97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For more inf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urostat web page: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europa.eu.int/comm/euro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CODED: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forum.europa.eu.int/irc/dsis/coded/info/data/coded/en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MON: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http://europa.eu.int/comm/eurostat/ram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IRCA group: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forum.europa.eu.int/Public/irc/dsis/metadata/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51664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Bart De Norre, Dominique Groenez and Marco Pellegrino (Eurostat)</a:t>
            </a:r>
            <a:br>
              <a:rPr sz="2000"/>
            </a:b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(contact: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Marco.Pellegrino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@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cec.eu.int</a:t>
            </a: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)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9:17:21Z</dcterms:created>
  <dc:creator>Danny Delcambre</dc:creator>
  <dc:description/>
  <dc:language>en-US</dc:language>
  <cp:lastModifiedBy>Marco</cp:lastModifiedBy>
  <dcterms:modified xsi:type="dcterms:W3CDTF">2004-02-06T17:10:21Z</dcterms:modified>
  <cp:revision>30</cp:revision>
  <dc:subject/>
  <dc:title>CLAS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9725090</vt:r8>
  </property>
  <property fmtid="{D5CDD505-2E9C-101B-9397-08002B2CF9AE}" pid="3" name="_AuthorEmail">
    <vt:lpwstr>Marco.Pellegrino@cec.eu.int</vt:lpwstr>
  </property>
  <property fmtid="{D5CDD505-2E9C-101B-9397-08002B2CF9AE}" pid="4" name="_AuthorEmailDisplayName">
    <vt:lpwstr>PELLEGRINO Marco (ESTAT)</vt:lpwstr>
  </property>
  <property fmtid="{D5CDD505-2E9C-101B-9397-08002B2CF9AE}" pid="5" name="_EmailSubject">
    <vt:lpwstr>METIS Topic 3 Session</vt:lpwstr>
  </property>
</Properties>
</file>