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5B1B-FED3-4867-AE73-E140BB806A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D51-A61F-4A3F-8E2A-2F804602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4B6B-3649-485D-A5A8-8FD4C21F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80BA-7C34-46AB-93E6-320120D6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7E5-5FF3-447B-88D9-80CE7175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4C7-81C2-4A0B-8C96-6B89D8B0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3CAA-7CE3-42CD-965B-62A618E2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C97E-5AF2-4898-BDAD-539AD1CE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9DE3-5B19-4889-A712-AD3C3197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43B-0B49-48E6-8EB0-BD9D5F08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0912-F4A8-47AC-8715-E8ED30A8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652-83B9-4391-AA33-C8B8D3B5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EDFA-CF08-48A0-9D38-7955290E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1C85-050A-464F-866B-CFF953F60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rco.Pellegrino@cec.eu.int" TargetMode="External"/><Relationship Id="rId2" Type="http://schemas.openxmlformats.org/officeDocument/2006/relationships/hyperlink" Target="mailto:Marco.Pellegrino@cec.eu.int" TargetMode="External"/><Relationship Id="rId3" Type="http://schemas.openxmlformats.org/officeDocument/2006/relationships/hyperlink" Target="mailto:Marco.Pellegrino@cec.eu.int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orum.europa.eu.int/irc/dsis/coded/info/data/coded/en.htm" TargetMode="External"/><Relationship Id="rId2" Type="http://schemas.openxmlformats.org/officeDocument/2006/relationships/hyperlink" Target="http://europa.eu.int/comm/eurostat/ramon/" TargetMode="External"/><Relationship Id="rId3" Type="http://schemas.openxmlformats.org/officeDocument/2006/relationships/hyperlink" Target="mailto:Marco.Pellegrino@cec.eu.int" TargetMode="External"/><Relationship Id="rId4" Type="http://schemas.openxmlformats.org/officeDocument/2006/relationships/hyperlink" Target="mailto:Marco.Pellegrino@cec.eu.int" TargetMode="External"/><Relationship Id="rId5" Type="http://schemas.openxmlformats.org/officeDocument/2006/relationships/hyperlink" Target="mailto:Marco.Pellegrino@cec.eu.int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42472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00"/>
                </a:solidFill>
                <a:latin typeface="Times New Roman"/>
              </a:rPr>
              <a:t>METIS 2004</a:t>
            </a:r>
            <a:br>
              <a:rPr sz="4400"/>
            </a:br>
            <a:r>
              <a:rPr b="0" lang="fr-FR" sz="2800" spc="-1" strike="noStrike">
                <a:solidFill>
                  <a:srgbClr val="808000"/>
                </a:solidFill>
                <a:latin typeface="Times New Roman"/>
              </a:rPr>
              <a:t>(Geneva, 9-11 February 2004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928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Times New Roman"/>
              </a:rPr>
              <a:t>Integrating Statistical Terminology Tools</a:t>
            </a:r>
            <a:br>
              <a:rPr sz="3600"/>
            </a:br>
            <a:r>
              <a:rPr b="1" lang="fr-FR" sz="3600" spc="-1" strike="noStrike">
                <a:solidFill>
                  <a:srgbClr val="0033cc"/>
                </a:solidFill>
                <a:latin typeface="Times New Roman"/>
              </a:rPr>
              <a:t>within Eurostat’s Dissemination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Contributed Paper (WP.32</a:t>
            </a:r>
            <a:r>
              <a:rPr b="1" lang="fr-FR" sz="28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300640"/>
            <a:ext cx="8353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8000"/>
                </a:solidFill>
                <a:latin typeface="Times New Roman"/>
              </a:rPr>
              <a:t>Bart De Norre, Dominique Groenez and Marco Pellegrino (Eurostat)</a:t>
            </a:r>
            <a:br>
              <a:rPr sz="2000"/>
            </a:br>
            <a:r>
              <a:rPr b="1" lang="fr-FR" sz="2000" spc="-1" strike="noStrike">
                <a:solidFill>
                  <a:srgbClr val="808000"/>
                </a:solidFill>
                <a:latin typeface="Times New Roman"/>
              </a:rPr>
              <a:t>(contact: 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Marco.Pellegrino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cec.eu.int</a:t>
            </a:r>
            <a:r>
              <a:rPr b="1" lang="fr-FR" sz="2000" spc="-1" strike="noStrike">
                <a:solidFill>
                  <a:srgbClr val="808000"/>
                </a:solidFill>
                <a:latin typeface="Times New Roman"/>
              </a:rPr>
              <a:t>)</a:t>
            </a: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305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UROSTAT'S DISSEMINATION POLIC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Fre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CENT DECISIONS CONCERNING THESEU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Revision of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NAGING STATISTICAL TERMINOLOGY TOOL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Coordination of metadata activitie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Metadata Information System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New CO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9920" y="228240"/>
            <a:ext cx="79628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ETADATA COMMON VOCABULARY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5840" y="2287440"/>
            <a:ext cx="168912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etadata dissemination form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057400"/>
            <a:ext cx="1371600" cy="70812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47960" y="2071800"/>
            <a:ext cx="1343160" cy="637560"/>
          </a:xfrm>
          <a:prstGeom prst="rect">
            <a:avLst/>
          </a:prstGeom>
          <a:solidFill>
            <a:srgbClr val="ccecff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675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etadata Glo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02440" y="2440080"/>
            <a:ext cx="1460520" cy="637560"/>
          </a:xfrm>
          <a:prstGeom prst="rect">
            <a:avLst/>
          </a:prstGeom>
          <a:solidFill>
            <a:srgbClr val="ccecff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tistical gloss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4114800"/>
            <a:ext cx="1913040" cy="121608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43400" y="4129200"/>
            <a:ext cx="1884240" cy="1186200"/>
          </a:xfrm>
          <a:prstGeom prst="rect">
            <a:avLst/>
          </a:prstGeom>
          <a:solidFill>
            <a:srgbClr val="ccecff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andard Metadata items, with related agreed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67120" y="1595520"/>
            <a:ext cx="2828880" cy="4581360"/>
          </a:xfrm>
          <a:prstGeom prst="ellipse">
            <a:avLst/>
          </a:prstGeom>
          <a:noFill/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1840" y="2973240"/>
            <a:ext cx="243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Meta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9880" y="4192560"/>
            <a:ext cx="1825560" cy="1559160"/>
          </a:xfrm>
          <a:prstGeom prst="rect">
            <a:avLst/>
          </a:prstGeom>
          <a:solidFill>
            <a:srgbClr val="ccecff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MF (SD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 Census Bur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ats Can I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ECD M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urostat typ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21360" y="4116240"/>
            <a:ext cx="1825560" cy="1305720"/>
          </a:xfrm>
          <a:prstGeom prst="rect">
            <a:avLst/>
          </a:prstGeom>
          <a:solidFill>
            <a:srgbClr val="ccecff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ernational statistical standards (UN,  ILO, IMF, Eurostat, ECB,  OECD, et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3240000"/>
            <a:ext cx="9720" cy="939960"/>
          </a:xfrm>
          <a:custGeom>
            <a:avLst/>
            <a:gdLst/>
            <a:ahLst/>
            <a:rect l="l" t="t" r="r" b="b"/>
            <a:pathLst>
              <a:path w="6" h="592">
                <a:moveTo>
                  <a:pt x="5" y="0"/>
                </a:moveTo>
                <a:lnTo>
                  <a:pt x="0" y="591"/>
                </a:lnTo>
              </a:path>
            </a:pathLst>
          </a:custGeom>
          <a:noFill/>
          <a:ln cap="rnd"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2520" y="3117960"/>
            <a:ext cx="3240" cy="985680"/>
          </a:xfrm>
          <a:custGeom>
            <a:avLst/>
            <a:gdLst/>
            <a:ahLst/>
            <a:rect l="l" t="t" r="r" b="b"/>
            <a:pathLst>
              <a:path w="2" h="621">
                <a:moveTo>
                  <a:pt x="1" y="620"/>
                </a:move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19360" y="2757600"/>
            <a:ext cx="3570480" cy="15840"/>
          </a:xfrm>
          <a:custGeom>
            <a:avLst/>
            <a:gdLst/>
            <a:ahLst/>
            <a:rect l="l" t="t" r="r" b="b"/>
            <a:pathLst>
              <a:path w="2249" h="10">
                <a:moveTo>
                  <a:pt x="2248" y="9"/>
                </a:move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6633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497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Times New Roman"/>
              </a:rPr>
              <a:t>For more inf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urostat web page: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europa.eu.int/comm/euros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CODED: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http://forum.europa.eu.int/irc/dsis/coded/info/data/coded/en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MON: 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http://europa.eu.int/comm/eurostat/ramo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IRCA group: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forum.europa.eu.int/Public/irc/dsis/metadata/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516640"/>
            <a:ext cx="835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8000"/>
                </a:solidFill>
                <a:latin typeface="Times New Roman"/>
              </a:rPr>
              <a:t>Bart De Norre, Dominique Groenez and Marco Pellegrino (Eurostat)</a:t>
            </a:r>
            <a:br>
              <a:rPr sz="2000"/>
            </a:br>
            <a:r>
              <a:rPr b="1" lang="fr-FR" sz="2000" spc="-1" strike="noStrike">
                <a:solidFill>
                  <a:srgbClr val="808000"/>
                </a:solidFill>
                <a:latin typeface="Times New Roman"/>
              </a:rPr>
              <a:t>(contact: 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Marco.Pellegrino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@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5"/>
              </a:rPr>
              <a:t>cec.eu.int</a:t>
            </a:r>
            <a:r>
              <a:rPr b="1" lang="fr-FR" sz="2000" spc="-1" strike="noStrike">
                <a:solidFill>
                  <a:srgbClr val="808000"/>
                </a:solidFill>
                <a:latin typeface="Times New Roman"/>
              </a:rPr>
              <a:t>)</a:t>
            </a: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09:17:21Z</dcterms:created>
  <dc:creator>Danny Delcambre</dc:creator>
  <dc:description/>
  <dc:language>en-US</dc:language>
  <cp:lastModifiedBy>Marco</cp:lastModifiedBy>
  <dcterms:modified xsi:type="dcterms:W3CDTF">2004-02-06T17:10:21Z</dcterms:modified>
  <cp:revision>30</cp:revision>
  <dc:subject/>
  <dc:title>CLAS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9725090</vt:r8>
  </property>
  <property fmtid="{D5CDD505-2E9C-101B-9397-08002B2CF9AE}" pid="3" name="_AuthorEmail">
    <vt:lpwstr>Marco.Pellegrino@cec.eu.int</vt:lpwstr>
  </property>
  <property fmtid="{D5CDD505-2E9C-101B-9397-08002B2CF9AE}" pid="4" name="_AuthorEmailDisplayName">
    <vt:lpwstr>PELLEGRINO Marco (ESTAT)</vt:lpwstr>
  </property>
  <property fmtid="{D5CDD505-2E9C-101B-9397-08002B2CF9AE}" pid="5" name="_EmailSubject">
    <vt:lpwstr>METIS Topic 3 Session</vt:lpwstr>
  </property>
</Properties>
</file>