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093-36E4-41A1-8F76-5F61C5D8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C31-7141-420F-85AB-7C3A11E8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435-F8F9-418F-BEBD-256017A8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28B-039E-4D72-BAA6-DE8149F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DA6B-D425-451A-A4B9-B3FC2DFF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A67-7E84-4403-BEB3-05D3586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9D7-1E02-49AE-90CC-BE18149C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4BE-FE7E-4C2D-AED4-8B6E6D3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DD25-D5A0-4EEC-AF09-3F6ED66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DFEF-F273-42FC-B520-97C51E96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186C-31D6-4809-BA7F-945FA73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8D7-0E9E-4E71-BFDE-F7FAABC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E4D4-496A-4332-8B01-FCDC308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7958-C51A-48C1-A247-DC0CB39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8D7F-FD96-4F02-AC9F-92D93FB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A12-6B8A-40B1-8962-ACF9CFA3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337-4A32-4ED1-954F-028EDE34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E13-8D25-47E6-9D18-1943594A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47F-EF9C-41CB-AFC8-0D3754C4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6A7-A315-46AF-BCB6-AC7C37DC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A3C-FD7D-40AC-BF5B-AABA8649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9F0-98B9-43C9-8B56-10EC87F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64A-0FF4-402C-A29B-CE13AF2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A72-4592-480C-B153-D7814C4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AE6-3A4F-45B0-B530-F1FAB0504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58AE-C243-4F43-BF0A-8209D4EFE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tc1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SO/IEC 11179-1: Framework for a Metadata Registr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W. Gil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reau of Labor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lem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Association of Data Element Concept and Value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abstract or realized in a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amental container fo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ion promotes re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data elements may use the same data element 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data elements may use the same value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lement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x of Employ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of 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x of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M, Male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on-negative integers, doll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, Female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U, Unknown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8620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86200" y="48765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gistri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ons of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data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57400" y="1463760"/>
            <a:ext cx="17366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1828800"/>
            <a:ext cx="173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657600"/>
            <a:ext cx="17366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3240" y="40384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657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49960" y="1463760"/>
            <a:ext cx="15937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9960" y="1828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40320" y="3673440"/>
            <a:ext cx="15764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25920" y="4038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657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lue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94040" y="2103480"/>
            <a:ext cx="155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301840"/>
            <a:ext cx="144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3960" y="22860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94040" y="4299120"/>
            <a:ext cx="1646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8288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83120" y="2103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2720" y="2438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6396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24640" y="245412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3292560"/>
            <a:ext cx="47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03848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83120" y="4299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103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Hav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828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Specify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3120" y="2666880"/>
            <a:ext cx="11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ed 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9680" y="3216240"/>
            <a:ext cx="96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9920" y="2514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Expressed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956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Express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038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4040" y="4299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ed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Element 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1447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ceptual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73240" y="18288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C Administr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Object Class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roperty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25920" y="1905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CD Administr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Value Meanings: 0..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49560" y="4114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 Administration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riv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32480" y="40338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VD Administration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ermissible Values: 0..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scrip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ata Type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gistr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ing Rules for Registry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descriptions (similar to Dublin C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- Registration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Cycle - Administrative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ing Chains of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/IEC 11179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inology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: ISO/IEC 111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ue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Element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Regis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SO/IEC 11179 Overview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SO/IEC 111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: Standardization and specification of data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ed: Metadata Regis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ly available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jtc1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6 P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work  [An overview of the rest of the standard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odel and basic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ing and 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inology - The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0240" y="2133360"/>
            <a:ext cx="8102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al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Concept with two or more objects, with common properties, that correspond to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ividual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Concept with one object that corresponds to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ic Re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Relation between 2 concepts where the intension of one concept contains that of the other plus at least one additional delimiting character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ic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Broader concept in a generic relation, with the smaller in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ecific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Narrower concept in a generic relation, with the larger in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Value Domai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om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et of permissibl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ssible value = value - meaning p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&lt;Y, 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Dom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et of value mean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Value Domain gets its semantics from a Conceptual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s “symbolic semant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Value Domai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ypes of Conceptual/Value Domai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umerated Conceptual Dom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t of value meanings / permissible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enumerated Conceptual Dom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specifying precisely which meaning / permissible value is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om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Conceptual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Y, Yes&gt;, &lt;N, No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Yes, N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| 0  ≤ r ≤ 1}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probabilitie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1523880"/>
            <a:ext cx="30492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676520"/>
            <a:ext cx="1219320" cy="76176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190512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133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65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447920"/>
            <a:ext cx="45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1981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1337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71800" y="1600200"/>
            <a:ext cx="76320" cy="6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60020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523880"/>
            <a:ext cx="30492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676520"/>
            <a:ext cx="1219320" cy="76176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447920"/>
            <a:ext cx="45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00600" y="1600200"/>
            <a:ext cx="76320" cy="6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160020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048120"/>
            <a:ext cx="1219320" cy="3808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3124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24480" y="3428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UMERATED VALUE 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N-ENUMERATED VALUE 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5627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629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65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   MEA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181480"/>
            <a:ext cx="121896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257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MISSIBLE VALU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3341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7432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006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334120"/>
            <a:ext cx="65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43200" y="5410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55627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5334120"/>
            <a:ext cx="657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1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657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N:1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95880" y="556236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410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4290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n-exclusive sub-typ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048120"/>
            <a:ext cx="1219320" cy="3808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8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3428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886200"/>
            <a:ext cx="121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UMERATED 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88620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N-ENUMERATED 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5053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65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4290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n-exclusive sub-typ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 Concep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Element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lass - The set of objects for which we want to collect or recor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: Employer, Household, All Person in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y - Characteristic that describes or distinguishes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: Industry, Income, 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 about data = Object Class +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 about data independent of value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“contextual semant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 Concep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concept -&gt; micro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concept -&gt; macrodata or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izing Object Class and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lue Meaning and Generic 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(gener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person (specif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(gener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related to wages (specif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sex = {male, femal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= {wages, dividends, interest, gambling, etc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3:41:56Z</dcterms:created>
  <dc:creator>Daniel W Gillman</dc:creator>
  <dc:description/>
  <dc:language>en-US</dc:language>
  <cp:lastModifiedBy>Dan Gillman</cp:lastModifiedBy>
  <dcterms:modified xsi:type="dcterms:W3CDTF">2004-02-04T16:03:28Z</dcterms:modified>
  <cp:revision>136</cp:revision>
  <dc:subject/>
  <dc:title>ISO/IEC 11179-1, Part 1: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1018412</vt:r8>
  </property>
  <property fmtid="{D5CDD505-2E9C-101B-9397-08002B2CF9AE}" pid="3" name="_AuthorEmail">
    <vt:lpwstr>Gillman.Daniel@bls.gov</vt:lpwstr>
  </property>
  <property fmtid="{D5CDD505-2E9C-101B-9397-08002B2CF9AE}" pid="4" name="_AuthorEmailDisplayName">
    <vt:lpwstr>Gillman, Daniel - BLS</vt:lpwstr>
  </property>
  <property fmtid="{D5CDD505-2E9C-101B-9397-08002B2CF9AE}" pid="5" name="_EmailSubject">
    <vt:lpwstr>PowerPoint Slides</vt:lpwstr>
  </property>
</Properties>
</file>