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EDD-1839-4178-9439-C265A98D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DB8-D00E-4129-8E48-FBCBE6F1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F03-4CA7-4BCE-97F3-989FD65B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3AD-D4D9-4D25-8479-15122A30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991C-F67C-42F2-A940-83F9E8A2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5D9A-AAA1-4DE7-9AD5-0179DD74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4227-8BCC-45D3-9BD6-ABCE971F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ECFC-0B4B-47CB-B7B4-368CC13D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8455-2375-4E2C-8F1E-B1ECA557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3148-A923-4648-BF9D-41B583A3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1CCD-A7AD-4A56-8493-C52DF1E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B59-582A-4485-933E-731A7095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FBB5-BC56-40BC-AF64-D449D87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F7CF-704E-44BD-A243-7A8A696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EC1A-606A-4AE0-B718-EA9CB1F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32C4-7C9E-4A2C-A927-A0FBBA1C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3C84-165D-4713-9CE4-4FADE787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516-5C58-42F8-9C4C-F676C2A2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77C-B304-4DD4-8772-44C9DE5F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E00-67CF-4790-B731-B633D652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AC4-9E90-4A4D-958A-BC250293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AE4-B58B-4658-8803-4C57F12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3C7-2596-42C7-BED1-65C7CBD0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EC9-9061-4ED6-B6E1-0FD27017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F3D4-E9BA-401C-A470-BB94C647D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9E21-C7E0-4977-B4FE-3CD88E68C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tc1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SO/IEC 11179-1: Framework for a Metadata Registr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 W. Gil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reau of Labor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ata Elemen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lemen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Association of Data Element Concept and Value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abstract or realized in a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damental container fo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uction promotes reu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data elements may use the same data element conce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data elements may use the same value do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lement Con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x of Employ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of Employ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x of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M, Male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non-negative integers, doll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, Female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categ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U, Unknown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886200" y="2514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886200" y="48765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tadata Registri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dat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ions of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stration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data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57400" y="1463760"/>
            <a:ext cx="17366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1828800"/>
            <a:ext cx="1736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657600"/>
            <a:ext cx="17366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3240" y="40384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36576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49960" y="1463760"/>
            <a:ext cx="15937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49960" y="1828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40320" y="3673440"/>
            <a:ext cx="15764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25920" y="4038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36576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lue Do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94040" y="2103480"/>
            <a:ext cx="155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2301840"/>
            <a:ext cx="144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3960" y="22860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94040" y="4299120"/>
            <a:ext cx="1646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8288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.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83120" y="2103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.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82720" y="2438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.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6396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.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24640" y="245412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.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3292560"/>
            <a:ext cx="47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.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403848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..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83120" y="4299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.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2103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Hav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828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Specify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3120" y="2666880"/>
            <a:ext cx="11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Represented  b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9680" y="3216240"/>
            <a:ext cx="96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Represen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9920" y="2514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Expressed b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4956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Express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038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Represen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4040" y="42991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+Represented b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 Element Conce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1447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ceptual Do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73240" y="18288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EC Administration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Object Class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roperty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25920" y="1905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CD Administration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Value Meanings: 0..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49560" y="4114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E Administration: 1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erivation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32480" y="40338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VD Administration: 1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ermissible Values: 0..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escription: 0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Data Type: 1..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gistr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ing Rules for Registry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descriptions (similar to Dublin C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- Registration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fe Cycle - Administrative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ing Chains of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t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/IEC 11179 Ov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inology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: ISO/IEC 111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ue Dom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Element Conce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E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data Regis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SO/IEC 11179 Overview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SO/IEC 111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: Standardization and specification of data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ed: Metadata Regis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ly available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jtc1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6 P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work  [An overview of the rest of the standard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model and basic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ing and iden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inology - The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0240" y="2133360"/>
            <a:ext cx="8102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eneral 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Concept with two or more objects, with common properties, that correspond to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dividual 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Concept with one object that corresponds to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eneric Rel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Relation between 2 concepts where the intension of one concept contains that of the other plus at least one additional delimiting character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eneric 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Broader concept in a generic relation, with the smaller in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ecific 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Narrower concept in a generic relation, with the larger in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Value Domain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Doma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set of permissibl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issible value = value - meaning p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, &lt;Y, 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Doma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set of value mean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Value Domain gets its semantics from a Conceptual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ents “symbolic semant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Value Domain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types of Conceptual/Value Domai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umerated Conceptual Dom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st of value meanings / permissible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enumerated Conceptual Dom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specifying precisely which meaning / permissible value is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Doma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Conceptual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Y, Yes&gt;, &lt;N, No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Yes, No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| 0  ≤ r ≤ 1}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probabilities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43200" y="1523880"/>
            <a:ext cx="304920" cy="304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676520"/>
            <a:ext cx="1219320" cy="76176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190512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1337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65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447920"/>
            <a:ext cx="45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2000" y="19810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21337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971800" y="1600200"/>
            <a:ext cx="76320" cy="6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600200"/>
            <a:ext cx="15228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523880"/>
            <a:ext cx="304920" cy="304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676520"/>
            <a:ext cx="1219320" cy="76176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447920"/>
            <a:ext cx="45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00600" y="1600200"/>
            <a:ext cx="76320" cy="6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1600200"/>
            <a:ext cx="15228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3048120"/>
            <a:ext cx="1219320" cy="3808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31240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ALUE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324480" y="3428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8098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NUMERATED VALUE 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38098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N-ENUMERATED VALUE 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56272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16292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657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ALUE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51814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51814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ALUE    MEA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5181480"/>
            <a:ext cx="121896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5257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ERMISSIBLE VALU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51814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53341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ALUE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7432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8006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5562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5334120"/>
            <a:ext cx="65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743200" y="54100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55627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562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5334120"/>
            <a:ext cx="657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1:1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562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657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N:1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095880" y="556236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54100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34290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n-exclusive sub-typ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048120"/>
            <a:ext cx="1219320" cy="3808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048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3428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38098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886200"/>
            <a:ext cx="121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NUMERATED 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3809880"/>
            <a:ext cx="1219320" cy="6098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88620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N-ENUMERATED CONCEPTUAL DOMA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50532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657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34290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n-exclusive sub-typ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ata Element Concep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Element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lass - The set of objects for which we want to collect or recor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: Employer, Household, All Person in the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y - Characteristic that describes or distinguishes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: Industry, Income, Mean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 about data = Object Class +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 about data independent of value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“contextual semant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ata Element Concep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concept -&gt; micro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concept -&gt; macrodata or meta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izing Object Class and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Value Meaning and Generic 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 (gener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 person (specif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(gener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related to wages (specif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sex = {male, femal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= {wages, dividends, interest, gambling, etc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3:41:56Z</dcterms:created>
  <dc:creator>Daniel W Gillman</dc:creator>
  <dc:description/>
  <dc:language>en-US</dc:language>
  <cp:lastModifiedBy>Dan Gillman</cp:lastModifiedBy>
  <dcterms:modified xsi:type="dcterms:W3CDTF">2004-02-04T16:03:28Z</dcterms:modified>
  <cp:revision>136</cp:revision>
  <dc:subject/>
  <dc:title>ISO/IEC 11179-1, Part 1: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81018412</vt:r8>
  </property>
  <property fmtid="{D5CDD505-2E9C-101B-9397-08002B2CF9AE}" pid="3" name="_AuthorEmail">
    <vt:lpwstr>Gillman.Daniel@bls.gov</vt:lpwstr>
  </property>
  <property fmtid="{D5CDD505-2E9C-101B-9397-08002B2CF9AE}" pid="4" name="_AuthorEmailDisplayName">
    <vt:lpwstr>Gillman, Daniel - BLS</vt:lpwstr>
  </property>
  <property fmtid="{D5CDD505-2E9C-101B-9397-08002B2CF9AE}" pid="5" name="_EmailSubject">
    <vt:lpwstr>PowerPoint Slides</vt:lpwstr>
  </property>
</Properties>
</file>