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24C-676B-419C-966B-FD196260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EAC-D9AE-401C-945F-FE37982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DAC-A302-40EF-8DB0-604F1436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3ED-A135-45DB-9221-63A05A57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079-1777-4CC4-8C72-7DD1CB17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90A-4FCD-463C-8212-1C56616D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0BD-9422-4582-9858-CF5767E0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63F-D9CA-477C-9706-E7798E97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877-6E9A-44ED-ABB6-97247ADF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870-11D7-46DB-B5F5-919AEAC0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A12-FEEB-4BA8-AD90-B945D49C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430-DDF1-46E8-8024-6592AAE0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4232-0A00-44D4-89D4-8FC33324D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Times New Roman"/>
              </a:rPr>
              <a:t>Bo Sundgren, Statistics Sw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nvited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Joint UNECE/Eurostat/OECD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work session on statistical metadata (ME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Geneva, 9-11 Februar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7621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tadata systems in statistical production processes – for which purposes are they need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d how can they best be organi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33480" y="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33480" y="76320"/>
            <a:ext cx="54770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generate useful metada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1676520"/>
          <a:ext cx="7620120" cy="2938320"/>
        </p:xfrm>
        <a:graphic>
          <a:graphicData uri="http://schemas.openxmlformats.org/drawingml/2006/table">
            <a:tbl>
              <a:tblPr/>
              <a:tblGrid>
                <a:gridCol w="2362320"/>
                <a:gridCol w="2587680"/>
                <a:gridCol w="2670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FUL METADATA PRODUCED 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ADEQUATE METADATA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ADEQUATE METADATA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-supported design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 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 operation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nomous metadata processe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505320" y="2362320"/>
            <a:ext cx="304560" cy="380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971800"/>
            <a:ext cx="1600200" cy="380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3581280"/>
            <a:ext cx="7596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114800"/>
            <a:ext cx="304560" cy="380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2362320"/>
            <a:ext cx="19051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2971800"/>
            <a:ext cx="15264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581280"/>
            <a:ext cx="2286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114800"/>
            <a:ext cx="45720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9960" y="5985000"/>
            <a:ext cx="77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 proces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creating and maintaining standards and other shared metadata resour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438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971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2502000"/>
            <a:ext cx="2133720" cy="622080"/>
          </a:xfrm>
          <a:custGeom>
            <a:avLst/>
            <a:gdLst/>
            <a:ahLst/>
            <a:rect l="l" t="t" r="r" b="b"/>
            <a:pathLst>
              <a:path w="1344" h="392">
                <a:moveTo>
                  <a:pt x="0" y="392"/>
                </a:moveTo>
                <a:cubicBezTo>
                  <a:pt x="176" y="252"/>
                  <a:pt x="352" y="112"/>
                  <a:pt x="576" y="56"/>
                </a:cubicBezTo>
                <a:cubicBezTo>
                  <a:pt x="800" y="0"/>
                  <a:pt x="1072" y="28"/>
                  <a:pt x="1344" y="56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en rul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3080" y="7621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”golden ru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reality as it is (and not as it should be), and design your metadata systems according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ld start a constructive feed-back loop that will be more efficient in creating desirable change, than if you try to change reality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If you have a lot of different definitions and value sets for ”the same” variable, your metadata system should accept that, but expose it clearly, so that the organisation hopefully intensifies its standardisation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basic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needs metadata, and for which purpo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kinds of metadata do they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metadata best be pro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keholders and their needs for 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841320"/>
          <a:ext cx="8305920" cy="60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41320"/>
                    <a:ext cx="83059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kinds of 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ta about data (in a narrow s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, direct descriptions of contents, quality, and storage of data and estimated statistical characteristics, e.g. quality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: ”The variable ”income” is defined as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criptions of the processes behind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: ”The editing rules described in … have been applied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criptions of resources used by the proce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.g. data and metadata, forms and rules, methods and tools, equipment,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: ”The software … has been used for making seasonal adjustments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eneral knowledge and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943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here to draw the borderline between metadata systems and other auxiliary sys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metadata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581280"/>
            <a:ext cx="3504960" cy="1371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057400"/>
            <a:ext cx="2514600" cy="1219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 DECLA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MACRO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648320"/>
            <a:ext cx="2057400" cy="838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V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5791320"/>
            <a:ext cx="2057400" cy="838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U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5791320"/>
            <a:ext cx="2057400" cy="838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4648320"/>
            <a:ext cx="2057400" cy="838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RA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057400"/>
            <a:ext cx="2514600" cy="1219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43480" y="685800"/>
            <a:ext cx="2057400" cy="6094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523880"/>
            <a:ext cx="2019600" cy="6098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SAU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295280"/>
            <a:ext cx="0" cy="22860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971800"/>
            <a:ext cx="609840" cy="914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334120" y="2971800"/>
            <a:ext cx="761760" cy="914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27672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7672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648320"/>
            <a:ext cx="68580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50292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4419720"/>
            <a:ext cx="914400" cy="53316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45720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352680" y="4648320"/>
            <a:ext cx="60984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33412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33360" y="4419720"/>
            <a:ext cx="1066680" cy="53316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5720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5410080"/>
            <a:ext cx="990360" cy="685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556272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248520"/>
            <a:ext cx="99072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609588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and sacrif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914400"/>
          <a:ext cx="8001000" cy="5761080"/>
        </p:xfrm>
        <a:graphic>
          <a:graphicData uri="http://schemas.openxmlformats.org/drawingml/2006/table">
            <a:tbl>
              <a:tblPr/>
              <a:tblGrid>
                <a:gridCol w="2039760"/>
                <a:gridCol w="3370320"/>
                <a:gridCol w="25909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KEHO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SACRI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s of statistical 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ier to find, access, and interpret relevant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ivation to participate, easier response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 to relevant experiences from others, learning, efficiency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ofessional recog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cumentation effor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weakened knowledge monop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complaints, less mistakes, learning, improved efficiency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asier to help us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 documentation efforts, weakened knowledge monop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complaints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ess misu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better quality, better feed-back, standardisation facilitated, less dependence on individual per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and costs for using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carce exper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or metadata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er feed-back, easier to judge ”value for money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8600" y="2895480"/>
            <a:ext cx="2057400" cy="2438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otivate and convince the organisation to commit itself to metadata manag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2666880"/>
            <a:ext cx="88390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key persons awar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nefits for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low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thing to every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reduce costs for meta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processes generate metadata as by-products – metadata needed by other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d transform existing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andards – as general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 in well selected and well design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able resources: tools, repos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a target architecture that can be implemented step by ste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nd modified, if necess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Which metadata does a certain process need?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From where can this process get these metadata?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Which metadata could this process provide to 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1:53:06Z</dcterms:created>
  <dc:creator>scbbosu</dc:creator>
  <dc:description/>
  <dc:language>en-US</dc:language>
  <cp:lastModifiedBy>scbbosu</cp:lastModifiedBy>
  <dcterms:modified xsi:type="dcterms:W3CDTF">2004-02-06T15:40:43Z</dcterms:modified>
  <cp:revision>42</cp:revision>
  <dc:subject/>
  <dc:title>PowerPoint-presentation</dc:title>
</cp:coreProperties>
</file>