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274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2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1132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403520"/>
            <a:ext cx="5029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0884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80884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13F4-031E-41DC-A89A-251A528FBF12}" type="slidenum">
              <a:rPr b="0" lang="nl-NL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1132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403520"/>
            <a:ext cx="5029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presentation you will find a short overview of the ideas behind Cristal at Statistics Netherlands and a short description of the latest software developments. The presentation was given by Erik van Bracht at the SOS Steering group meeting in Stockholm 28/29 Septe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BDD4-C9DD-445F-822F-8550EC7B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453B-46CE-43FF-8294-F808C5B4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33CA-3453-47C0-A93B-5DB074B3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7002-5E91-4689-958E-4122F2DB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166D-6331-43A9-92AC-015E18BF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8E9A-3DE0-4F99-8141-A04E44E4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5EFE-294A-44FA-A2F8-05937B91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CFB8-C63B-4B52-AD49-554D7D07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26ED-AE59-46E2-A5DF-47E059EA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669C-9775-429C-AD68-065BB5A5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49A9-C4A0-404E-BD0B-01451B33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200B-BC5F-4FF7-9DF3-648F593B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1071-A91F-4C17-90D8-3F0BB1E7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BE6B-279E-4323-B458-55F37251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2E4C-6EBB-4640-83E5-6CD4695B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AE09-71CB-4DF4-98D1-32DBF69C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3A77-C0A7-4957-B6EE-40532600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D0E6-2BC3-4ABE-B4F9-B2E0B6B8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9E3C-3A92-4E20-8677-FC51DF2E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1C3B-E99F-47DA-88CB-2F38CF84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829-C122-4418-BA98-F4D29206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CF9A-A1FC-45AB-BED9-FA9EC204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8E5-28F2-4AF1-BFA0-AC259C1B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4700-7536-4855-A422-2B35FD71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4680"/>
            <a:ext cx="17543160" cy="13690440"/>
            <a:chOff x="-8410320" y="468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d5b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468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55" swAng="5396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55" swAng="5396755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cc"/>
              </a:buClr>
              <a:buSzPct val="63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ff66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6FC7-78BC-41ED-A563-F712256809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147600" y="5943600"/>
          <a:ext cx="576360" cy="808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00" y="5943600"/>
                    <a:ext cx="57636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"/>
          <p:cNvSpPr/>
          <p:nvPr/>
        </p:nvSpPr>
        <p:spPr>
          <a:xfrm>
            <a:off x="666000" y="6431040"/>
            <a:ext cx="2647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istics Netherl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7758000" y="1464120"/>
            <a:ext cx="16902000" cy="10794240"/>
            <a:chOff x="-7758000" y="1464120"/>
            <a:chExt cx="16902000" cy="10794240"/>
          </a:xfrm>
        </p:grpSpPr>
        <p:sp>
          <p:nvSpPr>
            <p:cNvPr id="48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d5b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7758000" y="1464120"/>
              <a:ext cx="13452120" cy="1079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67EA-44C7-4D12-9118-4CFC2A5AAB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47600" y="5943600"/>
          <a:ext cx="576360" cy="808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00" y="5943600"/>
                    <a:ext cx="57636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666000" y="6431040"/>
            <a:ext cx="2647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istics Netherl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cc"/>
              </a:buClr>
              <a:buSzPct val="63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66ff66"/>
              </a:buClr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22712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RISTAL,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 Model for Data and Metadat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atistics Netherl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rik van Brac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ETIS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9-11 Feb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6960" y="402840"/>
            <a:ext cx="890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tegy of Statistics Netherlan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23760" y="177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: increasing compet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trump ca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h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still modera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s of statistical te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ions to neighbouring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 about statistical proc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rther improve quality and coh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Improve Quality and Coherenc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1200" y="1981080"/>
            <a:ext cx="8542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related organisational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information modeling proble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ity Relationship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DBM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onal Database Management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W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Warehou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L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fied Modeling Langu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ly heterogeneous statistical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modeling paradigms not su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 of CRIS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71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CRISTAL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4160" y="16048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hilosophy behind CRIST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ion of two philosophical disciplin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1800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e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747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e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Par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Dis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747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of the relations between parts and wh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1800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atorial Ont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747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t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To be, to exis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Dis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747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of the existence of objects as logical combinations of prope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CRISTAL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data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ified mereological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al ordering of extendible ‘categories’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ified combinatorial ont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ny logical combination of ‘categories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7800" y="1663560"/>
            <a:ext cx="8931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t to improve coherence and qu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modeling paradigms not sufficient to coordinate data and metadata in case of highly heterogeneous statistical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ISTAL model tries to provide a solution wit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e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atorial ont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ISTAL model works satisfactory at Statistics Netherl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2T13:15:05Z</dcterms:created>
  <dc:creator>RSI</dc:creator>
  <dc:description/>
  <dc:language>en-US</dc:language>
  <cp:lastModifiedBy>van Bracht</cp:lastModifiedBy>
  <dcterms:modified xsi:type="dcterms:W3CDTF">2004-02-07T21:17:01Z</dcterms:modified>
  <cp:revision>198</cp:revision>
  <dc:subject/>
  <dc:title>Software Components &amp; Interfaces</dc:title>
</cp:coreProperties>
</file>