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1132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403520"/>
            <a:ext cx="5029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0884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80884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4D5A-BAD6-4154-BCA9-2EB835391073}" type="slidenum">
              <a:rPr b="0" lang="nl-NL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132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03520"/>
            <a:ext cx="5029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presentation you will find a short overview of the ideas behind Cristal at Statistics Netherlands and a short description of the latest software developments. The presentation was given by Erik van Bracht at the SOS Steering group meeting in Stockholm 28/29 Septe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A85-2BB1-4DB9-B3E8-7D01E97D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B39-6A74-4A00-8547-AB5D12FF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662-E511-4870-8DFA-F9048A2D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AEB-65BF-4E7D-B7B2-C10610BD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D22D-3C21-40AF-AE4E-8B447933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27AB-F509-41F0-AB4F-8EDBFFB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124-1BC3-40CA-B087-9C55CE60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3054-3D2D-4D86-808E-C7B5CC85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835F-47A4-42B2-BF9B-4E68213F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E805-A916-4104-B1E5-1B95ED8B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62B8-A4A4-4918-8BEF-A17C14B7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A20-A805-430B-84C1-77ECA99A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1FD0-E562-448C-A394-3A3CFDE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BFB0-BC62-4614-A7AE-DA7DB93F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339D-3583-4A4F-B495-08C055B7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88F4-6FE8-4667-9E71-91BEFAC2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E034-32E8-4A64-8B0C-B9045462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13F-876A-4679-B09B-50550A8A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500-F0EB-4315-BA65-851B5CB5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5CA-C7F1-4928-A78A-EA23539E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526-3774-4167-8BA7-BF4540D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F13-3446-4144-B41A-893B3A7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0C3-EDE7-4E77-9EA0-C3090C0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199-981B-4857-9A7E-C508DD76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4680"/>
            <a:ext cx="17543160" cy="13690440"/>
            <a:chOff x="-8410320" y="468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d5b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468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cc"/>
              </a:buClr>
              <a:buSzPct val="63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ff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D390-E117-4376-A675-335F2616F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47600" y="5943600"/>
          <a:ext cx="576360" cy="80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00" y="5943600"/>
                    <a:ext cx="57636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666000" y="6431040"/>
            <a:ext cx="264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tics Nether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58000" y="1464120"/>
            <a:ext cx="16902000" cy="10794240"/>
            <a:chOff x="-7758000" y="1464120"/>
            <a:chExt cx="16902000" cy="1079424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d5b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58000" y="1464120"/>
              <a:ext cx="13452120" cy="1079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B0E6-94E0-479F-A914-4C189A4D3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7600" y="5943600"/>
          <a:ext cx="576360" cy="80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00" y="5943600"/>
                    <a:ext cx="57636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66000" y="6431040"/>
            <a:ext cx="264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tics Nether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cc"/>
              </a:buClr>
              <a:buSzPct val="63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ff66"/>
              </a:buClr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712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ISTAL,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Model for Data and Meta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istics Nether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rik van Brac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TIS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9-11 Feb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6960" y="40284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tegy of Statistics Netherlan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3760" y="177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 increasing 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trump ca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till modera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s of statistical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s to neighbouring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bout statistical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ther improve quality and co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mprove Quality and Coherenc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200" y="1981080"/>
            <a:ext cx="854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lated organisation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information modeling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y Relationship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BM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al Database Management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W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Ware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L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y heterogeneous statistic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modeling paradigms not su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RIS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RISTAL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4160" y="16048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ilosophy behind CRIST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of two philosophical discipli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18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e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74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e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a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Dis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4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of the relations between parts and wh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18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orial Ont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74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To be, to exi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Dis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4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of the existence of objects as logical combinations of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RISTAL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data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d mereological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ordering of extendible ‘categories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d combinatorial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y logical combination of ‘categorie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7800" y="1663560"/>
            <a:ext cx="8931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to improve coherence an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modeling paradigms not sufficient to coordinate data and metadata in case of highly heterogeneous statistic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ISTAL model tries to provide a solution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e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orial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ISTAL model works satisfactory at Statistics Netherl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13:15:05Z</dcterms:created>
  <dc:creator>RSI</dc:creator>
  <dc:description/>
  <dc:language>en-US</dc:language>
  <cp:lastModifiedBy>van Bracht</cp:lastModifiedBy>
  <dcterms:modified xsi:type="dcterms:W3CDTF">2004-02-07T21:17:01Z</dcterms:modified>
  <cp:revision>198</cp:revision>
  <dc:subject/>
  <dc:title>Software Components &amp; Interfaces</dc:title>
</cp:coreProperties>
</file>