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871458-F2C8-4473-BB5A-8CCD83FE8A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2768C-2216-4076-ACB1-A9AD4B420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BC8C5E-88AE-4809-A1C5-609575FC8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B520ED-F369-472B-A225-A42644FB2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EC6584-D0CD-4FF1-B2FC-5A7DB7BAA6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FB595F-393C-4DF0-B1B6-283FF63F89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A6D3FA-254C-48DF-B184-68EFC7FAAB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7008F-CE7C-47EA-840D-31F9F5B07D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FE1DF1-9E9A-42D5-899B-00D0F53159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EE6080-02B8-4719-AC17-80EED86AE7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D3ED4-2569-4F3F-8F33-ECA630D391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F003E-1C49-4A92-ABA9-1B80EC426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EEFC7-FE10-4377-93FD-ABF2DB457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62622-A5D8-41C4-9BFF-96F896DC9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A54EC6-DD06-4FC0-B86D-73CDB3907A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B90F54-9740-4C0E-9FA7-ABF1C5E048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8C65EC-B9EF-418F-BA7A-829B2E707E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46ED4-E1B1-4AD0-BA4D-350509832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751C8-37E6-4E6F-A055-C2D045E90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6A850-B3D1-41AB-911A-381A2DEFB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B69FC-8835-4B33-B889-27D585497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1DBE6-66B1-403E-8AAF-182ED3E3D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11B6D-97FC-43B2-B4B6-73EF41563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F0011-838A-4180-B3E8-8513962C4E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17B81-B09B-4DFE-BFBF-A4B1974A7C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EC036-1266-4786-BC58-28C21BE6EC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221304"/>
                </a:solidFill>
                <a:latin typeface="Times New Roman"/>
                <a:ea typeface="Times New Roman"/>
              </a:rPr>
              <a:t>Which came first – terminology or models?</a:t>
            </a:r>
            <a:r>
              <a:rPr b="0" lang="cs-CZ"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91"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Contributed Paper</a:t>
            </a:r>
            <a:r>
              <a:rPr b="1" lang="cs-CZ" sz="3200" spc="-1" strike="noStrike">
                <a:solidFill>
                  <a:srgbClr val="000000"/>
                </a:solidFill>
                <a:latin typeface="Times New Roman"/>
              </a:rPr>
              <a:t> No. 28</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Miroslava Brchanov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93A25CD6-999E-4A42-9DD9-E3558F9B88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21304"/>
                </a:solidFill>
                <a:latin typeface="Times New Roman"/>
                <a:ea typeface="Times New Roman"/>
              </a:rPr>
              <a:t>   </a:t>
            </a:r>
            <a:br>
              <a:rPr sz="4400"/>
            </a:br>
            <a:r>
              <a:rPr b="1" lang="en-GB" sz="2800" spc="-1" strike="noStrike">
                <a:solidFill>
                  <a:srgbClr val="221304"/>
                </a:solidFill>
                <a:latin typeface="Times New Roman"/>
                <a:ea typeface="Times New Roman"/>
              </a:rPr>
              <a:t>three basic groups of relative indicators</a:t>
            </a:r>
            <a:r>
              <a:rPr b="0" lang="en-GB" sz="2800" spc="-1" strike="noStrike">
                <a:solidFill>
                  <a:srgbClr val="221304"/>
                </a:solidFill>
                <a:latin typeface="Times New Roman"/>
                <a:ea typeface="Times New Roman"/>
              </a:rPr>
              <a:t>:</a:t>
            </a:r>
            <a:br>
              <a:rPr sz="2800"/>
            </a:br>
            <a:endParaRPr b="0" lang="en-US" sz="2800" spc="-1" strike="noStrike">
              <a:solidFill>
                <a:srgbClr val="221304"/>
              </a:solidFill>
              <a:latin typeface="Times New Roman"/>
            </a:endParaRPr>
          </a:p>
        </p:txBody>
      </p:sp>
      <p:sp>
        <p:nvSpPr>
          <p:cNvPr id="133" name="PlaceHolder 2"/>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lative indicators originated as a proportion of two different indicators, the values of which are expressed in different measurement units (work productivity as a proportion of production and number of workers, prices, GDP per 1 inhabitant, etc.). Here you can put also relative indicators which have average character (average rain falls, average water flow, etc.).</a:t>
            </a:r>
            <a:r>
              <a:rPr b="0" lang="cs-CZ"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lative indicators originated as proportion of two different indicators, the values of which are expressed in the same measurement units (production costs, investment rate, etc.).</a:t>
            </a:r>
            <a:r>
              <a:rPr b="0" lang="cs-CZ"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7B69C8-874A-4267-A9A3-4EA7B5C70B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066320" y="457200"/>
            <a:ext cx="7620120" cy="5410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lative indicators which have a character of structural figures, i.e. proportion of the part in the total (proportion of protected territories in the total territory area, etc.).</a:t>
            </a:r>
            <a:r>
              <a:rPr b="0" lang="cs-CZ"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     </a:t>
            </a:r>
            <a:r>
              <a:rPr b="1" lang="en-GB" sz="2400" spc="-1" strike="noStrike">
                <a:solidFill>
                  <a:srgbClr val="000000"/>
                </a:solidFill>
                <a:latin typeface="Times New Roman"/>
                <a:ea typeface="Times New Roman"/>
              </a:rPr>
              <a:t>Indices, absolute differences and other similar differences are instruments for comparisons and instruments for analysing the results of comparisons. The indicators themselves can speak about some reality, but they do not make their assessment, while the indices and absolute plus differences measure the difference of two values of the same indicator, analytical measures or difference make the evaluation of such differences.</a:t>
            </a:r>
            <a:r>
              <a:rPr b="0" lang="cs-CZ"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8B9BED5-3804-48B5-8871-A7FB272C31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5" name=""/>
          <p:cNvSpPr/>
          <p:nvPr/>
        </p:nvSpPr>
        <p:spPr>
          <a:xfrm>
            <a:off x="1371600" y="1600200"/>
            <a:ext cx="70102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Index</a:t>
            </a:r>
            <a:r>
              <a:rPr b="0" lang="en-GB" sz="2400" spc="-1" strike="noStrike">
                <a:solidFill>
                  <a:srgbClr val="000000"/>
                </a:solidFill>
                <a:latin typeface="Times New Roman"/>
                <a:ea typeface="Times New Roman"/>
              </a:rPr>
              <a:t> is a relative measurement unit of difference. It is dimensionless figure showing how many times is value in the numerator higher (or lower), than the value in the denominat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Absolute increase</a:t>
            </a:r>
            <a:r>
              <a:rPr b="0" lang="en-GB" sz="2400" spc="-1" strike="noStrike">
                <a:solidFill>
                  <a:srgbClr val="000000"/>
                </a:solidFill>
                <a:latin typeface="Times New Roman"/>
                <a:ea typeface="Times New Roman"/>
              </a:rPr>
              <a:t> than shows the difference value of minuend and subtrahend. E.g. if the profit in the company Alpha was in 2002 180 million CZK and in 2003 200 millions, then we know that the profit of Alpha company has increased 1,1 times, or in fact by 11% (index), i.e. by 20 million CZK (absolute difference).</a:t>
            </a:r>
            <a:r>
              <a:rPr b="0" lang="cs-CZ"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1145FB1-C86E-49E1-8A54-46D1760115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
          <p:cNvSpPr/>
          <p:nvPr/>
        </p:nvSpPr>
        <p:spPr>
          <a:xfrm>
            <a:off x="1295280" y="609480"/>
            <a:ext cx="716292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the process of preparing the article we confronted the problem of translating the terminology utilized at the national level. For many years the Czech statistics has been using the term </a:t>
            </a:r>
            <a:r>
              <a:rPr b="1" lang="en-US" sz="2400" spc="-1" strike="noStrike">
                <a:solidFill>
                  <a:srgbClr val="000000"/>
                </a:solidFill>
                <a:latin typeface="Times New Roman"/>
                <a:ea typeface="Times New Roman"/>
              </a:rPr>
              <a:t>“indicator”</a:t>
            </a:r>
            <a:r>
              <a:rPr b="0" lang="en-US" sz="2400" spc="-1" strike="noStrike">
                <a:solidFill>
                  <a:srgbClr val="000000"/>
                </a:solidFill>
                <a:latin typeface="Times New Roman"/>
                <a:ea typeface="Times New Roman"/>
              </a:rPr>
              <a:t> in the sense which has no completely adequate expression in English. In prepared SDMX vocabulary we found out that the translation used by us is not correct. After having studied the latest version of vocabulary draft we agreed that probably the closest expression would be to say </a:t>
            </a:r>
            <a:r>
              <a:rPr b="1" lang="en-US" sz="2400" spc="-1" strike="noStrike">
                <a:solidFill>
                  <a:srgbClr val="000000"/>
                </a:solidFill>
                <a:latin typeface="Times New Roman"/>
                <a:ea typeface="Times New Roman"/>
              </a:rPr>
              <a:t>“concept or statistical concept”.</a:t>
            </a:r>
            <a:r>
              <a:rPr b="0" lang="en-US" sz="2400" spc="-1" strike="noStrike">
                <a:solidFill>
                  <a:srgbClr val="000000"/>
                </a:solidFill>
                <a:latin typeface="Times New Roman"/>
                <a:ea typeface="Times New Roman"/>
              </a:rPr>
              <a:t> The closest term “index” probably means  “index numb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is solution has been accepted because currently there are no adequate English expression for these Czech ter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A9AAF72-7418-4373-8929-88DC4491F83B}"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21304"/>
                </a:solidFill>
                <a:latin typeface="Times New Roman"/>
                <a:ea typeface="Times New Roman"/>
              </a:rPr>
              <a:t>What is currently included in the CZSO METIS?</a:t>
            </a:r>
            <a:br>
              <a:rPr sz="2800"/>
            </a:br>
            <a:endParaRPr b="0" lang="en-US" sz="2800" spc="-1" strike="noStrike">
              <a:solidFill>
                <a:srgbClr val="221304"/>
              </a:solidFill>
              <a:latin typeface="Times New Roman"/>
            </a:endParaRPr>
          </a:p>
        </p:txBody>
      </p:sp>
      <p:sp>
        <p:nvSpPr>
          <p:cNvPr id="9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METIS indicators</a:t>
            </a:r>
            <a:r>
              <a:rPr b="0" lang="en-GB"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oncepts + </a:t>
            </a:r>
            <a:r>
              <a:rPr b="0" lang="en-GB" sz="2800" spc="-1" strike="noStrike">
                <a:solidFill>
                  <a:srgbClr val="000000"/>
                </a:solidFill>
                <a:latin typeface="Times New Roman"/>
                <a:ea typeface="Times New Roman"/>
              </a:rPr>
              <a:t>characteristics)</a:t>
            </a:r>
            <a:r>
              <a:rPr b="0" lang="cs-CZ"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METIS code books (classifications)</a:t>
            </a:r>
            <a:r>
              <a:rPr b="0" lang="cs-CZ"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RES (including statistical units).</a:t>
            </a:r>
            <a:r>
              <a:rPr b="0" lang="cs-CZ"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imes New Roman"/>
              </a:rPr>
              <a:t>    </a:t>
            </a:r>
            <a:r>
              <a:rPr b="0" lang="en-GB" sz="2800" spc="-1" strike="noStrike">
                <a:solidFill>
                  <a:srgbClr val="000000"/>
                </a:solidFill>
                <a:latin typeface="Times New Roman"/>
                <a:ea typeface="Times New Roman"/>
              </a:rPr>
              <a:t>Mutually linked can only be parts of their</a:t>
            </a:r>
            <a:r>
              <a:rPr b="0" lang="cs-CZ" sz="2800" spc="-1" strike="noStrike">
                <a:solidFill>
                  <a:srgbClr val="000000"/>
                </a:solidFill>
                <a:latin typeface="Times New Roman"/>
              </a:rPr>
              <a:t> </a:t>
            </a:r>
            <a:r>
              <a:rPr b="0" lang="en-GB" sz="2800" spc="-1" strike="noStrike">
                <a:solidFill>
                  <a:srgbClr val="000000"/>
                </a:solidFill>
                <a:latin typeface="Times New Roman"/>
                <a:ea typeface="Times New Roman"/>
              </a:rPr>
              <a:t>indicators, code books and prepared PDB</a:t>
            </a:r>
            <a:r>
              <a:rPr b="0" lang="cs-CZ"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F6A6BB8-3C4B-4251-A617-006731F32F2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21304"/>
                </a:solidFill>
                <a:latin typeface="Times New Roman"/>
                <a:ea typeface="Times New Roman"/>
              </a:rPr>
              <a:t>Description of indicators provides:</a:t>
            </a:r>
            <a:br>
              <a:rPr sz="3200"/>
            </a:br>
            <a:endParaRPr b="0" lang="en-US" sz="3200" spc="-1" strike="noStrike">
              <a:solidFill>
                <a:srgbClr val="221304"/>
              </a:solidFill>
              <a:latin typeface="Times New Roman"/>
            </a:endParaRPr>
          </a:p>
        </p:txBody>
      </p:sp>
      <p:sp>
        <p:nvSpPr>
          <p:cNvPr id="9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control of content and grouping of statistical indicators (concepts + characteristics), variables and indices (index number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detailed identification of statistical information content inevitable for securing content unification of the information in the process of surveying, processing and for analytical activities</a:t>
            </a:r>
            <a:r>
              <a:rPr b="0" lang="cs-CZ"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19D56F-9904-4FD3-A3BC-CDD391DC096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990720" y="1752480"/>
            <a:ext cx="761976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base for creation of the data fund description</a:t>
            </a:r>
            <a:r>
              <a:rPr b="0" lang="cs-CZ"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imes New Roman"/>
              </a:rPr>
              <a:t>    </a:t>
            </a:r>
            <a:r>
              <a:rPr b="0" lang="en-GB" sz="2800" spc="-1" strike="noStrike">
                <a:solidFill>
                  <a:srgbClr val="000000"/>
                </a:solidFill>
                <a:latin typeface="Times New Roman"/>
                <a:ea typeface="Times New Roman"/>
              </a:rPr>
              <a:t>creation of unified metadata concentrated at one accessible place</a:t>
            </a:r>
            <a:r>
              <a:rPr b="0" lang="cs-CZ"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lling in the PDB has been started by creation of active form of CZSO yearbook. The problem, we have encountered, is the problem of specification, calculation, names and definitions of derived indicator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4361DC69-FE20-405E-950F-6D00BE6EF2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7" name=""/>
          <p:cNvSpPr/>
          <p:nvPr/>
        </p:nvSpPr>
        <p:spPr>
          <a:xfrm>
            <a:off x="3240" y="218592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xample: </a:t>
            </a:r>
            <a:endParaRPr b="0" lang="en-US" sz="12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98" name=""/>
          <p:cNvGrpSpPr/>
          <p:nvPr/>
        </p:nvGrpSpPr>
        <p:grpSpPr>
          <a:xfrm>
            <a:off x="1066680" y="1295280"/>
            <a:ext cx="7696080" cy="3961800"/>
            <a:chOff x="1066680" y="1295280"/>
            <a:chExt cx="7696080" cy="3961800"/>
          </a:xfrm>
        </p:grpSpPr>
        <p:grpSp>
          <p:nvGrpSpPr>
            <p:cNvPr id="99" name=""/>
            <p:cNvGrpSpPr/>
            <p:nvPr/>
          </p:nvGrpSpPr>
          <p:grpSpPr>
            <a:xfrm>
              <a:off x="1072440" y="1305000"/>
              <a:ext cx="7683840" cy="3940560"/>
              <a:chOff x="1072440" y="1305000"/>
              <a:chExt cx="7683840" cy="3940560"/>
            </a:xfrm>
          </p:grpSpPr>
          <p:grpSp>
            <p:nvGrpSpPr>
              <p:cNvPr id="100" name=""/>
              <p:cNvGrpSpPr/>
              <p:nvPr/>
            </p:nvGrpSpPr>
            <p:grpSpPr>
              <a:xfrm>
                <a:off x="1072440" y="1305000"/>
                <a:ext cx="2320920" cy="1367280"/>
                <a:chOff x="1072440" y="1305000"/>
                <a:chExt cx="2320920" cy="1367280"/>
              </a:xfrm>
            </p:grpSpPr>
            <p:sp>
              <p:nvSpPr>
                <p:cNvPr id="101" name=""/>
                <p:cNvSpPr/>
                <p:nvPr/>
              </p:nvSpPr>
              <p:spPr>
                <a:xfrm>
                  <a:off x="1072440" y="1305000"/>
                  <a:ext cx="2320920" cy="1367280"/>
                </a:xfrm>
                <a:prstGeom prst="rect">
                  <a:avLst/>
                </a:prstGeom>
                <a:solidFill>
                  <a:srgbClr val="f3f3f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102" name=""/>
                <p:cNvGrpSpPr/>
                <p:nvPr/>
              </p:nvGrpSpPr>
              <p:grpSpPr>
                <a:xfrm>
                  <a:off x="1072440" y="1305000"/>
                  <a:ext cx="2320560" cy="1366560"/>
                  <a:chOff x="1072440" y="1305000"/>
                  <a:chExt cx="2320560" cy="1366560"/>
                </a:xfrm>
              </p:grpSpPr>
              <p:sp>
                <p:nvSpPr>
                  <p:cNvPr id="103" name=""/>
                  <p:cNvSpPr/>
                  <p:nvPr/>
                </p:nvSpPr>
                <p:spPr>
                  <a:xfrm>
                    <a:off x="1127880" y="1305000"/>
                    <a:ext cx="2208960" cy="136656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ame of the indicator</a:t>
                    </a:r>
                    <a:endParaRPr b="0" lang="en-US" sz="24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1072440" y="1305000"/>
                    <a:ext cx="2320560" cy="1366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105" name=""/>
              <p:cNvGrpSpPr/>
              <p:nvPr/>
            </p:nvGrpSpPr>
            <p:grpSpPr>
              <a:xfrm>
                <a:off x="3393720" y="1305000"/>
                <a:ext cx="2552040" cy="1367280"/>
                <a:chOff x="3393720" y="1305000"/>
                <a:chExt cx="2552040" cy="1367280"/>
              </a:xfrm>
            </p:grpSpPr>
            <p:sp>
              <p:nvSpPr>
                <p:cNvPr id="106" name=""/>
                <p:cNvSpPr/>
                <p:nvPr/>
              </p:nvSpPr>
              <p:spPr>
                <a:xfrm>
                  <a:off x="3393720" y="1305000"/>
                  <a:ext cx="2552040" cy="1367280"/>
                </a:xfrm>
                <a:prstGeom prst="rect">
                  <a:avLst/>
                </a:prstGeom>
                <a:solidFill>
                  <a:srgbClr val="f3f3f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107" name=""/>
                <p:cNvGrpSpPr/>
                <p:nvPr/>
              </p:nvGrpSpPr>
              <p:grpSpPr>
                <a:xfrm>
                  <a:off x="3393720" y="1305000"/>
                  <a:ext cx="2551680" cy="1366560"/>
                  <a:chOff x="3393720" y="1305000"/>
                  <a:chExt cx="2551680" cy="1366560"/>
                </a:xfrm>
              </p:grpSpPr>
              <p:sp>
                <p:nvSpPr>
                  <p:cNvPr id="108" name=""/>
                  <p:cNvSpPr/>
                  <p:nvPr/>
                </p:nvSpPr>
                <p:spPr>
                  <a:xfrm>
                    <a:off x="3449160" y="1305000"/>
                    <a:ext cx="2440440" cy="136656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efinition of the indicator</a:t>
                    </a:r>
                    <a:endParaRPr b="0" lang="en-US" sz="24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3393720" y="1305000"/>
                    <a:ext cx="2551680" cy="1366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110" name=""/>
              <p:cNvGrpSpPr/>
              <p:nvPr/>
            </p:nvGrpSpPr>
            <p:grpSpPr>
              <a:xfrm>
                <a:off x="5946480" y="1305000"/>
                <a:ext cx="2809800" cy="1367280"/>
                <a:chOff x="5946480" y="1305000"/>
                <a:chExt cx="2809800" cy="1367280"/>
              </a:xfrm>
            </p:grpSpPr>
            <p:sp>
              <p:nvSpPr>
                <p:cNvPr id="111" name=""/>
                <p:cNvSpPr/>
                <p:nvPr/>
              </p:nvSpPr>
              <p:spPr>
                <a:xfrm>
                  <a:off x="5946480" y="1305000"/>
                  <a:ext cx="2809800" cy="1367280"/>
                </a:xfrm>
                <a:prstGeom prst="rect">
                  <a:avLst/>
                </a:prstGeom>
                <a:solidFill>
                  <a:srgbClr val="f3f3f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112" name=""/>
                <p:cNvGrpSpPr/>
                <p:nvPr/>
              </p:nvGrpSpPr>
              <p:grpSpPr>
                <a:xfrm>
                  <a:off x="5946480" y="1305000"/>
                  <a:ext cx="2809440" cy="1366560"/>
                  <a:chOff x="5946480" y="1305000"/>
                  <a:chExt cx="2809440" cy="1366560"/>
                </a:xfrm>
              </p:grpSpPr>
              <p:sp>
                <p:nvSpPr>
                  <p:cNvPr id="113" name=""/>
                  <p:cNvSpPr/>
                  <p:nvPr/>
                </p:nvSpPr>
                <p:spPr>
                  <a:xfrm>
                    <a:off x="6002280" y="1305000"/>
                    <a:ext cx="2697480" cy="136656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alculation of the indicator</a:t>
                    </a:r>
                    <a:endParaRPr b="0" lang="en-US" sz="24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5946480" y="1305000"/>
                    <a:ext cx="2809440" cy="1366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115" name=""/>
              <p:cNvGrpSpPr/>
              <p:nvPr/>
            </p:nvGrpSpPr>
            <p:grpSpPr>
              <a:xfrm>
                <a:off x="1072440" y="2673000"/>
                <a:ext cx="2320920" cy="2572560"/>
                <a:chOff x="1072440" y="2673000"/>
                <a:chExt cx="2320920" cy="2572560"/>
              </a:xfrm>
            </p:grpSpPr>
            <p:sp>
              <p:nvSpPr>
                <p:cNvPr id="116" name=""/>
                <p:cNvSpPr/>
                <p:nvPr/>
              </p:nvSpPr>
              <p:spPr>
                <a:xfrm>
                  <a:off x="1127880" y="2673000"/>
                  <a:ext cx="2209320" cy="25725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Energy process efficiency rate</a:t>
                  </a:r>
                  <a:endParaRPr b="0" lang="en-US" sz="24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1072440" y="2673000"/>
                  <a:ext cx="2320920" cy="2572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3393720" y="2673000"/>
                <a:ext cx="2552040" cy="2572560"/>
                <a:chOff x="3393720" y="2673000"/>
                <a:chExt cx="2552040" cy="2572560"/>
              </a:xfrm>
            </p:grpSpPr>
            <p:sp>
              <p:nvSpPr>
                <p:cNvPr id="119" name=""/>
                <p:cNvSpPr/>
                <p:nvPr/>
              </p:nvSpPr>
              <p:spPr>
                <a:xfrm>
                  <a:off x="3449160" y="2673000"/>
                  <a:ext cx="2440800" cy="257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It concerns measuring of the energy</a:t>
                  </a:r>
                  <a:r>
                    <a:rPr b="1" lang="en-GB" sz="12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use efficiency</a:t>
                  </a:r>
                  <a:endParaRPr b="0" lang="en-US" sz="24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3393720" y="2673000"/>
                  <a:ext cx="2552040" cy="2572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5946480" y="2673000"/>
                <a:ext cx="2809800" cy="2572560"/>
                <a:chOff x="5946480" y="2673000"/>
                <a:chExt cx="2809800" cy="2572560"/>
              </a:xfrm>
            </p:grpSpPr>
            <p:sp>
              <p:nvSpPr>
                <p:cNvPr id="122" name=""/>
                <p:cNvSpPr/>
                <p:nvPr/>
              </p:nvSpPr>
              <p:spPr>
                <a:xfrm>
                  <a:off x="6002280" y="2673000"/>
                  <a:ext cx="2697840" cy="2572560"/>
                </a:xfrm>
                <a:prstGeom prst="rect">
                  <a:avLst/>
                </a:prstGeom>
                <a:noFill/>
                <a:ln w="0">
                  <a:noFill/>
                </a:ln>
              </p:spPr>
              <p:style>
                <a:lnRef idx="0"/>
                <a:fillRef idx="0"/>
                <a:effectRef idx="0"/>
                <a:fontRef idx="minor"/>
              </p:style>
              <p:txBody>
                <a:bodyPr lIns="90000" rIns="90000" tIns="46800" bIns="0" anchor="t">
                  <a:no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ea typeface="Times New Roman"/>
                    </a:rPr>
                    <a:t>Total energy output</a:t>
                  </a:r>
                  <a:endParaRPr b="0" lang="en-US" sz="20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Total energy input</a:t>
                  </a:r>
                  <a:endParaRPr b="0" lang="en-US" sz="20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 100 </a:t>
                  </a:r>
                  <a:r>
                    <a:rPr b="1" lang="cs-CZ" sz="2000" spc="-1" strike="noStrike">
                      <a:solidFill>
                        <a:srgbClr val="000000"/>
                      </a:solidFill>
                      <a:latin typeface="Times New Roman"/>
                    </a:rPr>
                    <a:t>(%)</a:t>
                  </a:r>
                  <a:endParaRPr b="0" lang="en-US" sz="20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5946480" y="2673000"/>
                  <a:ext cx="2809800" cy="2572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124" name=""/>
            <p:cNvSpPr/>
            <p:nvPr/>
          </p:nvSpPr>
          <p:spPr>
            <a:xfrm>
              <a:off x="1066680" y="1295280"/>
              <a:ext cx="7696080" cy="396180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506B7628-BCBA-4885-9EBA-29B00CE955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5" name=""/>
          <p:cNvSpPr/>
          <p:nvPr/>
        </p:nvSpPr>
        <p:spPr>
          <a:xfrm>
            <a:off x="1371600" y="838080"/>
            <a:ext cx="693432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is possible to create a relative indicator as a function of absolute indicators stored in the database, in a way that you define their corresponding function (usually their proportion). But you cannot in this way create the names (and often also even definitions) of relative indicators. </a:t>
            </a:r>
            <a:endParaRPr b="0" lang="en-US" sz="24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g. the indicator which has originated as the proportion of production and number of employees, is called “Work productivity”. You cannot create for it only a technical name like “Proportion of production per 1 employee”. Similarly it concerns terms ”Population density”, “Specific emissions” etc.</a:t>
            </a:r>
            <a:endParaRPr b="0" lang="en-US" sz="24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D476B6F-8712-49D2-BD86-1D4E12BC7A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1304"/>
                </a:solidFill>
                <a:latin typeface="Times New Roman"/>
              </a:rPr>
              <a:t>Definitions that we established</a:t>
            </a:r>
            <a:endParaRPr b="0" lang="en-US" sz="3200" spc="-1" strike="noStrike">
              <a:solidFill>
                <a:srgbClr val="221304"/>
              </a:solidFill>
              <a:latin typeface="Times New Roman"/>
            </a:endParaRPr>
          </a:p>
        </p:txBody>
      </p:sp>
      <p:sp>
        <p:nvSpPr>
          <p:cNvPr id="127" name=""/>
          <p:cNvSpPr/>
          <p:nvPr/>
        </p:nvSpPr>
        <p:spPr>
          <a:xfrm>
            <a:off x="1066680" y="2133720"/>
            <a:ext cx="76201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Primary indicators</a:t>
            </a:r>
            <a:r>
              <a:rPr b="0" lang="en-GB" sz="2400" spc="-1" strike="noStrike">
                <a:solidFill>
                  <a:srgbClr val="000000"/>
                </a:solidFill>
                <a:latin typeface="Times New Roman"/>
                <a:ea typeface="Times New Roman"/>
              </a:rPr>
              <a:t> are the indicators surveyed directly, not derived, e.g. time worked, number of employees at certain date, stocks volume etc. It concerns indicators where you can simply specify the sort of the characteristic (e.g. average, total, standard deviation, meridian), statistical units or objects (e.g. school, enterprise, person) and also variables (e.g. age of a student, production, height). You can do some more mathematical operations with these indicators (e.g. division, subtraction).</a:t>
            </a:r>
            <a:r>
              <a:rPr b="0" lang="cs-CZ"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1F8D060-5342-4A8D-B044-D997BC102C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533160"/>
            <a:ext cx="76201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1304"/>
                </a:solidFill>
                <a:latin typeface="Times New Roman"/>
                <a:ea typeface="Times New Roman"/>
              </a:rPr>
              <a:t>Another sort of indicators are the </a:t>
            </a:r>
            <a:r>
              <a:rPr b="1" lang="en-GB" sz="2400" spc="-1" strike="noStrike">
                <a:solidFill>
                  <a:srgbClr val="221304"/>
                </a:solidFill>
                <a:latin typeface="Times New Roman"/>
                <a:ea typeface="Times New Roman"/>
              </a:rPr>
              <a:t>secondary, derived indicators</a:t>
            </a:r>
            <a:r>
              <a:rPr b="0" lang="en-GB" sz="2400" spc="-1" strike="noStrike">
                <a:solidFill>
                  <a:srgbClr val="221304"/>
                </a:solidFill>
                <a:latin typeface="Times New Roman"/>
                <a:ea typeface="Times New Roman"/>
              </a:rPr>
              <a:t>, which may occur three ways:</a:t>
            </a:r>
            <a:br>
              <a:rPr sz="2400"/>
            </a:br>
            <a:endParaRPr b="0" lang="en-US" sz="2400" spc="-1" strike="noStrike">
              <a:solidFill>
                <a:srgbClr val="221304"/>
              </a:solidFill>
              <a:latin typeface="Times New Roman"/>
            </a:endParaRPr>
          </a:p>
        </p:txBody>
      </p:sp>
      <p:sp>
        <p:nvSpPr>
          <p:cNvPr id="129" name="PlaceHolder 2"/>
          <p:cNvSpPr>
            <a:spLocks noGrp="1"/>
          </p:cNvSpPr>
          <p:nvPr>
            <p:ph/>
          </p:nvPr>
        </p:nvSpPr>
        <p:spPr>
          <a:xfrm>
            <a:off x="1294920" y="1752480"/>
            <a:ext cx="716292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s a function (usually the difference or proportion) of various primary indicators – e.g. profit, value added, etc.;</a:t>
            </a:r>
            <a:r>
              <a:rPr b="0" lang="cs-CZ"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s a function of various values of the same primary indicator – here we can name all type averages, structure indicators like gross turnover;</a:t>
            </a:r>
            <a:r>
              <a:rPr b="0" lang="cs-CZ"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s a function of  more than two primary indicators (i.e. combination of preceding proceedings); as an example we can mention relative indicators, where at least one is an arithmetic average (work productivity per 1 labourer) or the function of more primary indicators (value added proportion in the total production).</a:t>
            </a:r>
            <a:r>
              <a:rPr b="0" lang="cs-CZ"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53B4E6F-3B44-4CD5-8477-FE0B7CF4BD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685800"/>
            <a:ext cx="7696440" cy="914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21304"/>
                </a:solidFill>
                <a:latin typeface="Times New Roman"/>
                <a:ea typeface="Times New Roman"/>
              </a:rPr>
              <a:t>Besides the indicators’ classification to primary and secondary, the classification of indicators to absolute and relative is also important.</a:t>
            </a:r>
            <a:r>
              <a:rPr b="0" lang="en-GB" sz="4400" spc="-1" strike="noStrike">
                <a:solidFill>
                  <a:srgbClr val="221304"/>
                </a:solidFill>
                <a:latin typeface="Times New Roman"/>
                <a:ea typeface="Times New Roman"/>
              </a:rPr>
              <a:t> </a:t>
            </a:r>
            <a:endParaRPr b="0" lang="en-US" sz="4400" spc="-1" strike="noStrike">
              <a:solidFill>
                <a:srgbClr val="221304"/>
              </a:solidFill>
              <a:latin typeface="Times New Roman"/>
            </a:endParaRPr>
          </a:p>
        </p:txBody>
      </p:sp>
      <p:sp>
        <p:nvSpPr>
          <p:cNvPr id="131" name="PlaceHolder 2"/>
          <p:cNvSpPr>
            <a:spLocks noGrp="1"/>
          </p:cNvSpPr>
          <p:nvPr>
            <p:ph/>
          </p:nvPr>
        </p:nvSpPr>
        <p:spPr>
          <a:xfrm>
            <a:off x="1066320" y="1905120"/>
            <a:ext cx="7620120" cy="3962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Absolute indicators</a:t>
            </a:r>
            <a:r>
              <a:rPr b="0" lang="en-GB" sz="2400" spc="-1" strike="noStrike">
                <a:solidFill>
                  <a:srgbClr val="000000"/>
                </a:solidFill>
                <a:latin typeface="Times New Roman"/>
                <a:ea typeface="Times New Roman"/>
              </a:rPr>
              <a:t> express the extent of certain phenomenon without any relation to other phenomenon. To this category belong all primary indicators and also some secondary indicators (time averages, indicators of gross turnover, etc).</a:t>
            </a:r>
            <a:r>
              <a:rPr b="0" lang="cs-CZ"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elative indicators </a:t>
            </a:r>
            <a:r>
              <a:rPr b="0" lang="en-GB" sz="2400" spc="-1" strike="noStrike">
                <a:solidFill>
                  <a:srgbClr val="000000"/>
                </a:solidFill>
                <a:latin typeface="Times New Roman"/>
                <a:ea typeface="Times New Roman"/>
              </a:rPr>
              <a:t>express the size of one phenomenon per one measurement unit of other phenomenon. Relative indicators are always secondary, as they are created as propo</a:t>
            </a:r>
            <a:r>
              <a:rPr b="0" lang="cs-CZ" sz="2400" spc="-1" strike="noStrike">
                <a:solidFill>
                  <a:srgbClr val="000000"/>
                </a:solidFill>
                <a:latin typeface="Times New Roman"/>
              </a:rPr>
              <a:t>r</a:t>
            </a:r>
            <a:r>
              <a:rPr b="0" lang="en-GB" sz="2400" spc="-1" strike="noStrike">
                <a:solidFill>
                  <a:srgbClr val="000000"/>
                </a:solidFill>
                <a:latin typeface="Times New Roman"/>
                <a:ea typeface="Times New Roman"/>
              </a:rPr>
              <a:t>tion of absolute (primary and also secondary) indicators.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F7712F-C7A0-46B7-8081-8538599124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8T15:01:46Z</dcterms:created>
  <dc:creator>System Service</dc:creator>
  <dc:description/>
  <dc:language>en-US</dc:language>
  <cp:lastModifiedBy>System Service</cp:lastModifiedBy>
  <dcterms:modified xsi:type="dcterms:W3CDTF">2004-02-06T08:37:21Z</dcterms:modified>
  <cp:revision>40</cp:revision>
  <dc:subject/>
  <dc:title>Which came first – terminology or models? </dc:title>
</cp:coreProperties>
</file>