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A252-D7C7-44C5-855B-6F0002009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1945-CE3D-46A9-9C54-CACE6AB9A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60FB-4A73-45B2-8CD1-CF097D9A1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1C4E-590A-4C13-8496-5AA8718D2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37189-1B8C-493A-943B-457CCE2FD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9D47F-4A9D-415F-B212-3E5766CE67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4A138-82BA-4ED4-9D08-E3131790B5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A4496-E91A-4F9C-B32B-4697737DC5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6EDE7-58A2-4CCE-8079-5B00C10642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0C33A-4E5D-4583-9222-063D6B2E34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36D3F-D61B-4D4A-BF16-0DC732DD9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51CB-C1B3-4F61-B1BF-09F8992AD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411E1-870D-4275-BE88-5408D40D23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476C5-A67C-4467-BE23-0B3CE53ADB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A2051-41B9-4900-A59E-22B09E60DB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C19E7-7FAD-46F7-A59C-EC9B2E84A3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721320"/>
            <a:ext cx="264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F653C-22C8-44AF-8630-101814776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BD69-D9B1-4CDD-A2FB-494FA7EA0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F505-4D80-4B8A-BACC-4AAFC2439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3287-0817-4B7F-8F88-AA1283F0C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7A3C-EF23-4B44-97E2-F56F1A9F5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779C-6834-472E-A8A7-5A695669B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2132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A34E-12E2-4370-B774-881831943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213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A485-0073-4ECC-9FF4-4CFF3F4D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1618920" y="5950080"/>
            <a:ext cx="6481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8485200" y="640080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CEBF-8DA5-4B97-BA1A-5DBB19C517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395280" y="5896080"/>
            <a:ext cx="100800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0F5-8ED6-4C31-B886-0470A4514E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896080"/>
            <a:ext cx="1008000" cy="961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LO experience with gathering and disseminating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eta-data on household income and expenditur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ob Pemb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LO Bureau of Statistics, Gen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573360"/>
            <a:ext cx="820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we do it ag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lready mentioned the system has been adapted for a metadata system 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on the employment situation of persons with dis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8428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39F5-A2A7-4710-B177-4D0D23BAD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8560" y="404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3 ILO developed new system for gathering and disseminating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we do it bef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with t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latest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 g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73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EB98-B812-430B-9615-4D159D6687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we do it bef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naire with open response (in English, French, Spanish)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act metadata from national publications, other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manual preparation of description, and translate into other two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ring previous descriptions back to countries for updating, then translate revision into other two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4130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D2BC-2974-499D-AA0F-1EE5325694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with previous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ies would not always sure of the level of detail to provide, requi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effort to prepare standardised description of 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translation of result (about $50,000 each public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4130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6DAD-D631-40AF-A176-45ED638CEF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 of latest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75760" indent="-757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naire with tick boxes offering choice of answers (plus “Other, specify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-757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d and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-757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d into French and Spa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-757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programmes develop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 data a set of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it the inp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e analyses of database (cross-tabul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128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e HTML output in three languages in standard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7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questionnaire and extract from computer specifications of HTML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8428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30C3-7A02-4001-9EC1-9D6F6BF5E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Item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Previously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ig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3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l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50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paration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ption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 50,000+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 (incl in desig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r work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2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1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tr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2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$9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 $100,0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out $4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BBDF-EE14-4A0C-B8A1-622086E30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dvantages of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6320" indent="-3427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believed to reduce reporting burden for count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 boxes are faster and easier to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s guidance on the detail required in the respon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06320" indent="-3427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 database that can be analysed and cross-tabulated (not previously avail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0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06320" indent="-3427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development is re-useable to some ext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714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already been adapted for a metadata system 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n the employment situation of persons with dis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0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18D8-AB0E-44A6-872F-8AAC08DD5C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9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of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705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more care in questionnaire design and extensive knowledge of possible 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more computer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74A9-5A99-4E98-935B-31F6AC9AA0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9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 g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0" indent="-71280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1"/>
              </a:buBlip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, countries added unexpected comments to the tick box responses and these had to be accommod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2800" indent="-712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additions can be provided for in future systems design, but had not been expected on this occa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2800" indent="-712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oversight, codes were not printed alongside each tick box and this slowed data e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3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98100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LO Bureau of Statistics:  Work session on statistical metadata, 9-11 Feb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982D-B237-4070-97F3-C598CF9F06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6:04:35Z</dcterms:created>
  <dc:creator> </dc:creator>
  <dc:description/>
  <dc:language>en-US</dc:language>
  <cp:lastModifiedBy> </cp:lastModifiedBy>
  <dcterms:modified xsi:type="dcterms:W3CDTF">2004-02-03T08:41:49Z</dcterms:modified>
  <cp:revision>28</cp:revision>
  <dc:subject/>
  <dc:title>Slide 1</dc:title>
</cp:coreProperties>
</file>