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F31E-22C4-4BEF-A218-28CBD8583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2132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C5F7-404F-47C1-8A14-5DC296F1E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87B8-D42D-4AC4-B603-28319CFFE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2132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2132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2132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9A643-CA04-409F-BA3F-E61682B46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4ECA4-A347-48A6-A928-01229929E7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E4679-1B22-4CD7-BF4F-882ADAC658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68906-6508-4DD9-9C4E-C816852258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E21B7-F12D-4A06-AF1D-04C50EF45A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93C63-939F-4134-9081-47DB84E7F8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E0DBA-E39D-4297-8947-E91A917540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D00D6-D0E1-4274-ADBA-35308E145F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4067-70C7-4504-8A50-4F5CF206E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E7005-CD10-485B-92EC-BD5C047556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2132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095AB-CC37-4E26-89EF-10510751CB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72132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6FB6E-11FD-4928-8C4C-796D965B42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F0F76-B951-4ADE-9A29-AC052235CF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72132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72132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72132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F01F8-9B23-48EB-8558-E5DAF05D5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17C90-25FB-43C3-B666-F6AA91EBA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85FE-264F-4AE3-91C9-DE50258AD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7238-F0C5-490E-859F-8A9E7C5A4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0A7E-E055-40D7-8BE0-77E670857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D197-E740-44AF-BD99-5A0AC2CEE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E476-8C77-42B3-84DC-D7D15A161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2132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9D30-2C46-4115-8F8E-6C531FA63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1618920" y="5950080"/>
            <a:ext cx="6481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8485200" y="640080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6FF9-9354-49C8-A915-5BED49B2F9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7"/>
          <a:stretch/>
        </p:blipFill>
        <p:spPr>
          <a:xfrm>
            <a:off x="395280" y="5896080"/>
            <a:ext cx="1008000" cy="9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1B0B-A25B-4C92-9573-B4CA8CB722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5896080"/>
            <a:ext cx="1008000" cy="961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LO experience with gathering and disseminating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eta-data on household income and expenditure stat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ob Pemb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LO Bureau of Statistics, Gene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3573360"/>
            <a:ext cx="820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we do it ag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lready mentioned the system has been adapted for a metadata system 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on the employment situation of persons with dis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484280"/>
            <a:ext cx="84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7133-9C20-42EF-A170-6D67D05CCA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58560" y="40428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2003 ILO developed new system for gathering and disseminating meta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we do it befo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with this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of latest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29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29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 g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773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33DC4-E859-4CDA-AA74-9EA63F9D21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856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we do it bef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naire with open response (in English, French, Spanish)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act metadata from national publications, other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manual preparation of description, and translate into other two langu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ring previous descriptions back to countries for updating, then translate revision into other two langu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4130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1910-4C67-4257-998B-D1F3121F70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6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s with previous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ies would not always sure of the level of detail to provide, requi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ve effort to prepare standardised description of meta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ve translation of result (about $50,000 each public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4130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E518-60AE-429E-8C8F-9A3F136CA1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y of latest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56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175760" indent="-757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naire with tick boxes offering choice of answers (plus “Other, specify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75760" indent="-757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d and rev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75760" indent="-757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ed into French and Spa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75760" indent="-7578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programmes develop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6128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 data a set of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6128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it the inp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6128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e analyses of database (cross-tabul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6128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e HTML output in three languages in standard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7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questionnaire and extract from computer specifications of HTML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484280"/>
            <a:ext cx="84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F804-9882-4445-BEC4-FED2447909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Item</a:t>
            </a:r>
            <a:r>
              <a:rPr b="0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Previously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ig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3,0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1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lat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50,0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1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paration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ption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 50,000+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 (incl in desig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uter work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2,0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1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entr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20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9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ver $100,0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out $4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981000"/>
            <a:ext cx="84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3A3D-E272-47D9-B658-2988D22FB2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dvantages of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06320" indent="-3427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believed to reduce reporting burden for count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71440" indent="-285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ck boxes are faster and easier to comp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71440" indent="-285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ves guidance on the detail required in the respon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71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06320" indent="-3427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a database that can be analysed and cross-tabulated (not previously avail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0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06320" indent="-3427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development is re-useable to some ext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71440" indent="-285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already been adapted for a metadata system 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n the employment situation of persons with dis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0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981000"/>
            <a:ext cx="84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A684-8F66-4D09-92AF-FD45F18E48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9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s of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705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more care in questionnaire design and extensive knowledge of possible altern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more computer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981000"/>
            <a:ext cx="84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4BECA-A7AD-4410-A9BD-5C2B0B967A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9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 g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2800" indent="-71280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SzPct val="100000"/>
              <a:buBlip>
                <a:blip r:embed="rId1"/>
              </a:buBlip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, countries added unexpected comments to the tick box responses and these had to be accommod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2800" indent="-712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h additions can be provided for in future systems design, but had not been expected on this occa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2800" indent="-712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oversight, codes were not printed alongside each tick box and this slowed data en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3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981000"/>
            <a:ext cx="84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616F-E622-4FED-9987-676AB558C0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6:04:35Z</dcterms:created>
  <dc:creator> </dc:creator>
  <dc:description/>
  <dc:language>en-US</dc:language>
  <cp:lastModifiedBy> </cp:lastModifiedBy>
  <dcterms:modified xsi:type="dcterms:W3CDTF">2004-02-03T08:41:49Z</dcterms:modified>
  <cp:revision>28</cp:revision>
  <dc:subject/>
  <dc:title>Slide 1</dc:title>
</cp:coreProperties>
</file>