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A4D-4E4F-41C0-8ACE-B8454566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CC5-46F7-47A3-B1A7-EB14A08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408-40C6-44DA-BA96-F2BA055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8BD-2203-44E3-B6BB-9182FD3B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74F-16D2-4082-AB31-2E9F80DA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6E2-C08D-4BB7-B75A-0930FDC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B3C-317F-4B0B-9A7B-9B5FC66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B56-B302-4944-8183-26D445DF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51B-6E8E-4584-A993-2FDBB0A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E2E-1637-4CA6-AC53-BA14ABD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CF3-C988-4AB7-BB82-503360E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BCC-32DA-4443-88E5-951BFA4D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097-0E57-47DA-9ECD-459E6ED86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uropa.eu.int/comm/eurostat/ramon/claset/index.htm" TargetMode="External"/><Relationship Id="rId2" Type="http://schemas.openxmlformats.org/officeDocument/2006/relationships/hyperlink" Target="http://europa.eu.int/comm/eurostat/ramon/claset/index.htm" TargetMode="External"/><Relationship Id="rId3" Type="http://schemas.openxmlformats.org/officeDocument/2006/relationships/hyperlink" Target="http://europa.eu.int/comm/eurostat/ramon/claset/index.htm" TargetMode="External"/><Relationship Id="rId4" Type="http://schemas.openxmlformats.org/officeDocument/2006/relationships/hyperlink" Target="http://europa.eu.int/comm/eurostat/ramon/claset/index.htm" TargetMode="External"/><Relationship Id="rId5" Type="http://schemas.openxmlformats.org/officeDocument/2006/relationships/hyperlink" Target="http://europa.eu.int/comm/eurostat/ramon/claset/index.htm" TargetMode="External"/><Relationship Id="rId6" Type="http://schemas.openxmlformats.org/officeDocument/2006/relationships/hyperlink" Target="http://europa.eu.int/comm/eurostat/ramon/claset/index.htm" TargetMode="External"/><Relationship Id="rId7" Type="http://schemas.openxmlformats.org/officeDocument/2006/relationships/hyperlink" Target="http://europa.eu.int/comm/eurostat/ramon/claset/index.htm" TargetMode="External"/><Relationship Id="rId8" Type="http://schemas.openxmlformats.org/officeDocument/2006/relationships/hyperlink" Target="http://europa.eu.int/comm/eurostat/ramon/claset/index.htm" TargetMode="External"/><Relationship Id="rId9" Type="http://schemas.openxmlformats.org/officeDocument/2006/relationships/hyperlink" Target="http://europa.eu.int/comm/eurostat/ramon/claset/index.htm" TargetMode="External"/><Relationship Id="rId10" Type="http://schemas.openxmlformats.org/officeDocument/2006/relationships/hyperlink" Target="http://europa.eu.int/comm/eurostat/ramon/claset/index.htm" TargetMode="External"/><Relationship Id="rId11" Type="http://schemas.openxmlformats.org/officeDocument/2006/relationships/hyperlink" Target="http://europa.eu.int/comm/eurostat/ramon/claset/index.htm" TargetMode="External"/><Relationship Id="rId12" Type="http://schemas.openxmlformats.org/officeDocument/2006/relationships/hyperlink" Target="http://europa.eu.int/comm/eurostat/ramon/claset/index.htm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00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(Geneva, 9-11 February 2004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928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n EDI Message for Exchanging Class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ributed Paper (WP.26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300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Danny Delcambre, Eurostat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Danny.Delcambre@cec.eu.int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055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fully operational, normalized mess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to exchange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1) hierarchical structures, such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lassifications, organisational charts, product lis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2) links between these stru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3) additional information, such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life cycle of data (versioning, dates, etc.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general information (maintenance agency, reference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060640"/>
            <a:ext cx="3456000" cy="307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ependent from software and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509920"/>
            <a:ext cx="6048360" cy="307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/EDIFACT norm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http://www.unece.org/trade/untdid/d00a/trmd/claset_c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15000" y="620568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Danny.Delcambre@cec.eu.int </a:t>
            </a:r>
            <a:br>
              <a:rPr sz="1400"/>
            </a:b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800000"/>
                </a:solidFill>
                <a:latin typeface="Times New Roman"/>
              </a:rPr>
              <a:t>Based on a complete data model. To implement CLASET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ither you adopt the CLASET data mod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or you map it with your own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Implemented in several syntaxe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DIFACT, SGML, XML,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A toolbox offers the following functionalitie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ersion from one syntax to anoth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Text files import/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onfiguration of text par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ET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7840" y="629136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2852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836640"/>
          <a:ext cx="9144000" cy="53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3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219320"/>
          <a:ext cx="3781440" cy="37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3781440" cy="37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86200" y="1066680"/>
            <a:ext cx="5105520" cy="463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MODEL FOR CLASSIFICA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7200" y="1066680"/>
            <a:ext cx="8152920" cy="4496040"/>
            <a:chOff x="457200" y="1066680"/>
            <a:chExt cx="8152920" cy="4496040"/>
          </a:xfrm>
        </p:grpSpPr>
        <p:sp>
          <p:nvSpPr>
            <p:cNvPr id="67" name=""/>
            <p:cNvSpPr/>
            <p:nvPr/>
          </p:nvSpPr>
          <p:spPr>
            <a:xfrm>
              <a:off x="457200" y="3505320"/>
              <a:ext cx="1599840" cy="9903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360" y="4038480"/>
              <a:ext cx="83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60280" y="374652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 a 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7760" y="3505320"/>
              <a:ext cx="1523520" cy="9144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ool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3429000"/>
              <a:ext cx="1599840" cy="9907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8840" y="1066680"/>
              <a:ext cx="914040" cy="1143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a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7960" y="3962520"/>
              <a:ext cx="22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809880" y="1676520"/>
              <a:ext cx="1142640" cy="175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9880" y="4495680"/>
              <a:ext cx="11426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8840" y="4724280"/>
              <a:ext cx="1371240" cy="83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lect. 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476760" y="4495320"/>
              <a:ext cx="121896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3640" y="2209680"/>
              <a:ext cx="1197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+ style sh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7360" y="36259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5840" y="4800600"/>
              <a:ext cx="155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.i. in text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647960" y="2666880"/>
              <a:ext cx="144756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1840" y="2286000"/>
              <a:ext cx="1142640" cy="762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isplay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720" y="2666880"/>
              <a:ext cx="111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6680" y="44956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OU CAN DO WITH CLA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They have tested or implemented CLA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SEE (in their nomenclature serv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Statistics Fin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Swiss Statistical off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Eurostat (export format in next release of RAM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Belgian regional office for Employment in th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framework of the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Protégé Project 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ttp://protege.stanford.ed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More inf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 Working paper for this meeting (METIS 2004, WP.2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CLASET Web page: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europa.eu.in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comm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eurosta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ramon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0"/>
              </a:rPr>
              <a:t>clase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2"/>
              </a:rPr>
              <a:t>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029200"/>
            <a:ext cx="434340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a models (UML, XML), implementation guides (EDIFACT, XML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0" cy="685800"/>
          </a:xfrm>
          <a:prstGeom prst="line">
            <a:avLst/>
          </a:prstGeom>
          <a:ln w="22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9:17:21Z</dcterms:created>
  <dc:creator>Danny Delcambre</dc:creator>
  <dc:description/>
  <dc:language>en-US</dc:language>
  <cp:lastModifiedBy>pellema</cp:lastModifiedBy>
  <dcterms:modified xsi:type="dcterms:W3CDTF">2004-02-05T14:46:30Z</dcterms:modified>
  <cp:revision>26</cp:revision>
  <dc:subject/>
  <dc:title>CLA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9862901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- slides for WP7, WP26, WP6</vt:lpwstr>
  </property>
</Properties>
</file>