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FCF-0672-4E01-9018-301B2FEA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58F-58A1-4BE3-8AA0-D3675E3C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37A-D678-4A6C-B9B1-9451C519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B1F-379A-49BD-96CF-B9229A9A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182-B919-4A71-8582-1B9FA83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25F-330B-4CB3-8E33-96B12B6A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7C0-7036-4C43-82B3-D80FF882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297-4F66-4E68-8DCB-762B32F3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AB4-BDC9-426C-94FE-5CCAA8B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C2F-785C-4005-840D-BC101D7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2D8-85B0-4907-B0F4-61B5F8F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3FA-1911-4508-A18B-AACBF38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1F04-5DF2-4141-AE3A-1AC785E4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uropa.eu.int/comm/eurostat/ramon/claset/index.htm" TargetMode="External"/><Relationship Id="rId2" Type="http://schemas.openxmlformats.org/officeDocument/2006/relationships/hyperlink" Target="http://europa.eu.int/comm/eurostat/ramon/claset/index.htm" TargetMode="External"/><Relationship Id="rId3" Type="http://schemas.openxmlformats.org/officeDocument/2006/relationships/hyperlink" Target="http://europa.eu.int/comm/eurostat/ramon/claset/index.htm" TargetMode="External"/><Relationship Id="rId4" Type="http://schemas.openxmlformats.org/officeDocument/2006/relationships/hyperlink" Target="http://europa.eu.int/comm/eurostat/ramon/claset/index.htm" TargetMode="External"/><Relationship Id="rId5" Type="http://schemas.openxmlformats.org/officeDocument/2006/relationships/hyperlink" Target="http://europa.eu.int/comm/eurostat/ramon/claset/index.htm" TargetMode="External"/><Relationship Id="rId6" Type="http://schemas.openxmlformats.org/officeDocument/2006/relationships/hyperlink" Target="http://europa.eu.int/comm/eurostat/ramon/claset/index.htm" TargetMode="External"/><Relationship Id="rId7" Type="http://schemas.openxmlformats.org/officeDocument/2006/relationships/hyperlink" Target="http://europa.eu.int/comm/eurostat/ramon/claset/index.htm" TargetMode="External"/><Relationship Id="rId8" Type="http://schemas.openxmlformats.org/officeDocument/2006/relationships/hyperlink" Target="http://europa.eu.int/comm/eurostat/ramon/claset/index.htm" TargetMode="External"/><Relationship Id="rId9" Type="http://schemas.openxmlformats.org/officeDocument/2006/relationships/hyperlink" Target="http://europa.eu.int/comm/eurostat/ramon/claset/index.htm" TargetMode="External"/><Relationship Id="rId10" Type="http://schemas.openxmlformats.org/officeDocument/2006/relationships/hyperlink" Target="http://europa.eu.int/comm/eurostat/ramon/claset/index.htm" TargetMode="External"/><Relationship Id="rId11" Type="http://schemas.openxmlformats.org/officeDocument/2006/relationships/hyperlink" Target="http://europa.eu.int/comm/eurostat/ramon/claset/index.htm" TargetMode="External"/><Relationship Id="rId12" Type="http://schemas.openxmlformats.org/officeDocument/2006/relationships/hyperlink" Target="http://europa.eu.int/comm/eurostat/ramon/claset/index.htm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00"/>
                </a:solidFill>
                <a:latin typeface="Times New Roman"/>
              </a:rPr>
              <a:t>METIS 2004</a:t>
            </a:r>
            <a:br>
              <a:rPr sz="4400"/>
            </a:br>
            <a:r>
              <a:rPr b="0" lang="fr-FR" sz="2800" spc="-1" strike="noStrike">
                <a:solidFill>
                  <a:srgbClr val="808000"/>
                </a:solidFill>
                <a:latin typeface="Times New Roman"/>
              </a:rPr>
              <a:t>(Geneva, 9-11 February 2004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928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n EDI Message for Exchanging Class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ributed Paper (WP.26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530064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Danny Delcambre, Eurostat</a:t>
            </a:r>
            <a:br>
              <a:rPr sz="2000"/>
            </a:br>
            <a:r>
              <a:rPr b="1" lang="fr-FR" sz="2000" spc="-1" strike="noStrike">
                <a:solidFill>
                  <a:srgbClr val="808000"/>
                </a:solidFill>
                <a:latin typeface="Times New Roman"/>
              </a:rPr>
              <a:t>(Danny.Delcambre@cec.eu.int)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055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fully operational, normalized mess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to exchange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1) hierarchical structures, such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lassifications, organisational charts, product lis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2) links between these struc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3) additional information, such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life cycle of data (versioning, dates, etc.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general information (maintenance agency, reference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060640"/>
            <a:ext cx="3456000" cy="307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ependent from software and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509920"/>
            <a:ext cx="6048360" cy="307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/EDIFACT norm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http://www.unece.org/trade/untdid/d00a/trmd/claset_c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15000" y="620568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Danny.Delcambre@cec.eu.int </a:t>
            </a:r>
            <a:br>
              <a:rPr sz="1400"/>
            </a:b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800000"/>
                </a:solidFill>
                <a:latin typeface="Times New Roman"/>
              </a:rPr>
              <a:t>Based on a complete data model. To implement CLASET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ither you adopt the CLASET data mod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or you map it with your own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Implemented in several syntaxes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DIFACT, SGML, XML,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A toolbox offers the following functionalities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version from one syntax to anoth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Text files import/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onfiguration of text par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04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ET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7840" y="629136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2852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836640"/>
          <a:ext cx="9144000" cy="53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3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219320"/>
          <a:ext cx="3781440" cy="37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3781440" cy="37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86200" y="1066680"/>
            <a:ext cx="5105520" cy="463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MODEL FOR CLASSIFICA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57200" y="1066680"/>
            <a:ext cx="8152920" cy="4496040"/>
            <a:chOff x="457200" y="1066680"/>
            <a:chExt cx="8152920" cy="4496040"/>
          </a:xfrm>
        </p:grpSpPr>
        <p:sp>
          <p:nvSpPr>
            <p:cNvPr id="67" name=""/>
            <p:cNvSpPr/>
            <p:nvPr/>
          </p:nvSpPr>
          <p:spPr>
            <a:xfrm>
              <a:off x="457200" y="3505320"/>
              <a:ext cx="1599840" cy="9903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360" y="4038480"/>
              <a:ext cx="83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60280" y="374652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 a 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7760" y="3505320"/>
              <a:ext cx="1523520" cy="9144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ool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0280" y="3429000"/>
              <a:ext cx="1599840" cy="9907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8840" y="1066680"/>
              <a:ext cx="914040" cy="11430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a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7960" y="3962520"/>
              <a:ext cx="228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809880" y="1676520"/>
              <a:ext cx="1142640" cy="175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9880" y="4495680"/>
              <a:ext cx="11426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8840" y="4724280"/>
              <a:ext cx="1371240" cy="83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lect. 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476760" y="4495320"/>
              <a:ext cx="121896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3640" y="2209680"/>
              <a:ext cx="1197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+ style sh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7360" y="36259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5840" y="4800600"/>
              <a:ext cx="155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vers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.i. in text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647960" y="2666880"/>
              <a:ext cx="144756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71840" y="2286000"/>
              <a:ext cx="1142640" cy="762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isplay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720" y="2666880"/>
              <a:ext cx="111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6680" y="44956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9907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OU CAN DO WITH CLA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They have tested or implemented CLA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SEE (in their nomenclature serv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Statistics Fin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Swiss Statistical off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Eurostat (export format in next release of RAM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Belgian regional office for Employment in th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framework of the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Protégé Project 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ttp://protege.stanford.ed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ASE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Times New Roman"/>
              </a:rPr>
              <a:t>More inf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 Working paper for this meeting (METIS 2004, WP.2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- CLASET Web page: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europa.eu.int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comm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eurostat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ramon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0"/>
              </a:rPr>
              <a:t>claset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000" spc="-1" strike="noStrike" u="sng">
                <a:solidFill>
                  <a:srgbClr val="0033cc"/>
                </a:solidFill>
                <a:uFillTx/>
                <a:latin typeface="Times New Roman"/>
                <a:hlinkClick r:id="rId12"/>
              </a:rPr>
              <a:t>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029200"/>
            <a:ext cx="434340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a models (UML, XML), implementation guides (EDIFACT, XML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0" cy="685800"/>
          </a:xfrm>
          <a:prstGeom prst="line">
            <a:avLst/>
          </a:prstGeom>
          <a:ln w="22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601992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00"/>
                </a:solidFill>
                <a:latin typeface="Times New Roman"/>
              </a:rPr>
              <a:t>METIS meeting, Geneva, February 9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9:17:21Z</dcterms:created>
  <dc:creator>Danny Delcambre</dc:creator>
  <dc:description/>
  <dc:language>en-US</dc:language>
  <cp:lastModifiedBy>pellema</cp:lastModifiedBy>
  <dcterms:modified xsi:type="dcterms:W3CDTF">2004-02-05T14:46:30Z</dcterms:modified>
  <cp:revision>26</cp:revision>
  <dc:subject/>
  <dc:title>CLAS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9862901</vt:r8>
  </property>
  <property fmtid="{D5CDD505-2E9C-101B-9397-08002B2CF9AE}" pid="3" name="_AuthorEmail">
    <vt:lpwstr>Marco.Pellegrino@cec.eu.int</vt:lpwstr>
  </property>
  <property fmtid="{D5CDD505-2E9C-101B-9397-08002B2CF9AE}" pid="4" name="_AuthorEmailDisplayName">
    <vt:lpwstr>PELLEGRINO Marco (ESTAT)</vt:lpwstr>
  </property>
  <property fmtid="{D5CDD505-2E9C-101B-9397-08002B2CF9AE}" pid="5" name="_EmailSubject">
    <vt:lpwstr>METIS - slides for WP7, WP26, WP6</vt:lpwstr>
  </property>
</Properties>
</file>