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7D80-2882-4EEF-AAFF-6013CDBB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E2F9-8E1A-447C-AF36-933AE136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87F4-D821-4448-AFDF-EB51EBD2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0373-813D-431C-9759-93F5EC21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DB03-CF33-45D9-B7BB-FFC5BC9C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0FDA-9275-48CC-B6D8-A942C737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278A-3346-4918-B394-E4C64386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8AA5-8A16-4769-9EC2-33E13AB5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282E-EDF3-4F31-AEF6-510A72EF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0184-FE62-4FEB-8D66-C5B6647A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4B17-1336-497B-B83E-871F9354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280A-F7E5-41D2-8FF2-96EB792B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801D-DCE9-4624-8FD8-2DF86A08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C792-4A24-4695-87BA-B1510EBA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3FA5-8CD9-4209-B2AF-C6156019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1637-6E48-406A-BD4A-A10D4916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85EF-FD88-4A09-9B97-936B79CB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7117-A906-4DC2-9F8F-C9B8BCB3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41D2-5E64-4D22-887D-5949BBC9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8F35-577F-4D6E-A924-B55D67B3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6680-AFA0-4032-B2E8-4DCA0A87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1BC8-4886-48F9-B0D4-FA2DD8C5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F81-807D-48AD-8CC8-18F3D438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885A-3C90-49E8-B5B5-2B0A4E86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5569-4D3C-4AB7-852D-7408FF21F33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CF26-33D1-400F-B24A-A051BF9CE15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80880" y="228600"/>
          <a:ext cx="1447920" cy="144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14479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956240" y="225360"/>
            <a:ext cx="68742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MA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ATIONAL INSTITUTE OF STATISTIC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31800" y="2754360"/>
            <a:ext cx="5877360" cy="27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FOREIGN TRADE STATISTIC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RELATED META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2286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HE MAIN AIMS IN USING  OF METADATA REGARDING  THE FOREIGN TRADE DATA COMPUTING FLOW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600200"/>
            <a:ext cx="8610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O CHECK THE DATA INTEGRITY IN THE UPLOAD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80880" y="228600"/>
          <a:ext cx="541440" cy="54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5414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04920" y="3490920"/>
            <a:ext cx="83818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O SHOW THE DATA IN THE DISSEMIN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OCESS, WITH THE FOLLOW SPECIFITIES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143000" y="4388040"/>
            <a:ext cx="7558200" cy="825480"/>
            <a:chOff x="1143000" y="4388040"/>
            <a:chExt cx="7558200" cy="825480"/>
          </a:xfrm>
        </p:grpSpPr>
        <p:sp>
          <p:nvSpPr>
            <p:cNvPr id="92" name=""/>
            <p:cNvSpPr/>
            <p:nvPr/>
          </p:nvSpPr>
          <p:spPr>
            <a:xfrm>
              <a:off x="1143000" y="4800600"/>
              <a:ext cx="762120" cy="0"/>
            </a:xfrm>
            <a:prstGeom prst="line">
              <a:avLst/>
            </a:prstGeom>
            <a:ln cap="sq" w="3168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05120" y="4388040"/>
              <a:ext cx="679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THE DESING  OF  STATISTICAL PUBLICATIONS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143000" y="5180400"/>
            <a:ext cx="7620120" cy="459720"/>
            <a:chOff x="1143000" y="5180400"/>
            <a:chExt cx="7620120" cy="459720"/>
          </a:xfrm>
        </p:grpSpPr>
        <p:sp>
          <p:nvSpPr>
            <p:cNvPr id="95" name=""/>
            <p:cNvSpPr/>
            <p:nvPr/>
          </p:nvSpPr>
          <p:spPr>
            <a:xfrm>
              <a:off x="1143000" y="5410080"/>
              <a:ext cx="762120" cy="0"/>
            </a:xfrm>
            <a:prstGeom prst="line">
              <a:avLst/>
            </a:prstGeom>
            <a:ln cap="sq" w="3168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05120" y="518040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THE  SOLVING  OF DATA REQUESTS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49120" y="5729400"/>
            <a:ext cx="851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O LINK THE FOREIGN TRADE DATA WITH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NOTHER STATISTICAL PRODUCTS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585520"/>
            <a:ext cx="830556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O MAKE THE DATA ANALISES ON DIFFERENT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WAYE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7652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HE DATA UPLOADING FLOW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914400"/>
            <a:ext cx="3353040" cy="5304960"/>
          </a:xfrm>
          <a:prstGeom prst="rect">
            <a:avLst/>
          </a:prstGeom>
          <a:noFill/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ERIO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_COUNT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USTOMS REGI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HIC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HICLE_COUNT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WNERSHI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OL_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EURO_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USD_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G_WEIGH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733920" y="1143000"/>
            <a:ext cx="5029200" cy="459720"/>
            <a:chOff x="3733920" y="1143000"/>
            <a:chExt cx="5029200" cy="459720"/>
          </a:xfrm>
        </p:grpSpPr>
        <p:sp>
          <p:nvSpPr>
            <p:cNvPr id="102" name=""/>
            <p:cNvSpPr/>
            <p:nvPr/>
          </p:nvSpPr>
          <p:spPr>
            <a:xfrm>
              <a:off x="3733920" y="1371600"/>
              <a:ext cx="1066680" cy="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00600" y="114300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1 - EXPORT; 2 - IMPOR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733920" y="838080"/>
            <a:ext cx="5410080" cy="398880"/>
            <a:chOff x="3733920" y="838080"/>
            <a:chExt cx="5410080" cy="398880"/>
          </a:xfrm>
        </p:grpSpPr>
        <p:sp>
          <p:nvSpPr>
            <p:cNvPr id="105" name=""/>
            <p:cNvSpPr/>
            <p:nvPr/>
          </p:nvSpPr>
          <p:spPr>
            <a:xfrm>
              <a:off x="3733920" y="990720"/>
              <a:ext cx="1066680" cy="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0060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CURRENT YEAR;  MONTH&lt;=1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733920" y="1447920"/>
            <a:ext cx="4495680" cy="459720"/>
            <a:chOff x="3733920" y="1447920"/>
            <a:chExt cx="4495680" cy="459720"/>
          </a:xfrm>
        </p:grpSpPr>
        <p:sp>
          <p:nvSpPr>
            <p:cNvPr id="108" name=""/>
            <p:cNvSpPr/>
            <p:nvPr/>
          </p:nvSpPr>
          <p:spPr>
            <a:xfrm>
              <a:off x="3733920" y="1676520"/>
              <a:ext cx="1066680" cy="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0600" y="14479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CN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733920" y="1828800"/>
            <a:ext cx="2743200" cy="459720"/>
            <a:chOff x="3733920" y="1828800"/>
            <a:chExt cx="2743200" cy="459720"/>
          </a:xfrm>
        </p:grpSpPr>
        <p:sp>
          <p:nvSpPr>
            <p:cNvPr id="111" name=""/>
            <p:cNvSpPr/>
            <p:nvPr/>
          </p:nvSpPr>
          <p:spPr>
            <a:xfrm>
              <a:off x="3733920" y="2057400"/>
              <a:ext cx="1066680" cy="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6920" y="18288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CN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733920" y="2286000"/>
            <a:ext cx="4114800" cy="459720"/>
            <a:chOff x="3733920" y="2286000"/>
            <a:chExt cx="4114800" cy="459720"/>
          </a:xfrm>
        </p:grpSpPr>
        <p:sp>
          <p:nvSpPr>
            <p:cNvPr id="114" name=""/>
            <p:cNvSpPr/>
            <p:nvPr/>
          </p:nvSpPr>
          <p:spPr>
            <a:xfrm>
              <a:off x="3733920" y="2514600"/>
              <a:ext cx="1066680" cy="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228600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GEONOM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733920" y="2743200"/>
            <a:ext cx="5105160" cy="398880"/>
            <a:chOff x="3733920" y="2743200"/>
            <a:chExt cx="5105160" cy="398880"/>
          </a:xfrm>
        </p:grpSpPr>
        <p:sp>
          <p:nvSpPr>
            <p:cNvPr id="117" name=""/>
            <p:cNvSpPr/>
            <p:nvPr/>
          </p:nvSpPr>
          <p:spPr>
            <a:xfrm>
              <a:off x="3733920" y="2895480"/>
              <a:ext cx="1066680" cy="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00600" y="274320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CUSTOMS REGIM NOME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733920" y="3124080"/>
            <a:ext cx="4800600" cy="398880"/>
            <a:chOff x="3733920" y="3124080"/>
            <a:chExt cx="4800600" cy="398880"/>
          </a:xfrm>
        </p:grpSpPr>
        <p:sp>
          <p:nvSpPr>
            <p:cNvPr id="120" name=""/>
            <p:cNvSpPr/>
            <p:nvPr/>
          </p:nvSpPr>
          <p:spPr>
            <a:xfrm>
              <a:off x="3733920" y="3261960"/>
              <a:ext cx="1066680" cy="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3124080"/>
              <a:ext cx="381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VEHICLE TYPE NOMEN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733920" y="3352680"/>
            <a:ext cx="3657600" cy="459720"/>
            <a:chOff x="3733920" y="3352680"/>
            <a:chExt cx="3657600" cy="459720"/>
          </a:xfrm>
        </p:grpSpPr>
        <p:sp>
          <p:nvSpPr>
            <p:cNvPr id="123" name=""/>
            <p:cNvSpPr/>
            <p:nvPr/>
          </p:nvSpPr>
          <p:spPr>
            <a:xfrm>
              <a:off x="3733920" y="3581280"/>
              <a:ext cx="1066680" cy="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6920" y="33526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GEONOM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733920" y="3733920"/>
            <a:ext cx="4647960" cy="459720"/>
            <a:chOff x="3733920" y="3733920"/>
            <a:chExt cx="4647960" cy="459720"/>
          </a:xfrm>
        </p:grpSpPr>
        <p:sp>
          <p:nvSpPr>
            <p:cNvPr id="126" name=""/>
            <p:cNvSpPr/>
            <p:nvPr/>
          </p:nvSpPr>
          <p:spPr>
            <a:xfrm>
              <a:off x="3733920" y="3962520"/>
              <a:ext cx="1066680" cy="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373392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0 - NO; 1 - YES 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733920" y="4098960"/>
            <a:ext cx="5029200" cy="398880"/>
            <a:chOff x="3733920" y="4098960"/>
            <a:chExt cx="5029200" cy="398880"/>
          </a:xfrm>
        </p:grpSpPr>
        <p:sp>
          <p:nvSpPr>
            <p:cNvPr id="129" name=""/>
            <p:cNvSpPr/>
            <p:nvPr/>
          </p:nvSpPr>
          <p:spPr>
            <a:xfrm>
              <a:off x="3733920" y="4327200"/>
              <a:ext cx="1066680" cy="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6920" y="409896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OWNERSHIP NOME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733920" y="4952880"/>
            <a:ext cx="990360" cy="0"/>
          </a:xfrm>
          <a:prstGeom prst="line">
            <a:avLst/>
          </a:prstGeom>
          <a:ln cap="sq" w="38160">
            <a:solidFill>
              <a:srgbClr val="3333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733920" y="4952520"/>
            <a:ext cx="990360" cy="381240"/>
          </a:xfrm>
          <a:prstGeom prst="line">
            <a:avLst/>
          </a:prstGeom>
          <a:ln cap="sq" w="38160">
            <a:solidFill>
              <a:srgbClr val="3333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733920" y="4495680"/>
            <a:ext cx="5105160" cy="688320"/>
            <a:chOff x="3733920" y="4495680"/>
            <a:chExt cx="5105160" cy="688320"/>
          </a:xfrm>
        </p:grpSpPr>
        <p:sp>
          <p:nvSpPr>
            <p:cNvPr id="134" name=""/>
            <p:cNvSpPr/>
            <p:nvPr/>
          </p:nvSpPr>
          <p:spPr>
            <a:xfrm>
              <a:off x="3733920" y="4495680"/>
              <a:ext cx="990360" cy="45720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00600" y="472428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VALUE &gt; 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733920" y="5791320"/>
            <a:ext cx="5105160" cy="459720"/>
            <a:chOff x="3733920" y="5791320"/>
            <a:chExt cx="5105160" cy="459720"/>
          </a:xfrm>
        </p:grpSpPr>
        <p:sp>
          <p:nvSpPr>
            <p:cNvPr id="137" name=""/>
            <p:cNvSpPr/>
            <p:nvPr/>
          </p:nvSpPr>
          <p:spPr>
            <a:xfrm>
              <a:off x="3733920" y="6019920"/>
              <a:ext cx="1066680" cy="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76920" y="579132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QUANTITY&gt;0 FOR UM#‘ ‘ 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139" name=""/>
          <p:cNvGraphicFramePr/>
          <p:nvPr/>
        </p:nvGraphicFramePr>
        <p:xfrm>
          <a:off x="380880" y="228600"/>
          <a:ext cx="541440" cy="54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5414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80880" y="228600"/>
          <a:ext cx="541440" cy="54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5414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143000" y="4536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HE RELATIONSHIP AMONG THE NATIONAL INTEREST CLASSIFICATIONS AND NOMENCLATUR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380988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3423600"/>
            <a:ext cx="1143000" cy="8251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CN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447920" y="3447360"/>
            <a:ext cx="3429000" cy="825120"/>
            <a:chOff x="1447920" y="3447360"/>
            <a:chExt cx="3429000" cy="825120"/>
          </a:xfrm>
        </p:grpSpPr>
        <p:sp>
          <p:nvSpPr>
            <p:cNvPr id="147" name=""/>
            <p:cNvSpPr/>
            <p:nvPr/>
          </p:nvSpPr>
          <p:spPr>
            <a:xfrm>
              <a:off x="2438280" y="3447360"/>
              <a:ext cx="2438640" cy="8251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PRODCOM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47920" y="3886200"/>
              <a:ext cx="9903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876920" y="3447360"/>
            <a:ext cx="1981080" cy="825120"/>
            <a:chOff x="4876920" y="3447360"/>
            <a:chExt cx="1981080" cy="825120"/>
          </a:xfrm>
        </p:grpSpPr>
        <p:sp>
          <p:nvSpPr>
            <p:cNvPr id="150" name=""/>
            <p:cNvSpPr/>
            <p:nvPr/>
          </p:nvSpPr>
          <p:spPr>
            <a:xfrm>
              <a:off x="5410080" y="3447360"/>
              <a:ext cx="1447920" cy="8251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SCPA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76920" y="3962520"/>
              <a:ext cx="5331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858000" y="3447360"/>
            <a:ext cx="2057400" cy="825120"/>
            <a:chOff x="6858000" y="3447360"/>
            <a:chExt cx="2057400" cy="825120"/>
          </a:xfrm>
        </p:grpSpPr>
        <p:sp>
          <p:nvSpPr>
            <p:cNvPr id="153" name=""/>
            <p:cNvSpPr/>
            <p:nvPr/>
          </p:nvSpPr>
          <p:spPr>
            <a:xfrm>
              <a:off x="7467480" y="3447360"/>
              <a:ext cx="1447920" cy="8251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NACE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962520"/>
              <a:ext cx="609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447920" y="2152080"/>
            <a:ext cx="3429000" cy="1734120"/>
            <a:chOff x="1447920" y="2152080"/>
            <a:chExt cx="3429000" cy="1734120"/>
          </a:xfrm>
        </p:grpSpPr>
        <p:sp>
          <p:nvSpPr>
            <p:cNvPr id="156" name=""/>
            <p:cNvSpPr/>
            <p:nvPr/>
          </p:nvSpPr>
          <p:spPr>
            <a:xfrm>
              <a:off x="2438280" y="2152080"/>
              <a:ext cx="2438640" cy="8251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BEC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1447920" y="2590920"/>
              <a:ext cx="990360" cy="12952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876920" y="2152080"/>
            <a:ext cx="1981080" cy="825120"/>
            <a:chOff x="4876920" y="2152080"/>
            <a:chExt cx="1981080" cy="825120"/>
          </a:xfrm>
        </p:grpSpPr>
        <p:sp>
          <p:nvSpPr>
            <p:cNvPr id="159" name=""/>
            <p:cNvSpPr/>
            <p:nvPr/>
          </p:nvSpPr>
          <p:spPr>
            <a:xfrm>
              <a:off x="5410080" y="2152080"/>
              <a:ext cx="1447920" cy="8251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SNA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76920" y="2666880"/>
              <a:ext cx="5331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447920" y="3886200"/>
            <a:ext cx="3429000" cy="1757880"/>
            <a:chOff x="1447920" y="3886200"/>
            <a:chExt cx="3429000" cy="1757880"/>
          </a:xfrm>
        </p:grpSpPr>
        <p:sp>
          <p:nvSpPr>
            <p:cNvPr id="162" name=""/>
            <p:cNvSpPr/>
            <p:nvPr/>
          </p:nvSpPr>
          <p:spPr>
            <a:xfrm>
              <a:off x="2438280" y="4818960"/>
              <a:ext cx="2438640" cy="8251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SITC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47920" y="3886200"/>
              <a:ext cx="990360" cy="15238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380880" y="228600"/>
          <a:ext cx="541440" cy="54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5414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143000" y="4716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HE RELATIONSHIP BETWEEN CUSTOMS REGIMES CLASSIFICATION AND STATISTICAL PROCEDUR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5480" y="2703960"/>
            <a:ext cx="2375280" cy="178308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USTOMS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GIM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LASSIF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666880" y="2986560"/>
            <a:ext cx="2718360" cy="1167120"/>
            <a:chOff x="2666880" y="2986560"/>
            <a:chExt cx="2718360" cy="1167120"/>
          </a:xfrm>
        </p:grpSpPr>
        <p:sp>
          <p:nvSpPr>
            <p:cNvPr id="169" name=""/>
            <p:cNvSpPr/>
            <p:nvPr/>
          </p:nvSpPr>
          <p:spPr>
            <a:xfrm>
              <a:off x="3448800" y="2986560"/>
              <a:ext cx="1936440" cy="11671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STATISTICAL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PROCEDURE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66880" y="3581280"/>
              <a:ext cx="7621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410080" y="3370320"/>
            <a:ext cx="3324240" cy="642600"/>
            <a:chOff x="5410080" y="3370320"/>
            <a:chExt cx="3324240" cy="642600"/>
          </a:xfrm>
        </p:grpSpPr>
        <p:sp>
          <p:nvSpPr>
            <p:cNvPr id="172" name=""/>
            <p:cNvSpPr/>
            <p:nvPr/>
          </p:nvSpPr>
          <p:spPr>
            <a:xfrm>
              <a:off x="5791320" y="3370320"/>
              <a:ext cx="2943000" cy="64260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TEMPORARY E/I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3733920"/>
              <a:ext cx="3812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410080" y="2151360"/>
            <a:ext cx="3353040" cy="1505880"/>
            <a:chOff x="5410080" y="2151360"/>
            <a:chExt cx="3353040" cy="1505880"/>
          </a:xfrm>
        </p:grpSpPr>
        <p:sp>
          <p:nvSpPr>
            <p:cNvPr id="175" name=""/>
            <p:cNvSpPr/>
            <p:nvPr/>
          </p:nvSpPr>
          <p:spPr>
            <a:xfrm>
              <a:off x="5791320" y="2151360"/>
              <a:ext cx="2971800" cy="64260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DEFINITIVE E/I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410080" y="2590560"/>
              <a:ext cx="381240" cy="10666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410080" y="3733920"/>
            <a:ext cx="3353040" cy="2174760"/>
            <a:chOff x="5410080" y="3733920"/>
            <a:chExt cx="3353040" cy="2174760"/>
          </a:xfrm>
        </p:grpSpPr>
        <p:sp>
          <p:nvSpPr>
            <p:cNvPr id="178" name=""/>
            <p:cNvSpPr/>
            <p:nvPr/>
          </p:nvSpPr>
          <p:spPr>
            <a:xfrm>
              <a:off x="5791320" y="4336560"/>
              <a:ext cx="2971800" cy="15721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INWARD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OUTWARD 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PROCESSING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10080" y="3733920"/>
              <a:ext cx="381240" cy="14475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380880" y="228600"/>
          <a:ext cx="541440" cy="54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5414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143000" y="15084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HE SCHEME OF IMPLEMENTATION PROCES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219320"/>
            <a:ext cx="3353040" cy="5304960"/>
          </a:xfrm>
          <a:prstGeom prst="rect">
            <a:avLst/>
          </a:prstGeom>
          <a:noFill/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ERIO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_COUNT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GI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HIC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HICLE_COUNT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WNERSHI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OL_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EURO_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USD_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G_WEIGH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6120" y="684360"/>
            <a:ext cx="36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OREIGN TRADE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733920" y="1771200"/>
            <a:ext cx="2775240" cy="1572120"/>
            <a:chOff x="3733920" y="1771200"/>
            <a:chExt cx="2775240" cy="1572120"/>
          </a:xfrm>
        </p:grpSpPr>
        <p:sp>
          <p:nvSpPr>
            <p:cNvPr id="186" name=""/>
            <p:cNvSpPr/>
            <p:nvPr/>
          </p:nvSpPr>
          <p:spPr>
            <a:xfrm>
              <a:off x="4214520" y="1771200"/>
              <a:ext cx="2294640" cy="15721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NAME_NOM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ITEM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DESCRIPTIO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33920" y="2514600"/>
              <a:ext cx="4572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136040" y="120348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OM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553080" y="1219320"/>
            <a:ext cx="2125080" cy="2128320"/>
            <a:chOff x="6553080" y="1219320"/>
            <a:chExt cx="2125080" cy="2128320"/>
          </a:xfrm>
        </p:grpSpPr>
        <p:sp>
          <p:nvSpPr>
            <p:cNvPr id="190" name=""/>
            <p:cNvSpPr/>
            <p:nvPr/>
          </p:nvSpPr>
          <p:spPr>
            <a:xfrm>
              <a:off x="7177680" y="1219320"/>
              <a:ext cx="1500480" cy="21283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NOMEN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NOMEN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ITEM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ITEM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3080" y="2590920"/>
              <a:ext cx="6098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7056720" y="68436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OMLIN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17:14:36Z</dcterms:created>
  <dc:creator>USER</dc:creator>
  <dc:description/>
  <dc:language>en-US</dc:language>
  <cp:lastModifiedBy>bobi</cp:lastModifiedBy>
  <dcterms:modified xsi:type="dcterms:W3CDTF">2004-02-05T06:44:57Z</dcterms:modified>
  <cp:revision>16</cp:revision>
  <dc:subject/>
  <dc:title>No Slide Title</dc:title>
</cp:coreProperties>
</file>