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8EA-66C5-4BB2-9044-89DFA6FF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B47-5049-49D2-AB84-C83103BC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821-00DF-4D00-B17C-89F0675A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C00-954C-417C-91EB-180A6534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F547-4562-41A1-AB3E-CBCD4C5F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A3BB-12A1-4903-BBB9-B4D96D10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D22B-6999-480B-96D8-30A3E502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FBA4-91B4-4C3C-B047-CFBAFB75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0BB9-1269-4EF7-B733-F6DFB6C5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338B-5FE1-4D6F-AB0C-30A36764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1428-6AD1-4434-923F-54518F38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1AF-C0C2-4E3B-9F64-3CB68C40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7216-6401-4CAC-86AB-0AA6228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1B0A-8D31-4E2D-92F3-7BAF1684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2F8A-AFE6-49B5-A607-EF39DD46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75DF-B8F4-4B77-AB38-D373931C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38A5-C42D-4C9D-8AC1-873DEB47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91D0-957E-43ED-937C-FD4850AC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3D1-4B14-4FA6-BF31-49C89CA8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520-1E4A-44D8-99B1-848D17E0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426-043A-4396-BB2F-3C4F5A42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402-B337-4BCF-ADFE-F58CA291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2AD-BAB6-4D96-8C00-E669EFCD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241-1B1C-4E83-965D-4ECEEE13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944D-C841-4F8B-982C-33742FF522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424B-118B-4894-808F-E6BD11DE1C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66"/>
                </a:solidFill>
                <a:latin typeface="Times New Roman"/>
              </a:rPr>
              <a:t>Using XML to store Descriptive Metadat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495288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Richard Murphy  Rosarie O’Riord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Central Statistics Offi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rel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JGP%20Logo-Text%20150%20dpi" descr=""/>
          <p:cNvPicPr/>
          <p:nvPr/>
        </p:nvPicPr>
        <p:blipFill>
          <a:blip r:embed="rId1"/>
          <a:stretch/>
        </p:blipFill>
        <p:spPr>
          <a:xfrm>
            <a:off x="0" y="0"/>
            <a:ext cx="256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20" y="-165240"/>
            <a:ext cx="936468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280" y="-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" y="4343400"/>
            <a:ext cx="1738440" cy="485640"/>
          </a:xfrm>
          <a:prstGeom prst="rightArrow">
            <a:avLst>
              <a:gd name="adj1" fmla="val 50000"/>
              <a:gd name="adj2" fmla="val 89492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505320" y="4191120"/>
            <a:ext cx="75960" cy="75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962520"/>
            <a:ext cx="2043000" cy="485640"/>
          </a:xfrm>
          <a:prstGeom prst="rightArrow">
            <a:avLst>
              <a:gd name="adj1" fmla="val 50000"/>
              <a:gd name="adj2" fmla="val 10517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2286000"/>
            <a:ext cx="1585800" cy="485640"/>
          </a:xfrm>
          <a:prstGeom prst="rightArrow">
            <a:avLst>
              <a:gd name="adj1" fmla="val 50000"/>
              <a:gd name="adj2" fmla="val 81635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95280" y="3886200"/>
            <a:ext cx="1890720" cy="485640"/>
          </a:xfrm>
          <a:prstGeom prst="rightArrow">
            <a:avLst>
              <a:gd name="adj1" fmla="val 50000"/>
              <a:gd name="adj2" fmla="val 97331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467480" y="2666880"/>
            <a:ext cx="1676520" cy="486000"/>
          </a:xfrm>
          <a:prstGeom prst="leftArrow">
            <a:avLst>
              <a:gd name="adj1" fmla="val 50000"/>
              <a:gd name="adj2" fmla="val 86241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77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ritical Success Facto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frastructural Iss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perational Iss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ntent Ru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fficial Corporate Poli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uture Developm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rporate ‘Look and Feel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tegrate with Core Data and Meta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ther Modu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Release Calend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ccess through Theme Li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ublication Catalog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equently Asked Ques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lossary of Terms/Thesaur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ackground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ject to build a Corporate Data Wareho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usiness Process Improvement Project to document all proces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ata and Metadata now know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ow to gather all metadata into one structur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JGP%20Logo-Text%20150%20dpi" descr=""/>
          <p:cNvPicPr/>
          <p:nvPr/>
        </p:nvPicPr>
        <p:blipFill>
          <a:blip r:embed="rId1"/>
          <a:stretch/>
        </p:blipFill>
        <p:spPr>
          <a:xfrm>
            <a:off x="0" y="0"/>
            <a:ext cx="256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Future Developments  ct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aleable to include new fiel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chiv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sion Cont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ules and Standa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poi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eep it si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unctionality = Complex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ultiple access points to metadata b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ore once reference ma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orkable Solutions n.e. High Te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ank You for Liste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JGP%20Logo-Text%20150%20dpi" descr=""/>
          <p:cNvPicPr/>
          <p:nvPr/>
        </p:nvPicPr>
        <p:blipFill>
          <a:blip r:embed="rId1"/>
          <a:stretch/>
        </p:blipFill>
        <p:spPr>
          <a:xfrm>
            <a:off x="6583320" y="0"/>
            <a:ext cx="256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oposed Solu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Use XML to build a metadata reposi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caleable and Web enab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ossibility of being integrated with core metadat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tegration with further develop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JGP%20Logo-Text%20150%20dpi" descr=""/>
          <p:cNvPicPr/>
          <p:nvPr/>
        </p:nvPicPr>
        <p:blipFill>
          <a:blip r:embed="rId1"/>
          <a:stretch/>
        </p:blipFill>
        <p:spPr>
          <a:xfrm>
            <a:off x="0" y="0"/>
            <a:ext cx="256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ools Us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TML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[Hyper Text Markup Language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XML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[EXtensible Markup Language]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XSL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[EXtensible Stylesheet Language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SP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            [Active Server Pages]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JavaScript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[JavaScript is a scripting language]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JGP%20Logo-Text%20150%20dpi" descr=""/>
          <p:cNvPicPr/>
          <p:nvPr/>
        </p:nvPicPr>
        <p:blipFill>
          <a:blip r:embed="rId1"/>
          <a:stretch/>
        </p:blipFill>
        <p:spPr>
          <a:xfrm>
            <a:off x="0" y="0"/>
            <a:ext cx="256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0" i="1" lang="en-GB" sz="3200" spc="-1" strike="noStrike">
                <a:solidFill>
                  <a:srgbClr val="ffcc66"/>
                </a:solidFill>
                <a:latin typeface="Times New Roman"/>
              </a:rPr>
              <a:t>XML  </a:t>
            </a:r>
            <a:r>
              <a:rPr b="0" i="1" lang="en-GB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ffcc66"/>
                </a:solidFill>
                <a:latin typeface="Times New Roman"/>
              </a:rPr>
              <a:t> HTML</a:t>
            </a:r>
            <a:br>
              <a:rPr sz="3200"/>
            </a:br>
            <a:r>
              <a:rPr b="1" i="1" lang="en-GB" sz="1600" spc="-1" strike="noStrike">
                <a:solidFill>
                  <a:srgbClr val="ffcc66"/>
                </a:solidFill>
                <a:latin typeface="Times New Roman"/>
              </a:rPr>
              <a:t>{EXtensible MarkUp Language} </a:t>
            </a:r>
            <a:r>
              <a:rPr b="0" i="1" lang="en-GB" sz="1600" spc="-1" strike="noStrike">
                <a:solidFill>
                  <a:srgbClr val="ffcc66"/>
                </a:solidFill>
                <a:latin typeface="Times New Roman"/>
              </a:rPr>
              <a:t>                       {</a:t>
            </a:r>
            <a:r>
              <a:rPr b="1" i="1" lang="en-GB" sz="1600" spc="-1" strike="noStrike">
                <a:solidFill>
                  <a:srgbClr val="ffcc66"/>
                </a:solidFill>
                <a:latin typeface="Times New Roman"/>
              </a:rPr>
              <a:t>Hyper Text Markup Language</a:t>
            </a:r>
            <a:r>
              <a:rPr b="0" i="1" lang="en-GB" sz="1600" spc="-1" strike="noStrike">
                <a:solidFill>
                  <a:srgbClr val="ffcc66"/>
                </a:solidFill>
                <a:latin typeface="Times New Roman"/>
              </a:rPr>
              <a:t>}</a:t>
            </a:r>
            <a:endParaRPr b="0" i="1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XML is about describing inform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XML was designed to describe data, and to focus on what data 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XML is a markup language much like HTML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XML tags are not predefined in XML. You must define your own tag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XML uses a Document Type Definition (DTD) or an XML Schema to describe the data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HTML is about displaying inform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An HTML file is a text file containing small markup tag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The Markup tags tells the Web brower how to display the pag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An HTML file can be created using a simple text edit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HTML was designed to display data, and to focus on how data looks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JGP%20Logo-Text%20150%20dpi" descr=""/>
          <p:cNvPicPr/>
          <p:nvPr/>
        </p:nvPicPr>
        <p:blipFill>
          <a:blip r:embed="rId1"/>
          <a:stretch/>
        </p:blipFill>
        <p:spPr>
          <a:xfrm>
            <a:off x="6583320" y="0"/>
            <a:ext cx="256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0" i="1" lang="en-GB" sz="2400" spc="-1" strike="noStrike">
                <a:solidFill>
                  <a:srgbClr val="ffcc66"/>
                </a:solidFill>
                <a:latin typeface="Times New Roman"/>
              </a:rPr>
              <a:t>XSL                        </a:t>
            </a:r>
            <a:br>
              <a:rPr sz="2400"/>
            </a:br>
            <a:r>
              <a:rPr b="0" i="1" lang="en-GB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i="1" lang="en-GB" sz="2400" spc="-1" strike="noStrike">
                <a:solidFill>
                  <a:srgbClr val="ffcc66"/>
                </a:solidFill>
                <a:latin typeface="Times New Roman"/>
              </a:rPr>
              <a:t>{EXtensible Stylesheet Language}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re must be something in addition to the XML document that describes how the document should be displayed; and that is XSL!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XSL consists of three parts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XSLT (a language for transforming XML document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XPath (a language for defining parts of an XML document)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XSL Formatting Objects (a vocabulary for formatting XML documents)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JGP%20Logo-Text%20150%20dpi" descr=""/>
          <p:cNvPicPr/>
          <p:nvPr/>
        </p:nvPicPr>
        <p:blipFill>
          <a:blip r:embed="rId1"/>
          <a:stretch/>
        </p:blipFill>
        <p:spPr>
          <a:xfrm>
            <a:off x="6583320" y="0"/>
            <a:ext cx="256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90720" y="3352680"/>
            <a:ext cx="1662120" cy="486000"/>
          </a:xfrm>
          <a:prstGeom prst="rightArrow">
            <a:avLst>
              <a:gd name="adj1" fmla="val 50000"/>
              <a:gd name="adj2" fmla="val 855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200400"/>
            <a:ext cx="1509840" cy="485640"/>
          </a:xfrm>
          <a:prstGeom prst="rightArrow">
            <a:avLst>
              <a:gd name="adj1" fmla="val 50000"/>
              <a:gd name="adj2" fmla="val 77724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17:17:32Z</dcterms:created>
  <dc:creator>Murphyr</dc:creator>
  <dc:description/>
  <dc:language>en-US</dc:language>
  <cp:lastModifiedBy>Murphyr</cp:lastModifiedBy>
  <cp:lastPrinted>2004-02-02T14:29:44Z</cp:lastPrinted>
  <dcterms:modified xsi:type="dcterms:W3CDTF">2004-02-02T14:31:52Z</dcterms:modified>
  <cp:revision>13</cp:revision>
  <dc:subject/>
  <dc:title>No Slide Title</dc:title>
</cp:coreProperties>
</file>