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F70-646A-4A17-A666-6EEE3FD3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8F9-0B59-4DC8-BE70-AFB65F4D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511-1ED9-4178-B07C-1E051353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E80-8358-46EC-9E09-94B6BCEA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2430-6EC6-461B-BD01-1F8754BD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E42E-C13B-4C33-B436-143B2216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B0B0-F14B-4A49-A00A-3887CFFB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4BB8-8096-4CD2-9FDD-0B82BFEE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E029-B9A6-4DF1-8207-C3485140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6A8C-A659-4142-824C-5D4C3A1E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52EA-B2F0-4765-A71C-A4A18C1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B2D-815A-4437-B0CC-F9347722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7A40-930D-44B0-80C0-04F886C9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E697-B1F4-4586-BE66-9283461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8155-2A1E-4083-B8E8-629445A1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033C-9978-4A3F-A90D-E94F690B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735D-78A9-41BD-86F7-7115D254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7ED-DB44-4F3C-BE2A-CEBF2F33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DA7-5FC6-4B89-8C92-9DDA8CB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0B2-DB73-4EEF-A2AD-4A7F224A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5FC-9DFE-43DA-9DEE-945B2064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0E9-BCE7-444F-ABAD-A32881A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9C6-23DF-4FC3-BAE9-532DAD2B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B90-0B9C-4292-AD17-C0E4FEE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E6B3-0579-43CB-A694-3457411DDF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1C9A-DB60-4095-AEA3-90054C966F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66"/>
                </a:solidFill>
                <a:latin typeface="Times New Roman"/>
              </a:rPr>
              <a:t>Using XML to store Descriptive Metadat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Richard Murphy  Rosarie O’Riord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entral Statistics Off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rel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JGP%20Logo-Text%20150%20dpi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20" y="-165240"/>
            <a:ext cx="936468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4343400"/>
            <a:ext cx="1738440" cy="485640"/>
          </a:xfrm>
          <a:prstGeom prst="rightArrow">
            <a:avLst>
              <a:gd name="adj1" fmla="val 50000"/>
              <a:gd name="adj2" fmla="val 8949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05320" y="4191120"/>
            <a:ext cx="75960" cy="75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962520"/>
            <a:ext cx="2043000" cy="485640"/>
          </a:xfrm>
          <a:prstGeom prst="rightArrow">
            <a:avLst>
              <a:gd name="adj1" fmla="val 50000"/>
              <a:gd name="adj2" fmla="val 10517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2286000"/>
            <a:ext cx="1585800" cy="485640"/>
          </a:xfrm>
          <a:prstGeom prst="rightArrow">
            <a:avLst>
              <a:gd name="adj1" fmla="val 50000"/>
              <a:gd name="adj2" fmla="val 81635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95280" y="3886200"/>
            <a:ext cx="1890720" cy="485640"/>
          </a:xfrm>
          <a:prstGeom prst="rightArrow">
            <a:avLst>
              <a:gd name="adj1" fmla="val 50000"/>
              <a:gd name="adj2" fmla="val 9733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67480" y="2666880"/>
            <a:ext cx="1676520" cy="486000"/>
          </a:xfrm>
          <a:prstGeom prst="leftArrow">
            <a:avLst>
              <a:gd name="adj1" fmla="val 50000"/>
              <a:gd name="adj2" fmla="val 8624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77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ritical Success Facto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rastructural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perational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tent Ru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fficial Corporate Poli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ture Develop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rporate ‘Look and Feel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tegrate with Core Data and Meta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ther Modu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lease Calend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ccess through Theme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ublication Catalo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equently Asked Ques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lossary of Terms/Thesaur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ject to build a Corporate Data Wareho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usiness Process Improvement Project to document all proces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ta and Metadata now kno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ow to gather all metadata into one structu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JGP%20Logo-Text%20150%20dpi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Future Developments  ct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aleable to include new fiel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chiv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sion Cont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ules and Standa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poi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eep it si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unctionality = Complex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ultiple access points to metadata b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ore once reference m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kable Solutions n.e. High T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nk You for Liste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JGP%20Logo-Text%20150%20dpi" descr=""/>
          <p:cNvPicPr/>
          <p:nvPr/>
        </p:nvPicPr>
        <p:blipFill>
          <a:blip r:embed="rId1"/>
          <a:stretch/>
        </p:blipFill>
        <p:spPr>
          <a:xfrm>
            <a:off x="658332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posed Solu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Use XML to build a metadata reposi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caleable and Web enab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ssibility of being integrated with core metadat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tegration with further develop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JGP%20Logo-Text%20150%20dpi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ools Us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TML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[Hyper Text Markup Language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XML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[EXtensible Markup Language]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XSL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[EXtensible Stylesheet Language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SP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           [Active Server Pages]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JavaScript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[JavaScript is a scripting language]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JGP%20Logo-Text%20150%20dpi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XML  </a:t>
            </a: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ffcc66"/>
                </a:solidFill>
                <a:latin typeface="Times New Roman"/>
              </a:rPr>
              <a:t> HTML</a:t>
            </a:r>
            <a:br>
              <a:rPr sz="3200"/>
            </a:br>
            <a:r>
              <a:rPr b="1" i="1" lang="en-GB" sz="1600" spc="-1" strike="noStrike">
                <a:solidFill>
                  <a:srgbClr val="ffcc66"/>
                </a:solidFill>
                <a:latin typeface="Times New Roman"/>
              </a:rPr>
              <a:t>{EXtensible MarkUp Language} </a:t>
            </a:r>
            <a:r>
              <a:rPr b="0" i="1" lang="en-GB" sz="1600" spc="-1" strike="noStrike">
                <a:solidFill>
                  <a:srgbClr val="ffcc66"/>
                </a:solidFill>
                <a:latin typeface="Times New Roman"/>
              </a:rPr>
              <a:t>                       {</a:t>
            </a:r>
            <a:r>
              <a:rPr b="1" i="1" lang="en-GB" sz="1600" spc="-1" strike="noStrike">
                <a:solidFill>
                  <a:srgbClr val="ffcc66"/>
                </a:solidFill>
                <a:latin typeface="Times New Roman"/>
              </a:rPr>
              <a:t>Hyper Text Markup Language</a:t>
            </a:r>
            <a:r>
              <a:rPr b="0" i="1" lang="en-GB" sz="1600" spc="-1" strike="noStrike">
                <a:solidFill>
                  <a:srgbClr val="ffcc66"/>
                </a:solidFill>
                <a:latin typeface="Times New Roman"/>
              </a:rPr>
              <a:t>}</a:t>
            </a:r>
            <a:endParaRPr b="0" i="1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is about describing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was designed to describe data, and to focus on what data 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is a markup language much like HTML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tags are not predefined in XML. You must define your own tag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XML uses a Document Type Definition (DTD) or an XML Schema to describe the dat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HTML is about displaying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An HTML file is a text file containing small markup tag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The Markup tags tells the Web brower how to display the pag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An HTML file can be created using a simple text edi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</a:rPr>
              <a:t>HTML was designed to display data, and to focus on how data looks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JGP%20Logo-Text%20150%20dpi" descr=""/>
          <p:cNvPicPr/>
          <p:nvPr/>
        </p:nvPicPr>
        <p:blipFill>
          <a:blip r:embed="rId1"/>
          <a:stretch/>
        </p:blipFill>
        <p:spPr>
          <a:xfrm>
            <a:off x="658332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i="1" lang="en-GB" sz="2400" spc="-1" strike="noStrike">
                <a:solidFill>
                  <a:srgbClr val="ffcc66"/>
                </a:solidFill>
                <a:latin typeface="Times New Roman"/>
              </a:rPr>
              <a:t>XSL                        </a:t>
            </a:r>
            <a:br>
              <a:rPr sz="2400"/>
            </a:br>
            <a:r>
              <a:rPr b="0" i="1" lang="en-GB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i="1" lang="en-GB" sz="2400" spc="-1" strike="noStrike">
                <a:solidFill>
                  <a:srgbClr val="ffcc66"/>
                </a:solidFill>
                <a:latin typeface="Times New Roman"/>
              </a:rPr>
              <a:t>{EXtensible Stylesheet Language}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re must be something in addition to the XML document that describes how the document should be displayed; and that is XSL!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XSL consists of three parts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XSLT (a language for transforming XML document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XPath (a language for defining parts of an XML document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XSL Formatting Objects (a vocabulary for formatting XML documents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JGP%20Logo-Text%20150%20dpi" descr=""/>
          <p:cNvPicPr/>
          <p:nvPr/>
        </p:nvPicPr>
        <p:blipFill>
          <a:blip r:embed="rId1"/>
          <a:stretch/>
        </p:blipFill>
        <p:spPr>
          <a:xfrm>
            <a:off x="6583320" y="0"/>
            <a:ext cx="256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3352680"/>
            <a:ext cx="1662120" cy="486000"/>
          </a:xfrm>
          <a:prstGeom prst="rightArrow">
            <a:avLst>
              <a:gd name="adj1" fmla="val 50000"/>
              <a:gd name="adj2" fmla="val 855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200400"/>
            <a:ext cx="1509840" cy="485640"/>
          </a:xfrm>
          <a:prstGeom prst="rightArrow">
            <a:avLst>
              <a:gd name="adj1" fmla="val 50000"/>
              <a:gd name="adj2" fmla="val 77724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7:17:32Z</dcterms:created>
  <dc:creator>Murphyr</dc:creator>
  <dc:description/>
  <dc:language>en-US</dc:language>
  <cp:lastModifiedBy>Murphyr</cp:lastModifiedBy>
  <cp:lastPrinted>2004-02-02T14:29:44Z</cp:lastPrinted>
  <dcterms:modified xsi:type="dcterms:W3CDTF">2004-02-02T14:31:52Z</dcterms:modified>
  <cp:revision>13</cp:revision>
  <dc:subject/>
  <dc:title>No Slide Title</dc:title>
</cp:coreProperties>
</file>