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80640" y="32976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57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4520" y="1790280"/>
            <a:ext cx="772452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4520" y="3899880"/>
            <a:ext cx="772452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80640" y="32976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57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4520" y="1790280"/>
            <a:ext cx="376956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3080" y="1790280"/>
            <a:ext cx="376956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4520" y="3899880"/>
            <a:ext cx="376956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33080" y="3899880"/>
            <a:ext cx="376956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0640" y="32976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57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4520" y="1790280"/>
            <a:ext cx="248688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960" y="1790280"/>
            <a:ext cx="248688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97760" y="1790280"/>
            <a:ext cx="248688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74520" y="3899880"/>
            <a:ext cx="248688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960" y="3899880"/>
            <a:ext cx="248688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97760" y="3899880"/>
            <a:ext cx="248688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80640" y="32976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57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74520" y="1790280"/>
            <a:ext cx="7724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80640" y="32976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5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74520" y="1790280"/>
            <a:ext cx="7724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0640" y="32976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5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4520" y="1790280"/>
            <a:ext cx="37695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33080" y="1790280"/>
            <a:ext cx="37695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0640" y="32976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57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80640" y="329760"/>
            <a:ext cx="7729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0640" y="32976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57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4520" y="1790280"/>
            <a:ext cx="376956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33080" y="1790280"/>
            <a:ext cx="37695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74520" y="3899880"/>
            <a:ext cx="376956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0640" y="32976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57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4520" y="1790280"/>
            <a:ext cx="37695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3080" y="1790280"/>
            <a:ext cx="376956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33080" y="3899880"/>
            <a:ext cx="376956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80640" y="32976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57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4520" y="1790280"/>
            <a:ext cx="376956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33080" y="1790280"/>
            <a:ext cx="376956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4520" y="3899880"/>
            <a:ext cx="772452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0640" y="32976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57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957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4520" y="1790280"/>
            <a:ext cx="7724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57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22b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957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22b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957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22b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957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22b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122b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22b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122b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22b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122b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22b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71600" y="6129360"/>
            <a:ext cx="2093760" cy="39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122b6"/>
                </a:solidFill>
                <a:latin typeface="Times New Roman"/>
              </a:rPr>
              <a:t>Variables documentation system </a:t>
            </a:r>
            <a:br>
              <a:rPr sz="3600"/>
            </a:br>
            <a:br>
              <a:rPr sz="3600"/>
            </a:br>
            <a:r>
              <a:rPr b="1" lang="en-AU" sz="3600" spc="-1" strike="noStrike">
                <a:solidFill>
                  <a:srgbClr val="0122b6"/>
                </a:solidFill>
                <a:latin typeface="Times New Roman"/>
              </a:rPr>
              <a:t>in Statistics Norway</a:t>
            </a:r>
            <a:endParaRPr b="1" lang="en-US" sz="3600" spc="-1" strike="noStrike">
              <a:solidFill>
                <a:srgbClr val="00957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ne Gro Hustoft (agt@ssb.no)</a:t>
            </a:r>
            <a:endParaRPr b="0" lang="en-US" sz="2600" spc="-1" strike="noStrike">
              <a:solidFill>
                <a:srgbClr val="0122b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nny Linnerud (jal@ssb.no)</a:t>
            </a:r>
            <a:endParaRPr b="0" lang="en-US" sz="2400" spc="-1" strike="noStrike">
              <a:solidFill>
                <a:srgbClr val="0122b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996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8800" y="981000"/>
            <a:ext cx="77565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122b6"/>
                </a:solidFill>
                <a:latin typeface="Times New Roman"/>
              </a:rPr>
              <a:t>Vardok (Variable Documentation System)</a:t>
            </a:r>
            <a:endParaRPr b="0" lang="en-US" sz="28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most important purposes: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central system for documenting ”all” variables in 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atistics Norway (e.g. definition, validity period, code list....)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tool for harmonising names and definitions of variables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r involvement!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epwise development!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457200"/>
            <a:ext cx="798984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122b6"/>
                </a:solidFill>
                <a:latin typeface="Times New Roman"/>
              </a:rPr>
              <a:t>Organisational information</a:t>
            </a:r>
            <a:endParaRPr b="0" lang="en-US" sz="28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oject group consisting of 1 standards, 2-4 subject matter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2 IT specialists 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ference group consisting of heads of relevant divisions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eering group consisting of heads of relevant departments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533520"/>
            <a:ext cx="861048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122b6"/>
                </a:solidFill>
                <a:latin typeface="Times New Roman"/>
              </a:rPr>
              <a:t>Development process using contextual design</a:t>
            </a:r>
            <a:r>
              <a:rPr b="1" lang="nb-NO" sz="2800" spc="-1" strike="noStrike">
                <a:solidFill>
                  <a:srgbClr val="0122b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122b6"/>
                </a:solidFill>
                <a:latin typeface="Times New Roman"/>
              </a:rPr>
              <a:t>                            </a:t>
            </a:r>
            <a:r>
              <a:rPr b="1" lang="nb-NO" sz="2800" spc="-1" strike="noStrike">
                <a:solidFill>
                  <a:srgbClr val="0122b6"/>
                </a:solidFill>
                <a:latin typeface="Times New Roman"/>
              </a:rPr>
              <a:t>(</a:t>
            </a:r>
            <a:r>
              <a:rPr b="1" lang="en-AU" sz="2800" spc="-1" strike="noStrike">
                <a:solidFill>
                  <a:srgbClr val="0122b6"/>
                </a:solidFill>
                <a:latin typeface="Times New Roman"/>
              </a:rPr>
              <a:t>2001-200</a:t>
            </a:r>
            <a:r>
              <a:rPr b="1" lang="nb-NO" sz="2800" spc="-1" strike="noStrike">
                <a:solidFill>
                  <a:srgbClr val="0122b6"/>
                </a:solidFill>
                <a:latin typeface="Times New Roman"/>
              </a:rPr>
              <a:t>2</a:t>
            </a:r>
            <a:r>
              <a:rPr b="1" lang="en-AU" sz="2800" spc="-1" strike="noStrike">
                <a:solidFill>
                  <a:srgbClr val="0122b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pping of user needs and present status of variable documentation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terviews with representatives of subject matter divisions directly involved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aper prototyping, test version, testing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r involvement: 15 divisions and 42 people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ilot version put into production 2002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457200"/>
            <a:ext cx="798984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122b6"/>
                </a:solidFill>
                <a:latin typeface="Times New Roman"/>
              </a:rPr>
              <a:t>Development process </a:t>
            </a:r>
            <a:r>
              <a:rPr b="1" lang="nb-NO" sz="2800" spc="-1" strike="noStrike">
                <a:solidFill>
                  <a:srgbClr val="0122b6"/>
                </a:solidFill>
                <a:latin typeface="Times New Roman"/>
              </a:rPr>
              <a:t>(2003)</a:t>
            </a:r>
            <a:endParaRPr b="0" lang="en-US" sz="28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inking to other metadata systems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122b6"/>
                </a:solidFill>
                <a:latin typeface="Times New Roman"/>
              </a:rPr>
              <a:t>Resources spent 2001-2003</a:t>
            </a:r>
            <a:endParaRPr b="0" lang="en-US" sz="28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bit more than 3 man years (more than 70% IT)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122b6"/>
                </a:solidFill>
                <a:latin typeface="Times New Roman"/>
              </a:rPr>
              <a:t>Status</a:t>
            </a:r>
            <a:endParaRPr b="0" lang="en-US" sz="28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002: 158 variables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003: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510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variables documente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in total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794200" y="3637080"/>
            <a:ext cx="1981440" cy="1392120"/>
          </a:xfrm>
          <a:prstGeom prst="rect">
            <a:avLst/>
          </a:prstGeom>
          <a:solidFill>
            <a:srgbClr val="114ffb"/>
          </a:solidFill>
          <a:ln w="9360">
            <a:solidFill>
              <a:srgbClr val="012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Times New Roman"/>
              </a:rPr>
              <a:t>StatBank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Times New Roman"/>
              </a:rPr>
              <a:t>Norway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5920" y="1859040"/>
            <a:ext cx="1905120" cy="1392120"/>
          </a:xfrm>
          <a:prstGeom prst="rect">
            <a:avLst/>
          </a:prstGeom>
          <a:solidFill>
            <a:srgbClr val="114ffb"/>
          </a:solidFill>
          <a:ln w="9360">
            <a:solidFill>
              <a:srgbClr val="012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Times New Roman"/>
              </a:rPr>
              <a:t>VarDok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9480" y="852480"/>
            <a:ext cx="1981080" cy="1392120"/>
          </a:xfrm>
          <a:prstGeom prst="rect">
            <a:avLst/>
          </a:prstGeom>
          <a:solidFill>
            <a:srgbClr val="114ffb"/>
          </a:solidFill>
          <a:ln w="9360">
            <a:solidFill>
              <a:srgbClr val="012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Times New Roman"/>
              </a:rPr>
              <a:t>DataDok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70520" y="1859040"/>
            <a:ext cx="1752480" cy="1082520"/>
          </a:xfrm>
          <a:prstGeom prst="ellipse">
            <a:avLst/>
          </a:prstGeom>
          <a:solidFill>
            <a:srgbClr val="114ffb"/>
          </a:solidFill>
          <a:ln w="9360">
            <a:solidFill>
              <a:srgbClr val="012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Times New Roman"/>
              </a:rPr>
              <a:t>About the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Times New Roman"/>
              </a:rPr>
              <a:t>statistics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257800" y="2362320"/>
            <a:ext cx="609480" cy="311040"/>
          </a:xfrm>
          <a:prstGeom prst="line">
            <a:avLst/>
          </a:prstGeom>
          <a:ln w="9360">
            <a:solidFill>
              <a:srgbClr val="0122b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4920" y="2941560"/>
            <a:ext cx="0" cy="695520"/>
          </a:xfrm>
          <a:prstGeom prst="line">
            <a:avLst/>
          </a:prstGeom>
          <a:ln w="9360">
            <a:solidFill>
              <a:srgbClr val="0122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1936800"/>
            <a:ext cx="457200" cy="0"/>
          </a:xfrm>
          <a:prstGeom prst="line">
            <a:avLst/>
          </a:prstGeom>
          <a:ln w="9360">
            <a:solidFill>
              <a:srgbClr val="0122b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7640" y="3483000"/>
            <a:ext cx="1828800" cy="927000"/>
          </a:xfrm>
          <a:prstGeom prst="ellipse">
            <a:avLst/>
          </a:prstGeom>
          <a:solidFill>
            <a:srgbClr val="114ffb"/>
          </a:solidFill>
          <a:ln w="9360">
            <a:solidFill>
              <a:srgbClr val="012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Times New Roman"/>
              </a:rPr>
              <a:t>Reports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84320" y="2786040"/>
            <a:ext cx="1371600" cy="696960"/>
          </a:xfrm>
          <a:prstGeom prst="line">
            <a:avLst/>
          </a:prstGeom>
          <a:ln w="9360">
            <a:solidFill>
              <a:srgbClr val="0122b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4541760"/>
            <a:ext cx="1905120" cy="1314360"/>
          </a:xfrm>
          <a:prstGeom prst="rect">
            <a:avLst/>
          </a:prstGeom>
          <a:solidFill>
            <a:srgbClr val="114ffb"/>
          </a:solidFill>
          <a:ln w="9360">
            <a:solidFill>
              <a:srgbClr val="012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Times New Roman"/>
              </a:rPr>
              <a:t>Stabas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03320" y="2286000"/>
            <a:ext cx="186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File descriptions</a:t>
            </a:r>
            <a:endParaRPr b="0" lang="en-US" sz="20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160" y="13986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Variable definitions</a:t>
            </a:r>
            <a:endParaRPr b="0" lang="en-US" sz="18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03640" y="5070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Dissemination</a:t>
            </a:r>
            <a:endParaRPr b="0" lang="en-US" sz="20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5105520"/>
            <a:ext cx="17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lassifications</a:t>
            </a:r>
            <a:endParaRPr b="0" lang="en-US" sz="20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14920" y="4789440"/>
            <a:ext cx="1066680" cy="0"/>
          </a:xfrm>
          <a:prstGeom prst="line">
            <a:avLst/>
          </a:prstGeom>
          <a:ln w="12600">
            <a:solidFill>
              <a:srgbClr val="0122b6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32440" y="3265560"/>
            <a:ext cx="749160" cy="1206360"/>
          </a:xfrm>
          <a:prstGeom prst="line">
            <a:avLst/>
          </a:prstGeom>
          <a:ln w="12600">
            <a:solidFill>
              <a:srgbClr val="0122b6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978360" y="3214800"/>
            <a:ext cx="0" cy="1295280"/>
          </a:xfrm>
          <a:prstGeom prst="line">
            <a:avLst/>
          </a:prstGeom>
          <a:ln w="9360">
            <a:solidFill>
              <a:srgbClr val="0122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93680"/>
            <a:ext cx="79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122b6"/>
                </a:solidFill>
                <a:latin typeface="Times New Roman"/>
              </a:rPr>
              <a:t>Linking to other metadata systems</a:t>
            </a:r>
            <a:endParaRPr b="0" lang="en-US" sz="2800" spc="-1" strike="noStrike">
              <a:solidFill>
                <a:srgbClr val="0122b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rcRect l="0" t="0" r="25782" b="2043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220680"/>
              <a:ext cx="701028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Exit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</a:t>
              </a: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 Edit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</a:t>
              </a: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 Language 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</a:t>
              </a: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Search 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</a:t>
              </a: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Print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</a:t>
              </a: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 Help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</a:t>
              </a: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 News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</a:t>
              </a: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 Window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" y="256716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Valid from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19920" y="2714760"/>
              <a:ext cx="1371600" cy="520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File descriptions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227484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Owned by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880" y="1760400"/>
              <a:ext cx="12193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Definition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0880" y="1173240"/>
              <a:ext cx="12193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0880" y="1467000"/>
              <a:ext cx="12193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Short name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1320" y="5502240"/>
              <a:ext cx="175248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Approved for Internet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48720" y="5502240"/>
              <a:ext cx="106668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Internal use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53280" y="3668760"/>
              <a:ext cx="9907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External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153280" y="3154320"/>
              <a:ext cx="9907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Search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19920" y="2421000"/>
              <a:ext cx="13716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Contact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3200" y="2641680"/>
              <a:ext cx="9907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            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to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3200" y="2421000"/>
              <a:ext cx="9907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Sensitivity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557532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Ext. source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" y="528156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Int. source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" y="498960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Statistic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476892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Theme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454824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Code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</a:t>
              </a: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list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425448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Standard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" y="3668760"/>
              <a:ext cx="12193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Comments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" y="337500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Ext. docum.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308124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Int. docum.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286056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Unit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34320" y="6456240"/>
              <a:ext cx="83808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Copy id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05520" y="6456240"/>
              <a:ext cx="38088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by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9680" y="6456240"/>
              <a:ext cx="38124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by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0400" y="6456240"/>
              <a:ext cx="83808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Edited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2280" y="6456240"/>
              <a:ext cx="9144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Created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77320" y="6089760"/>
              <a:ext cx="106668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Cancel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09680" y="6089760"/>
              <a:ext cx="9907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Save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6089760"/>
              <a:ext cx="9907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Print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62320" y="454824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No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62320" y="432900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No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20120" y="2641680"/>
              <a:ext cx="4572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No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33920" y="2421000"/>
              <a:ext cx="99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Times New Roman"/>
                </a:rPr>
                <a:t>Ordinary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2"/>
            <a:srcRect l="0" t="0" r="25782" b="2043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220680"/>
              <a:ext cx="701028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Exit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</a:t>
              </a: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 Edit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</a:t>
              </a: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 Language 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</a:t>
              </a: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Search 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</a:t>
              </a: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Print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</a:t>
              </a: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 Help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</a:t>
              </a: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 News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</a:t>
              </a: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 Window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256716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Valid from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62720" y="2666880"/>
              <a:ext cx="1371600" cy="520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File descriptions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227484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Owned by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880" y="1760400"/>
              <a:ext cx="12193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Definition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1173240"/>
              <a:ext cx="12193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0880" y="1467000"/>
              <a:ext cx="12193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Short name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91320" y="5502240"/>
              <a:ext cx="175248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Approved for Internet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48720" y="5502240"/>
              <a:ext cx="106668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Internal use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3280" y="3668760"/>
              <a:ext cx="9907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External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53280" y="3154320"/>
              <a:ext cx="9907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Search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2720" y="2421000"/>
              <a:ext cx="18288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Contact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3200" y="2641680"/>
              <a:ext cx="9907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            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to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2421000"/>
              <a:ext cx="9907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Sensitivity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557532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Ext. source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528156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Int. source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498960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Statistic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476892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Theme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" y="454824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Code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</a:t>
              </a: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list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25448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Standard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3668760"/>
              <a:ext cx="12193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Comments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" y="337500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Ext. docum.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308124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Int. docum.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86056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Unit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34320" y="6456240"/>
              <a:ext cx="83808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Copy id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520" y="6456240"/>
              <a:ext cx="38088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by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09680" y="6456240"/>
              <a:ext cx="38124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by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6456240"/>
              <a:ext cx="83808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Edited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280" y="6456240"/>
              <a:ext cx="9144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Created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77320" y="6089760"/>
              <a:ext cx="106668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Cancel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9680" y="6089760"/>
              <a:ext cx="9907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Save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280" y="6089760"/>
              <a:ext cx="99072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Print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454824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No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62320" y="4329000"/>
              <a:ext cx="11430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No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0120" y="2641680"/>
              <a:ext cx="457200" cy="307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No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920" y="2421000"/>
              <a:ext cx="99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Times New Roman"/>
                </a:rPr>
                <a:t>Ordinary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05320" y="4267080"/>
              <a:ext cx="4572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122b6"/>
                  </a:solidFill>
                  <a:latin typeface="Times New Roman"/>
                </a:rPr>
                <a:t>Standard Industrial Classification</a:t>
              </a:r>
              <a:r>
                <a:rPr b="0" lang="nb-NO" sz="1400" spc="-1" strike="noStrike">
                  <a:solidFill>
                    <a:srgbClr val="0122b6"/>
                  </a:solidFill>
                  <a:latin typeface="Times New Roman"/>
                </a:rPr>
                <a:t>  </a:t>
              </a:r>
              <a:r>
                <a:rPr b="0" lang="nb-NO" sz="1400" spc="-1" strike="noStrike" u="sng">
                  <a:solidFill>
                    <a:srgbClr val="0122b6"/>
                  </a:solidFill>
                  <a:uFillTx/>
                  <a:latin typeface="Times New Roman"/>
                </a:rPr>
                <a:t>            </a:t>
              </a:r>
              <a:endParaRPr b="0" lang="en-US" sz="14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86600" y="2666880"/>
              <a:ext cx="457200" cy="27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122b6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52480" y="4572000"/>
              <a:ext cx="457200" cy="27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122b6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4267080"/>
              <a:ext cx="457200" cy="27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122b6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122b6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505320" y="4267080"/>
            <a:ext cx="4572000" cy="30492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9560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3844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2716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5280" y="523800"/>
            <a:ext cx="70675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122b6"/>
                </a:solidFill>
                <a:latin typeface="Times New Roman"/>
              </a:rPr>
              <a:t>Challenges in future development</a:t>
            </a:r>
            <a:endParaRPr b="0" lang="en-US" sz="28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ariables based on other variables: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arA=VarB+VarC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ltilingual functionality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ardok’s place in the production process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wnership of variables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 Internet</a:t>
            </a: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2b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06:36:07Z</dcterms:created>
  <dc:creator>Anne Gro Hustoft</dc:creator>
  <dc:description/>
  <dc:language>en-US</dc:language>
  <cp:lastModifiedBy>UNECE</cp:lastModifiedBy>
  <dcterms:modified xsi:type="dcterms:W3CDTF">2004-02-09T07:51:30Z</dcterms:modified>
  <cp:revision>72</cp:revision>
  <dc:subject/>
  <dc:title>Variables – model and demonstration</dc:title>
</cp:coreProperties>
</file>