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5D3-2DAC-4CDB-A9F3-6EDC1C67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B6C-754C-44AC-8425-35E7655C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9B7-0543-417E-B6FC-838BCD17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95F-1134-42FD-B060-6460BD66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18F-8F71-4628-B9FF-831F4479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FC0-6DDD-4E81-8D13-312F7CA7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E3E-4094-4FD9-A73F-77975F67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F78-5935-4FB5-811D-BD4109F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9F6-AA2F-4DA4-8BF9-30776516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C0E-FAB8-4F43-AFFD-6654D41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0B2-9497-4AC0-8783-157FE41B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53A-A018-4246-8554-D78DF26A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F01-538D-4A8D-8EA5-75328679D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adata Driven 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tistical Data Warehouse System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 the Hungarian Central Statistical Office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re P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nior IT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ngarian Central Statistical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0" y="304920"/>
            <a:ext cx="2286000" cy="914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1371600"/>
            <a:ext cx="518184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90720"/>
            <a:ext cx="1447920" cy="55623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343400"/>
            <a:ext cx="4038840" cy="22096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4343400"/>
            <a:ext cx="228600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867280"/>
            <a:ext cx="22860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648320"/>
            <a:ext cx="266688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6019920"/>
            <a:ext cx="373356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486400"/>
            <a:ext cx="23623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4952880"/>
            <a:ext cx="236232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2057400"/>
            <a:ext cx="1981080" cy="990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981080"/>
            <a:ext cx="2438280" cy="1067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276720"/>
            <a:ext cx="4572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44792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129528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209680"/>
            <a:ext cx="1600200" cy="6098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3200400"/>
            <a:ext cx="160020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228600"/>
            <a:ext cx="160020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1447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DATA WAREHOUSE for HCSO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343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ta i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648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ta, Ready for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486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Ele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9528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ggreg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724280"/>
            <a:ext cx="13716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RACLE 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572000"/>
            <a:ext cx="25146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S -, Cobol datase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racle none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iles on PC-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ementar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2057400"/>
            <a:ext cx="22100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racle relational tables with speci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ggrega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9810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racle EXPRES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dimensional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d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3808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ISSEMINATION d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Oracl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RESS multidimen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80880"/>
            <a:ext cx="1523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racle Discov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04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447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ubject Ma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28600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nsistent Data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812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9880"/>
            <a:ext cx="1295280" cy="1143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962520"/>
            <a:ext cx="15238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mensio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u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ierarch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10552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105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tat. Terms,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91320"/>
            <a:ext cx="12952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791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8769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60199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335268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236232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895480"/>
            <a:ext cx="228600" cy="53352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895480"/>
            <a:ext cx="228600" cy="53352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83808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38088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9528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762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" y="990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eta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80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W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ata Warehous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752480"/>
            <a:ext cx="2286000" cy="2057400"/>
          </a:xfrm>
          <a:prstGeom prst="flowChartMagneticDisk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2096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572000"/>
            <a:ext cx="167616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345800">
            <a:off x="2590560" y="2514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5029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943600"/>
            <a:ext cx="167616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0484600">
            <a:off x="2742840" y="6019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440800">
            <a:off x="5638320" y="26665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141200">
            <a:off x="5638680" y="373356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362320"/>
            <a:ext cx="1981080" cy="327636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52680" y="1905120"/>
            <a:ext cx="2019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 CE"/>
              </a:rPr>
              <a:t>Data Wareho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 CE"/>
              <a:ea typeface="Times New Roman CE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200400"/>
            <a:ext cx="2286000" cy="2057400"/>
          </a:xfrm>
          <a:prstGeom prst="flowChartMagneticDisk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29000" y="4191120"/>
            <a:ext cx="20192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 CE"/>
              </a:rPr>
              <a:t>RDB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 CE"/>
              <a:ea typeface="Times New Roman C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29000" y="2666880"/>
            <a:ext cx="20192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DB-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724280"/>
            <a:ext cx="2286000" cy="1676520"/>
          </a:xfrm>
          <a:prstGeom prst="flowChartMagneticDisk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29000" y="5562720"/>
            <a:ext cx="201924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 CE"/>
              </a:rPr>
              <a:t>ME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 CE"/>
              <a:ea typeface="Times New Roman CE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4290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484600">
            <a:off x="2590560" y="3352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440800">
            <a:off x="5714640" y="510516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35812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-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6483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 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345800">
            <a:off x="2590560" y="3886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429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2096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B 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5791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5867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sers:</a:t>
            </a:r>
            <a:r>
              <a:rPr b="1" lang="hu-HU" sz="2400" spc="-1" strike="noStrike">
                <a:solidFill>
                  <a:srgbClr val="ff00ff"/>
                </a:solidFill>
                <a:latin typeface="Times New Roman"/>
              </a:rPr>
              <a:t> Statist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cc99"/>
                </a:solidFill>
                <a:latin typeface="Times New Roman"/>
              </a:rPr>
              <a:t>            </a:t>
            </a:r>
            <a:r>
              <a:rPr b="1" lang="hu-HU" sz="2400" spc="-1" strike="noStrike">
                <a:solidFill>
                  <a:srgbClr val="00cc99"/>
                </a:solidFill>
                <a:latin typeface="Times New Roman"/>
              </a:rPr>
              <a:t>IT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clusions of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eta Data Driven Systems’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highly qualified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fi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lly describ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&amp; meta data in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eta data system becomes comp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od meta data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meta data collection (co-ordination or workflow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so easy to develop a meta data driv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9:17Z</dcterms:created>
  <dc:creator>Szuper Nyúzer</dc:creator>
  <dc:description/>
  <dc:language>en-US</dc:language>
  <cp:lastModifiedBy>Rendszergazda</cp:lastModifiedBy>
  <cp:lastPrinted>2003-08-05T07:41:23Z</cp:lastPrinted>
  <dcterms:modified xsi:type="dcterms:W3CDTF">2004-02-02T09:15:18Z</dcterms:modified>
  <cp:revision>40</cp:revision>
  <dc:subject/>
  <dc:title> "Fundamental changes: From the computer based data capture to the data warehouse" </dc:title>
</cp:coreProperties>
</file>