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49A-1D77-4990-9761-456B39B7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E1B-B071-436D-8214-018B7FE5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679-58BE-4718-99E2-396ABE9F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F91-DBCF-4847-8FDC-10A4E099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35A9-4680-4E9F-AA0D-9A9C9C98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57C-47DB-4EEB-9A52-278A09D2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B92-5F88-49E4-B1E9-888E4BA3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12B-4F7D-486A-9F50-CC454894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86E-7B72-4D4F-AFE3-10C62FD7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4CFA-A5F4-47FA-930C-F9DDFDBF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FDD-4CE9-45D0-A186-B4BCC54F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C3E-46E7-42AF-AA9E-4E0A8DA9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3D51-D402-4746-B761-3AF4475A7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tadata Driven </a:t>
            </a:r>
            <a:br>
              <a:rPr sz="2800"/>
            </a:b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atistical Data Warehouse System</a:t>
            </a:r>
            <a:br>
              <a:rPr sz="2800"/>
            </a:b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t the Hungarian Central Statistical Office</a:t>
            </a:r>
            <a:r>
              <a:rPr b="1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mre P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nior IT Ad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ungarian Central Statistical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0" y="304920"/>
            <a:ext cx="2286000" cy="914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1371600"/>
            <a:ext cx="5181840" cy="259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90720"/>
            <a:ext cx="1447920" cy="55623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343400"/>
            <a:ext cx="4038840" cy="22096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4343400"/>
            <a:ext cx="228600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5867280"/>
            <a:ext cx="22860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648320"/>
            <a:ext cx="266688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6019920"/>
            <a:ext cx="373356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5486400"/>
            <a:ext cx="23623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4952880"/>
            <a:ext cx="236232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2057400"/>
            <a:ext cx="1981080" cy="990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1981080"/>
            <a:ext cx="2438280" cy="10670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3276720"/>
            <a:ext cx="4572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447920"/>
            <a:ext cx="12952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28600"/>
            <a:ext cx="129528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2209680"/>
            <a:ext cx="1600200" cy="6098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43800" y="3200400"/>
            <a:ext cx="160020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228600"/>
            <a:ext cx="160020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1447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Times New Roman"/>
              </a:rPr>
              <a:t>DATA WAREHOUSE for HCSO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43434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ta in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6483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ta, Ready for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54864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Ele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49528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Aggreg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4724280"/>
            <a:ext cx="13716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ORACLE R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572000"/>
            <a:ext cx="251460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AS -, Cobol datase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Oracle none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iles on PC-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ementary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2057400"/>
            <a:ext cx="221004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Oracle relational tables with special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ggrega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9810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Oracle EXPRES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ultidimensional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db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3808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DISSEMINATION d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Oracl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PRESS multidimen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380880"/>
            <a:ext cx="1523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2362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racle Discov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304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447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ubject Mat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286000"/>
            <a:ext cx="12952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286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nsistent Datavi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8120"/>
            <a:ext cx="12952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12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809880"/>
            <a:ext cx="1295280" cy="1143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962520"/>
            <a:ext cx="152388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mension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n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tur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ierarch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105520"/>
            <a:ext cx="12952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1055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tat. Terms, 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791320"/>
            <a:ext cx="12952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791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rv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8769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60199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335268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236232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895480"/>
            <a:ext cx="228600" cy="533520"/>
          </a:xfrm>
          <a:prstGeom prst="upDownArrow">
            <a:avLst>
              <a:gd name="adj1" fmla="val 50000"/>
              <a:gd name="adj2" fmla="val 464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2895480"/>
            <a:ext cx="228600" cy="533520"/>
          </a:xfrm>
          <a:prstGeom prst="upDownArrow">
            <a:avLst>
              <a:gd name="adj1" fmla="val 50000"/>
              <a:gd name="adj2" fmla="val 464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83808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38088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49528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7621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2920" y="990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Meta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3808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DW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ata Warehous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1752480"/>
            <a:ext cx="2286000" cy="2057400"/>
          </a:xfrm>
          <a:prstGeom prst="flowChartMagneticDisk">
            <a:avLst/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2096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572000"/>
            <a:ext cx="167616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345800">
            <a:off x="2590560" y="2514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50292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5943600"/>
            <a:ext cx="1676160" cy="685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0484600">
            <a:off x="2742840" y="6019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0440800">
            <a:off x="5638320" y="26665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141200">
            <a:off x="5638680" y="373356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362320"/>
            <a:ext cx="1981080" cy="327636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352680" y="1905120"/>
            <a:ext cx="2019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 CE"/>
              </a:rPr>
              <a:t>Data Warehou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 CE"/>
              <a:ea typeface="Times New Roman CE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3200400"/>
            <a:ext cx="2286000" cy="2057400"/>
          </a:xfrm>
          <a:prstGeom prst="flowChartMagneticDisk">
            <a:avLst/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429000" y="4191120"/>
            <a:ext cx="20192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 CE"/>
              </a:rPr>
              <a:t>RDB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 CE"/>
              <a:ea typeface="Times New Roman C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429000" y="2666880"/>
            <a:ext cx="20192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DB-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724280"/>
            <a:ext cx="2286000" cy="1676520"/>
          </a:xfrm>
          <a:prstGeom prst="flowChartMagneticDisk">
            <a:avLst/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29000" y="5562720"/>
            <a:ext cx="201924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 CE"/>
              </a:rPr>
              <a:t>MET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 CE"/>
              <a:ea typeface="Times New Roman CE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4290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484600">
            <a:off x="2590560" y="3352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440800">
            <a:off x="5714640" y="510516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35812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-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46483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 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345800">
            <a:off x="2590560" y="38862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4290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2096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B C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5791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5867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Users:</a:t>
            </a:r>
            <a:r>
              <a:rPr b="1" lang="hu-HU" sz="2400" spc="-1" strike="noStrike">
                <a:solidFill>
                  <a:srgbClr val="ff00ff"/>
                </a:solidFill>
                <a:latin typeface="Times New Roman"/>
              </a:rPr>
              <a:t> Statistic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cc99"/>
                </a:solidFill>
                <a:latin typeface="Times New Roman"/>
              </a:rPr>
              <a:t>            </a:t>
            </a:r>
            <a:r>
              <a:rPr b="1" lang="hu-HU" sz="2400" spc="-1" strike="noStrike">
                <a:solidFill>
                  <a:srgbClr val="00cc99"/>
                </a:solidFill>
                <a:latin typeface="Times New Roman"/>
              </a:rPr>
              <a:t>IT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onclusions of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eta Data Driven Systems’ U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highly qualified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mis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fi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lly describ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&amp; meta data in the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eta data system becomes compl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od meta data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meta data collection (co-ordination or workflow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so easy to develop a meta data drive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7:29:17Z</dcterms:created>
  <dc:creator>Szuper Nyúzer</dc:creator>
  <dc:description/>
  <dc:language>en-US</dc:language>
  <cp:lastModifiedBy>Rendszergazda</cp:lastModifiedBy>
  <cp:lastPrinted>2003-08-05T07:41:23Z</cp:lastPrinted>
  <dcterms:modified xsi:type="dcterms:W3CDTF">2004-02-02T09:15:18Z</dcterms:modified>
  <cp:revision>40</cp:revision>
  <dc:subject/>
  <dc:title> "Fundamental changes: From the computer based data capture to the data warehouse" </dc:title>
</cp:coreProperties>
</file>