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CE8-D01A-40CB-A622-AD1C1F2D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0DB-7393-45CC-A3A3-412CF2B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623-139B-408D-8D88-856AB08C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DC8-C4FF-4D4A-9F44-120D686E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5C8-0F03-4DB2-B017-71E3A760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AC2-5D6F-4DF0-A4E1-2BAE041E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8E0-DE07-487D-81FE-316F3C9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75C-8F36-49AB-BF31-6BD019D4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88B-ECF1-4972-BFE6-8359D430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30F-5A4E-4D58-8B11-F4F8936B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0FE-2756-400A-88A6-08E7B8D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F0D-A958-4955-92F1-0FD492A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032F-598E-4EF2-A9C1-1B981A2E99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imes New Roman"/>
              </a:rPr>
              <a:t>NOMENCLA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: a server to manage, display and disseminate meta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y Emile Bruneau (INSEE – Fr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oint UNECE/Eurostat/OECD work session on statistical metadata (METIS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eneva, 9-11 Febr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81880" y="452592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A set (or a subset) of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build up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ference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ssifications then tree structures and lists plus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sistently mana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ise process under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m to statistical data (eventu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y data and related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initions or contents, links, any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tract subse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erfectly s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tructured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ML files (uploading flagged DBs), but also Tex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2971800"/>
            <a:ext cx="6933960" cy="335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NOMENCLA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Consequenc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581280"/>
            <a:ext cx="1295280" cy="121932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anagement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581280"/>
            <a:ext cx="1371600" cy="1219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issemination 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43000" y="3657600"/>
            <a:ext cx="1523880" cy="1066680"/>
            <a:chOff x="1143000" y="3657600"/>
            <a:chExt cx="1523880" cy="1066680"/>
          </a:xfrm>
        </p:grpSpPr>
        <p:grpSp>
          <p:nvGrpSpPr>
            <p:cNvPr id="55" name=""/>
            <p:cNvGrpSpPr/>
            <p:nvPr/>
          </p:nvGrpSpPr>
          <p:grpSpPr>
            <a:xfrm>
              <a:off x="1143000" y="3657600"/>
              <a:ext cx="1066680" cy="1066680"/>
              <a:chOff x="1143000" y="3657600"/>
              <a:chExt cx="1066680" cy="1066680"/>
            </a:xfrm>
          </p:grpSpPr>
          <p:sp>
            <p:nvSpPr>
              <p:cNvPr id="56" name="Puzzle3"/>
              <p:cNvSpPr/>
              <p:nvPr/>
            </p:nvSpPr>
            <p:spPr>
              <a:xfrm>
                <a:off x="1662480" y="3657600"/>
                <a:ext cx="419040" cy="56700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Puzzle2"/>
              <p:cNvSpPr/>
              <p:nvPr/>
            </p:nvSpPr>
            <p:spPr>
              <a:xfrm>
                <a:off x="1540440" y="4070520"/>
                <a:ext cx="669240" cy="51624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Puzzle4"/>
              <p:cNvSpPr/>
              <p:nvPr/>
            </p:nvSpPr>
            <p:spPr>
              <a:xfrm>
                <a:off x="1281240" y="4064040"/>
                <a:ext cx="403560" cy="66024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Puzzle1"/>
              <p:cNvSpPr/>
              <p:nvPr/>
            </p:nvSpPr>
            <p:spPr>
              <a:xfrm>
                <a:off x="1143000" y="3828960"/>
                <a:ext cx="677520" cy="39348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057400" y="4267080"/>
              <a:ext cx="609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019920" y="3124080"/>
            <a:ext cx="1676160" cy="990720"/>
            <a:chOff x="6019920" y="3124080"/>
            <a:chExt cx="1676160" cy="990720"/>
          </a:xfrm>
        </p:grpSpPr>
        <p:sp>
          <p:nvSpPr>
            <p:cNvPr id="62" name=""/>
            <p:cNvSpPr/>
            <p:nvPr/>
          </p:nvSpPr>
          <p:spPr>
            <a:xfrm>
              <a:off x="6629400" y="3124080"/>
              <a:ext cx="1066680" cy="7621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019920" y="3581280"/>
              <a:ext cx="53316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19920" y="4343400"/>
            <a:ext cx="1676160" cy="838080"/>
            <a:chOff x="6019920" y="4343400"/>
            <a:chExt cx="1676160" cy="838080"/>
          </a:xfrm>
        </p:grpSpPr>
        <p:sp>
          <p:nvSpPr>
            <p:cNvPr id="65" name=""/>
            <p:cNvSpPr/>
            <p:nvPr/>
          </p:nvSpPr>
          <p:spPr>
            <a:xfrm>
              <a:off x="6629400" y="4419720"/>
              <a:ext cx="1066680" cy="761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Mess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4343400"/>
              <a:ext cx="53316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5800" y="1747800"/>
            <a:ext cx="2743200" cy="1038240"/>
          </a:xfrm>
          <a:prstGeom prst="wedgeRoundRectCallout">
            <a:avLst>
              <a:gd name="adj1" fmla="val -12671"/>
              <a:gd name="adj2" fmla="val 1429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nagement function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reation, update, stopping, de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 tree-structures, lists and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line or batch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rols, help for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895480"/>
            <a:ext cx="1295280" cy="304920"/>
          </a:xfrm>
          <a:prstGeom prst="wedgeRoundRectCallout">
            <a:avLst>
              <a:gd name="adj1" fmla="val -2203"/>
              <a:gd name="adj2" fmla="val 185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Working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895480"/>
            <a:ext cx="1295640" cy="457200"/>
          </a:xfrm>
          <a:prstGeom prst="wedgeRoundRectCallout">
            <a:avLst>
              <a:gd name="adj1" fmla="val 0"/>
              <a:gd name="adj2" fmla="val 119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ference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ame data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828800"/>
            <a:ext cx="2514600" cy="914400"/>
          </a:xfrm>
          <a:prstGeom prst="wedgeRoundRectCallout">
            <a:avLst>
              <a:gd name="adj1" fmla="val 2083"/>
              <a:gd name="adj2" fmla="val 847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ssemination function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playing, extraction,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photos or 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trees, lists,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5715000"/>
            <a:ext cx="1981440" cy="685800"/>
          </a:xfrm>
          <a:prstGeom prst="wedgeRoundRectCallout">
            <a:avLst>
              <a:gd name="adj1" fmla="val 722"/>
              <a:gd name="adj2" fmla="val -116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xports in Text or XM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view or for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directly upload D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429000" y="4800600"/>
            <a:ext cx="1981080" cy="1447920"/>
            <a:chOff x="3429000" y="4800600"/>
            <a:chExt cx="1981080" cy="1447920"/>
          </a:xfrm>
        </p:grpSpPr>
        <p:grpSp>
          <p:nvGrpSpPr>
            <p:cNvPr id="73" name=""/>
            <p:cNvGrpSpPr/>
            <p:nvPr/>
          </p:nvGrpSpPr>
          <p:grpSpPr>
            <a:xfrm>
              <a:off x="3886200" y="5181480"/>
              <a:ext cx="1066680" cy="1067040"/>
              <a:chOff x="3886200" y="5181480"/>
              <a:chExt cx="1066680" cy="1067040"/>
            </a:xfrm>
          </p:grpSpPr>
          <p:sp>
            <p:nvSpPr>
              <p:cNvPr id="74" name="Puzzle3"/>
              <p:cNvSpPr/>
              <p:nvPr/>
            </p:nvSpPr>
            <p:spPr>
              <a:xfrm>
                <a:off x="4405680" y="5181480"/>
                <a:ext cx="419040" cy="56700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Puzzle2"/>
              <p:cNvSpPr/>
              <p:nvPr/>
            </p:nvSpPr>
            <p:spPr>
              <a:xfrm>
                <a:off x="4283640" y="5594400"/>
                <a:ext cx="669240" cy="51624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Puzzle4"/>
              <p:cNvSpPr/>
              <p:nvPr/>
            </p:nvSpPr>
            <p:spPr>
              <a:xfrm>
                <a:off x="4024440" y="5588280"/>
                <a:ext cx="403560" cy="66024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Puzzle1"/>
              <p:cNvSpPr/>
              <p:nvPr/>
            </p:nvSpPr>
            <p:spPr>
              <a:xfrm>
                <a:off x="3886200" y="5352840"/>
                <a:ext cx="677520" cy="39348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 flipV="1">
              <a:off x="4800600" y="4800600"/>
              <a:ext cx="60948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3429000" y="4800600"/>
              <a:ext cx="53352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00120" y="5334120"/>
            <a:ext cx="2943360" cy="1066680"/>
          </a:xfrm>
          <a:prstGeom prst="wedgeRoundRectCallout">
            <a:avLst>
              <a:gd name="adj1" fmla="val 63430"/>
              <a:gd name="adj2" fmla="val 2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LP function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ctionaries, semantic concepts, ind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line searching and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atch coding and help to build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mantically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019040" y="4041720"/>
            <a:ext cx="683640" cy="246240"/>
            <a:chOff x="4019040" y="4041720"/>
            <a:chExt cx="683640" cy="246240"/>
          </a:xfrm>
        </p:grpSpPr>
        <p:sp>
          <p:nvSpPr>
            <p:cNvPr id="82" name=""/>
            <p:cNvSpPr/>
            <p:nvPr/>
          </p:nvSpPr>
          <p:spPr>
            <a:xfrm>
              <a:off x="4038480" y="4267080"/>
              <a:ext cx="6098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19040" y="4041720"/>
              <a:ext cx="68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down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77840" y="4178160"/>
            <a:ext cx="6959520" cy="220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Datamodel (simplifi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5960" y="1828800"/>
            <a:ext cx="160020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2590920"/>
            <a:ext cx="1600200" cy="5331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25960" y="2209680"/>
            <a:ext cx="1600200" cy="838440"/>
            <a:chOff x="4125960" y="2209680"/>
            <a:chExt cx="1600200" cy="838440"/>
          </a:xfrm>
        </p:grpSpPr>
        <p:sp>
          <p:nvSpPr>
            <p:cNvPr id="91" name=""/>
            <p:cNvSpPr/>
            <p:nvPr/>
          </p:nvSpPr>
          <p:spPr>
            <a:xfrm>
              <a:off x="4125960" y="2666880"/>
              <a:ext cx="1600200" cy="38124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ub-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1560" y="2209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125960" y="3048120"/>
            <a:ext cx="1600200" cy="838080"/>
            <a:chOff x="4125960" y="3048120"/>
            <a:chExt cx="1600200" cy="838080"/>
          </a:xfrm>
        </p:grpSpPr>
        <p:sp>
          <p:nvSpPr>
            <p:cNvPr id="94" name=""/>
            <p:cNvSpPr/>
            <p:nvPr/>
          </p:nvSpPr>
          <p:spPr>
            <a:xfrm>
              <a:off x="4125960" y="3505320"/>
              <a:ext cx="1600200" cy="3808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ee 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16520" y="30481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25960" y="3886200"/>
            <a:ext cx="1600200" cy="838080"/>
            <a:chOff x="4125960" y="3886200"/>
            <a:chExt cx="1600200" cy="838080"/>
          </a:xfrm>
        </p:grpSpPr>
        <p:sp>
          <p:nvSpPr>
            <p:cNvPr id="97" name=""/>
            <p:cNvSpPr/>
            <p:nvPr/>
          </p:nvSpPr>
          <p:spPr>
            <a:xfrm>
              <a:off x="4125960" y="4343400"/>
              <a:ext cx="1600200" cy="3808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11840" y="38862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25960" y="4743360"/>
            <a:ext cx="1600200" cy="819360"/>
            <a:chOff x="4125960" y="4743360"/>
            <a:chExt cx="1600200" cy="819360"/>
          </a:xfrm>
        </p:grpSpPr>
        <p:sp>
          <p:nvSpPr>
            <p:cNvPr id="100" name=""/>
            <p:cNvSpPr/>
            <p:nvPr/>
          </p:nvSpPr>
          <p:spPr>
            <a:xfrm>
              <a:off x="4125960" y="5181480"/>
              <a:ext cx="1600200" cy="38124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97800" y="4743360"/>
              <a:ext cx="0" cy="44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687680" y="4724280"/>
            <a:ext cx="2438280" cy="838440"/>
            <a:chOff x="1687680" y="4724280"/>
            <a:chExt cx="2438280" cy="838440"/>
          </a:xfrm>
        </p:grpSpPr>
        <p:sp>
          <p:nvSpPr>
            <p:cNvPr id="103" name=""/>
            <p:cNvSpPr/>
            <p:nvPr/>
          </p:nvSpPr>
          <p:spPr>
            <a:xfrm>
              <a:off x="1687680" y="5181480"/>
              <a:ext cx="1600200" cy="38124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8240" y="47242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3200" y="5372280"/>
              <a:ext cx="842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87680" y="4343400"/>
            <a:ext cx="2433600" cy="380880"/>
            <a:chOff x="1687680" y="4343400"/>
            <a:chExt cx="2433600" cy="380880"/>
          </a:xfrm>
        </p:grpSpPr>
        <p:sp>
          <p:nvSpPr>
            <p:cNvPr id="107" name=""/>
            <p:cNvSpPr/>
            <p:nvPr/>
          </p:nvSpPr>
          <p:spPr>
            <a:xfrm>
              <a:off x="1687680" y="4343400"/>
              <a:ext cx="1600200" cy="3808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8520" y="4524480"/>
              <a:ext cx="842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078440" y="5105520"/>
            <a:ext cx="4085640" cy="1295280"/>
            <a:chOff x="4078440" y="5105520"/>
            <a:chExt cx="4085640" cy="1295280"/>
          </a:xfrm>
        </p:grpSpPr>
        <p:sp>
          <p:nvSpPr>
            <p:cNvPr id="110" name=""/>
            <p:cNvSpPr/>
            <p:nvPr/>
          </p:nvSpPr>
          <p:spPr>
            <a:xfrm>
              <a:off x="6564240" y="5105520"/>
              <a:ext cx="1599840" cy="53316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xplanatory n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78440" y="6019920"/>
              <a:ext cx="1599840" cy="3808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H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25800" y="5357880"/>
              <a:ext cx="842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83040" y="5557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363680" y="2014560"/>
            <a:ext cx="3133800" cy="4200480"/>
            <a:chOff x="1363680" y="2014560"/>
            <a:chExt cx="3133800" cy="4200480"/>
          </a:xfrm>
        </p:grpSpPr>
        <p:sp>
          <p:nvSpPr>
            <p:cNvPr id="115" name=""/>
            <p:cNvSpPr/>
            <p:nvPr/>
          </p:nvSpPr>
          <p:spPr>
            <a:xfrm>
              <a:off x="2487960" y="2019240"/>
              <a:ext cx="1643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2920" y="2014560"/>
              <a:ext cx="0" cy="571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82920" y="3129120"/>
              <a:ext cx="0" cy="121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368360" y="2828880"/>
              <a:ext cx="314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68720" y="2828880"/>
              <a:ext cx="0" cy="338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368720" y="6215040"/>
              <a:ext cx="27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8720" y="4543560"/>
              <a:ext cx="314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3680" y="5367240"/>
              <a:ext cx="314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3240" y="3129120"/>
              <a:ext cx="0" cy="9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83240" y="4114800"/>
              <a:ext cx="1614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7480" y="411480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83200" y="2828880"/>
              <a:ext cx="385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8760" y="2828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68760" y="3286080"/>
              <a:ext cx="814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83440" y="3286080"/>
              <a:ext cx="0" cy="20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Navigation in the 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64080" y="4322880"/>
            <a:ext cx="973080" cy="915840"/>
          </a:xfrm>
          <a:prstGeom prst="cube">
            <a:avLst>
              <a:gd name="adj" fmla="val 236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79000" y="4441680"/>
            <a:ext cx="4114080" cy="400320"/>
            <a:chOff x="2079000" y="4441680"/>
            <a:chExt cx="4114080" cy="400320"/>
          </a:xfrm>
        </p:grpSpPr>
        <p:sp>
          <p:nvSpPr>
            <p:cNvPr id="135" name=""/>
            <p:cNvSpPr/>
            <p:nvPr/>
          </p:nvSpPr>
          <p:spPr>
            <a:xfrm>
              <a:off x="2390760" y="4791240"/>
              <a:ext cx="1273320" cy="1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40320" y="4759200"/>
              <a:ext cx="1363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79000" y="447372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91080" y="444168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740040" y="2644920"/>
            <a:ext cx="802800" cy="3985920"/>
            <a:chOff x="3740040" y="2644920"/>
            <a:chExt cx="802800" cy="3985920"/>
          </a:xfrm>
        </p:grpSpPr>
        <p:sp>
          <p:nvSpPr>
            <p:cNvPr id="140" name=""/>
            <p:cNvSpPr/>
            <p:nvPr/>
          </p:nvSpPr>
          <p:spPr>
            <a:xfrm flipV="1">
              <a:off x="4152960" y="2982600"/>
              <a:ext cx="0" cy="1414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145040" y="5235120"/>
              <a:ext cx="0" cy="10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0400" y="26449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b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40040" y="62625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e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97160" y="2265480"/>
            <a:ext cx="3516120" cy="3879720"/>
            <a:chOff x="2297160" y="2265480"/>
            <a:chExt cx="3516120" cy="3879720"/>
          </a:xfrm>
        </p:grpSpPr>
        <p:sp>
          <p:nvSpPr>
            <p:cNvPr id="145" name=""/>
            <p:cNvSpPr/>
            <p:nvPr/>
          </p:nvSpPr>
          <p:spPr>
            <a:xfrm>
              <a:off x="2297160" y="2265480"/>
              <a:ext cx="1320840" cy="326880"/>
            </a:xfrm>
            <a:prstGeom prst="wedgeRoundRectCallout">
              <a:avLst>
                <a:gd name="adj1" fmla="val 62500"/>
                <a:gd name="adj2" fmla="val 13349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.g. « activ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9560" y="5818320"/>
              <a:ext cx="1593720" cy="326880"/>
            </a:xfrm>
            <a:prstGeom prst="wedgeRoundRectCallout">
              <a:avLst>
                <a:gd name="adj1" fmla="val -44523"/>
                <a:gd name="adj2" fmla="val 12669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.g. « employe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82240" y="3378240"/>
            <a:ext cx="4014720" cy="2971800"/>
            <a:chOff x="2082240" y="3378240"/>
            <a:chExt cx="4014720" cy="2971800"/>
          </a:xfrm>
        </p:grpSpPr>
        <p:sp>
          <p:nvSpPr>
            <p:cNvPr id="148" name=""/>
            <p:cNvSpPr/>
            <p:nvPr/>
          </p:nvSpPr>
          <p:spPr>
            <a:xfrm flipH="1">
              <a:off x="2869920" y="4943520"/>
              <a:ext cx="1152360" cy="113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23400" y="337824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ther 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2240" y="598176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Same 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642920" y="3693960"/>
              <a:ext cx="716040" cy="716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664160" y="2951280"/>
            <a:ext cx="1401840" cy="326880"/>
          </a:xfrm>
          <a:prstGeom prst="wedgeRoundRectCallout">
            <a:avLst>
              <a:gd name="adj1" fmla="val -171"/>
              <a:gd name="adj2" fmla="val 1237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.g. « activity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3240" y="5473800"/>
            <a:ext cx="1503360" cy="326880"/>
          </a:xfrm>
          <a:prstGeom prst="wedgeRoundRectCallout">
            <a:avLst>
              <a:gd name="adj1" fmla="val 77453"/>
              <a:gd name="adj2" fmla="val -118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.g. « occupied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Navigation in the 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64080" y="4322880"/>
            <a:ext cx="973080" cy="915840"/>
          </a:xfrm>
          <a:prstGeom prst="cube">
            <a:avLst>
              <a:gd name="adj" fmla="val 236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079000" y="4441680"/>
            <a:ext cx="4114080" cy="400320"/>
            <a:chOff x="2079000" y="4441680"/>
            <a:chExt cx="4114080" cy="400320"/>
          </a:xfrm>
        </p:grpSpPr>
        <p:sp>
          <p:nvSpPr>
            <p:cNvPr id="160" name=""/>
            <p:cNvSpPr/>
            <p:nvPr/>
          </p:nvSpPr>
          <p:spPr>
            <a:xfrm>
              <a:off x="2390760" y="4791240"/>
              <a:ext cx="1273320" cy="1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40320" y="4759200"/>
              <a:ext cx="1363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79000" y="447372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1080" y="444168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740040" y="2644920"/>
            <a:ext cx="802800" cy="3985920"/>
            <a:chOff x="3740040" y="2644920"/>
            <a:chExt cx="802800" cy="3985920"/>
          </a:xfrm>
        </p:grpSpPr>
        <p:sp>
          <p:nvSpPr>
            <p:cNvPr id="165" name=""/>
            <p:cNvSpPr/>
            <p:nvPr/>
          </p:nvSpPr>
          <p:spPr>
            <a:xfrm flipV="1">
              <a:off x="4152960" y="2982600"/>
              <a:ext cx="0" cy="1414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145040" y="5235120"/>
              <a:ext cx="0" cy="10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0400" y="26449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b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40040" y="62625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e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207120" y="5332320"/>
            <a:ext cx="241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Result: a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network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of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297160" y="2265480"/>
            <a:ext cx="3516120" cy="3879720"/>
            <a:chOff x="2297160" y="2265480"/>
            <a:chExt cx="3516120" cy="3879720"/>
          </a:xfrm>
        </p:grpSpPr>
        <p:sp>
          <p:nvSpPr>
            <p:cNvPr id="171" name=""/>
            <p:cNvSpPr/>
            <p:nvPr/>
          </p:nvSpPr>
          <p:spPr>
            <a:xfrm>
              <a:off x="2297160" y="2265480"/>
              <a:ext cx="1320840" cy="326880"/>
            </a:xfrm>
            <a:prstGeom prst="wedgeRoundRectCallout">
              <a:avLst>
                <a:gd name="adj1" fmla="val 62500"/>
                <a:gd name="adj2" fmla="val 13349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.g. « activ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9560" y="5818320"/>
              <a:ext cx="1593720" cy="326880"/>
            </a:xfrm>
            <a:prstGeom prst="wedgeRoundRectCallout">
              <a:avLst>
                <a:gd name="adj1" fmla="val -44523"/>
                <a:gd name="adj2" fmla="val 12669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.g. « employee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082240" y="3378240"/>
            <a:ext cx="4014720" cy="2971800"/>
            <a:chOff x="2082240" y="3378240"/>
            <a:chExt cx="4014720" cy="2971800"/>
          </a:xfrm>
        </p:grpSpPr>
        <p:sp>
          <p:nvSpPr>
            <p:cNvPr id="174" name=""/>
            <p:cNvSpPr/>
            <p:nvPr/>
          </p:nvSpPr>
          <p:spPr>
            <a:xfrm flipH="1">
              <a:off x="2869920" y="4943520"/>
              <a:ext cx="1152360" cy="113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23400" y="337824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ther 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82240" y="598176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Same con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642920" y="3693960"/>
              <a:ext cx="716040" cy="716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073240" y="5473800"/>
            <a:ext cx="1503360" cy="326880"/>
          </a:xfrm>
          <a:prstGeom prst="wedgeRoundRectCallout">
            <a:avLst>
              <a:gd name="adj1" fmla="val 77453"/>
              <a:gd name="adj2" fmla="val -118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.g. « occupied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47960" y="1746360"/>
            <a:ext cx="3513240" cy="3333240"/>
            <a:chOff x="3747960" y="1746360"/>
            <a:chExt cx="3513240" cy="3333240"/>
          </a:xfrm>
        </p:grpSpPr>
        <p:grpSp>
          <p:nvGrpSpPr>
            <p:cNvPr id="180" name=""/>
            <p:cNvGrpSpPr/>
            <p:nvPr/>
          </p:nvGrpSpPr>
          <p:grpSpPr>
            <a:xfrm>
              <a:off x="3747960" y="1746360"/>
              <a:ext cx="3513240" cy="3333240"/>
              <a:chOff x="3747960" y="1746360"/>
              <a:chExt cx="3513240" cy="33332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10120" y="3109680"/>
                <a:ext cx="973080" cy="915840"/>
              </a:xfrm>
              <a:prstGeom prst="cube">
                <a:avLst>
                  <a:gd name="adj" fmla="val 23685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47960" y="3632040"/>
                <a:ext cx="1273320" cy="10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97520" y="3522600"/>
                <a:ext cx="1363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991120" y="2477880"/>
                <a:ext cx="703440" cy="704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510160" y="1746360"/>
                <a:ext cx="0" cy="1414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502240" y="3998880"/>
                <a:ext cx="0" cy="108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4657680" y="3686400"/>
              <a:ext cx="712800" cy="711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Particula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9532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 repeated textu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criptions, headings, explanatory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rded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on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ime and dated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very entities with their own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validit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lations « 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weighte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lot of options but no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, two possible ways: manual or automatic we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esent choice: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d on the numbers of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The automatic weighting method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for class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9400" y="3776760"/>
            <a:ext cx="5259600" cy="36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What are the weights of the A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D indirect table? 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c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5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2  2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0.5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12  cc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500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cc   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5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3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20  d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dd   c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3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1  d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ee   c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33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1.0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2  d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0.50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0.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2  e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0.500 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3  e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   1.000 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0400" y="1833480"/>
            <a:ext cx="2511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(direct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32360" y="1828800"/>
            <a:ext cx="2181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 B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(calculated weigh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1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.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20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2 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20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1.000   0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1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0.333  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 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2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0.333  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 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3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0.333   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72080" y="2685960"/>
            <a:ext cx="6714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56440" y="4195800"/>
            <a:ext cx="24667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system provides: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fr-FR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s well the relations as the we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58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b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08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1.000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c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333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0.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  <a:ea typeface="Arial"/>
              </a:rPr>
              <a:t>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2 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c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1.000   0.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3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c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  <a:ea typeface="Arial"/>
              </a:rPr>
              <a:t>1.000   0.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72920" y="6058080"/>
            <a:ext cx="40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Same process with manually weighted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Exchanges: the message CLA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8880" y="1738440"/>
            <a:ext cx="836928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ed by EU statistician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Euro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e structures, list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correlatio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ith all th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tailed attribu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hey ca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well fo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hoto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state at a dat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between two da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ready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EDIFAC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so in XML, SGML and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ML for 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MENCLA choice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LASET-toolbo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l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any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extrac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X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760" y="6553080"/>
            <a:ext cx="90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Arial"/>
              </a:rPr>
              <a:t>Joint UNECE/Eurostat/OECD work session on statistical metadata (METIS)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  <a:ea typeface="Arial"/>
              </a:rPr>
              <a:t>Geneva, 9-11 Februar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1:28:51Z</dcterms:created>
  <dc:creator>Bruneau</dc:creator>
  <dc:description/>
  <dc:language>en-US</dc:language>
  <cp:lastModifiedBy>BRUNEAU Emile</cp:lastModifiedBy>
  <dcterms:modified xsi:type="dcterms:W3CDTF">2004-02-02T17:14:17Z</dcterms:modified>
  <cp:revision>19</cp:revision>
  <dc:subject/>
  <dc:title>NOMENCLA: a server to manage, display and disseminate metadata</dc:title>
</cp:coreProperties>
</file>