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545F-989A-495D-9D99-23B1E0A7E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ripts in the source call on COR to provide links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urvey metadat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test release in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The Dai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data from this surve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a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products containing data from this surve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Canadian Statistics tabl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aining data from this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R script at the bottom of a Canadian Statistics table calls up links to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all objec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gistered in COR related to this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ults of the COR scripts are served up dynamically, so the link is slower than it would be to a straight HTML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as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survey collected these data and what are the limitations of those dat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ere these data relea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 have any publications that explore these data in greater dept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 have other tables (free or for sale) containing data from this surve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ripts embedded in the source call on COR to supply the link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urve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rom which these newly released data derive and then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CANSIM tabl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hich contain data from this surv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642B-1E8F-4D2F-9422-23B7D96C8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ABC5-D30B-400A-870E-1610C54E9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3AB6-525F-439B-99C4-2F7608433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5584-397F-45AA-BCDA-148657FC4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3E59-79BB-4E34-B008-96EE5230D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3F10-9F38-4DCF-B242-2A6BCD053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AD0F-ED17-424C-AAE9-2F3182396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F9A7-275C-43DC-86D3-074F527F7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0F6F-E229-489E-A808-977343479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B8D6-F127-410F-8D1E-52312E4E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CDB1-735A-4A2C-856B-6A726CEE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21F5-8148-462E-B89B-21CC5A5F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22AB4-6E4A-470A-9FC4-119D5F4B5B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tatcan.ca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tatcan.ca/english/sdds/indexa.htm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mmon Object Regist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ing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statcan.c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isitors in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ula Fedeski-Koundakj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 Content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semination Division, Statistics Can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ula.fedeski-koundakjian@statcan.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6154560"/>
            <a:ext cx="78249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27468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S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543800" cy="5659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 rot="8556600">
            <a:off x="4990680" y="270432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9604800">
            <a:off x="4914720" y="36954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3360" y="6172200"/>
            <a:ext cx="78613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543800" cy="56595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 rot="2114400">
            <a:off x="1485720" y="506736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44600" y="6172200"/>
            <a:ext cx="7861320" cy="4572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09480" y="274680"/>
            <a:ext cx="80773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adian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adian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33520" y="97164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6095880"/>
            <a:ext cx="78613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nline catalo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3360" y="6172200"/>
            <a:ext cx="7861320" cy="4572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 rot="2114400">
            <a:off x="533160" y="38862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7467480" cy="56005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aily by su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16000" y="6248520"/>
            <a:ext cx="7861320" cy="4572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 rot="7980000">
            <a:off x="2933280" y="331452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ing soo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619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 links in a redesigned survey metadata interf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6320" y="6248520"/>
            <a:ext cx="78613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925040" cy="59436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8534520" cy="4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7086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stics by Subject: A new website module providing maintenance-free, fully automated access to all the objects in COR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by subj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theme and sub-them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04920" y="239760"/>
            <a:ext cx="8534160" cy="64008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04920" y="6183360"/>
            <a:ext cx="8534160" cy="4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924680" cy="59436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6248520"/>
            <a:ext cx="8610480" cy="4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old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have survey metadata for more than 650 surv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tatcan.ca/english/sdds/indexa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have more than 7,500 documents officially releasing survey data and pub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</a:rPr>
              <a:t>http://www.statcan.ca/english/dai-quo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210280" y="144792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0" y="6019920"/>
            <a:ext cx="7851600" cy="457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5257800" y="3733920"/>
            <a:ext cx="28954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7924680" cy="59450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76320" y="6019920"/>
            <a:ext cx="8381880" cy="48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09480" y="355680"/>
            <a:ext cx="8077320" cy="60656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8381880" cy="48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990720" y="83772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ed, maintenance-free links inside HTML publ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5943600" cy="4572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6095880"/>
            <a:ext cx="78613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es COR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6019920"/>
            <a:ext cx="78343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 stores only six ob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04840" indent="-5331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mes (and sub-them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04840" indent="-5331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ve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04840" indent="-5331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ms in the online catalo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04840" indent="-5331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SIM tab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04840" indent="-5331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adian Statistics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04840" indent="-5331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ily rel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6172200"/>
            <a:ext cx="78613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 tracks only two th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 descriptions (ID, type, and English and French labe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hips (the objects that are related to this o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6172200"/>
            <a:ext cx="78613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8001000" cy="60008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04920" y="1066680"/>
            <a:ext cx="1371600" cy="381240"/>
          </a:xfrm>
          <a:prstGeom prst="wedgeRectCallout">
            <a:avLst>
              <a:gd name="adj1" fmla="val 37500"/>
              <a:gd name="adj2" fmla="val 14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ype of ob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981080" y="1371600"/>
            <a:ext cx="1828800" cy="304920"/>
          </a:xfrm>
          <a:prstGeom prst="wedgeRectCallout">
            <a:avLst>
              <a:gd name="adj1" fmla="val -68490"/>
              <a:gd name="adj2" fmla="val 16979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1447920"/>
            <a:ext cx="1752480" cy="304560"/>
          </a:xfrm>
          <a:prstGeom prst="wedgeRectCallout">
            <a:avLst>
              <a:gd name="adj1" fmla="val -64402"/>
              <a:gd name="adj2" fmla="val 1427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’s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1360" y="1066680"/>
            <a:ext cx="85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981080" y="13716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’s ID nu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553080" y="1371600"/>
            <a:ext cx="1676520" cy="99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705720" y="1539720"/>
            <a:ext cx="144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BJECT’S 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553080" y="2895480"/>
            <a:ext cx="1676520" cy="1371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53080" y="3111480"/>
            <a:ext cx="1752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BJECT’S RELATIONSHIPS WITH OTHER OBJ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ldings teams maintain 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am responsible for each data holding maint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own objects in C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lationships it “owns” in C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6248520"/>
            <a:ext cx="78343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oldings no longer con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rnal objects,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s to external ob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and responsibility are distributed among many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tionships within C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286000" y="1676520"/>
            <a:ext cx="5486400" cy="4114800"/>
            <a:chOff x="2286000" y="1676520"/>
            <a:chExt cx="5486400" cy="4114800"/>
          </a:xfrm>
        </p:grpSpPr>
        <p:sp>
          <p:nvSpPr>
            <p:cNvPr id="168" name=""/>
            <p:cNvSpPr/>
            <p:nvPr/>
          </p:nvSpPr>
          <p:spPr>
            <a:xfrm>
              <a:off x="3772080" y="3619440"/>
              <a:ext cx="1028520" cy="685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Survey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86000" y="4762440"/>
              <a:ext cx="1028880" cy="685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Daily releas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72080" y="5105520"/>
              <a:ext cx="1028520" cy="685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Items in the online catalogu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143680" y="4762440"/>
              <a:ext cx="1028520" cy="685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CANSIM tab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743880" y="4762440"/>
              <a:ext cx="1028520" cy="685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Canadian Statistics tab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72080" y="1676520"/>
              <a:ext cx="1028520" cy="685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Them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72080" y="2590920"/>
              <a:ext cx="1028520" cy="685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Sub-them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19016400">
              <a:off x="2835360" y="4398480"/>
              <a:ext cx="1158840" cy="281160"/>
            </a:xfrm>
            <a:prstGeom prst="leftRightArrow">
              <a:avLst>
                <a:gd name="adj1" fmla="val 50000"/>
                <a:gd name="adj2" fmla="val 8205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6200000">
              <a:off x="3771720" y="4533840"/>
              <a:ext cx="914400" cy="228600"/>
            </a:xfrm>
            <a:prstGeom prst="leftRightArrow">
              <a:avLst>
                <a:gd name="adj1" fmla="val 50000"/>
                <a:gd name="adj2" fmla="val 7963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3564200">
              <a:off x="4479480" y="4352760"/>
              <a:ext cx="1133280" cy="307800"/>
            </a:xfrm>
            <a:prstGeom prst="leftRightArrow">
              <a:avLst>
                <a:gd name="adj1" fmla="val 50000"/>
                <a:gd name="adj2" fmla="val 73296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0800000">
              <a:off x="6058080" y="4959000"/>
              <a:ext cx="799920" cy="260280"/>
            </a:xfrm>
            <a:prstGeom prst="leftRightArrow">
              <a:avLst>
                <a:gd name="adj1" fmla="val 50000"/>
                <a:gd name="adj2" fmla="val 6118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16200000">
              <a:off x="3828960" y="3447720"/>
              <a:ext cx="800280" cy="228600"/>
            </a:xfrm>
            <a:prstGeom prst="leftRightArrow">
              <a:avLst>
                <a:gd name="adj1" fmla="val 50000"/>
                <a:gd name="adj2" fmla="val 6969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16200000">
              <a:off x="3867120" y="2304720"/>
              <a:ext cx="723960" cy="228600"/>
            </a:xfrm>
            <a:prstGeom prst="leftRightArrow">
              <a:avLst>
                <a:gd name="adj1" fmla="val 50000"/>
                <a:gd name="adj2" fmla="val 63045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6019920"/>
            <a:ext cx="78343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hold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have some 10,000 publications, products and services in the online catalog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</a:rPr>
              <a:t>http://www.statcan.ca/english/search/ips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ANSIM, we have nearly 2000 detailed tables containing over 18 million se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</a:rPr>
              <a:t>http://cansim2.statcan.ca/cgi-win/CNSMCGI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410080" y="1447920"/>
            <a:ext cx="2914920" cy="2185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389560" y="3733920"/>
            <a:ext cx="2916360" cy="2187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0" y="6243480"/>
            <a:ext cx="784368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icul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24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ification of data holdings is not simple or qui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axonomy must be applied strategically and uniformly across hol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erfections are inevi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ration of Daily releases in COR could not be done wholesale or retroactive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ust be in CANSIM for Canadian Statistics tables to sh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 does not capture all data holdings (data not available in CANSIM, data in other databases, e.g., Census of Population and Agriculture dat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6248520"/>
            <a:ext cx="78613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n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unch Statistics by Subject in the sp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new interfaces for COR output which are harmonized and have high usa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databases that make COR redundan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re information about COR, cont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c Pel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, Applications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semination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tics Ca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613) 951-45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marc.pelchat@statcan.c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6172200"/>
            <a:ext cx="78613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more hold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finally, in Canadian Statistics, we have more than 400 summary tables, most of which are created automatically from CANSIM ta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</a:rPr>
              <a:t>http://www.statcan.ca/english/Pgdb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6019920"/>
            <a:ext cx="7924680" cy="46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halle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visitors find an item in one data holding, they want to see that item in the context of the other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096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838080" y="3224880"/>
            <a:ext cx="7391160" cy="1160280"/>
            <a:chOff x="838080" y="3224880"/>
            <a:chExt cx="7391160" cy="1160280"/>
          </a:xfrm>
        </p:grpSpPr>
        <p:cxnSp>
          <p:nvCxnSpPr>
            <p:cNvPr id="69" name="_s5150"/>
            <p:cNvCxnSpPr>
              <a:stCxn id="70" idx="0"/>
              <a:endCxn id="71" idx="2"/>
            </p:cNvCxnSpPr>
            <p:nvPr/>
          </p:nvCxnSpPr>
          <p:spPr>
            <a:xfrm flipH="1" flipV="1" rot="5400000">
              <a:off x="3937320" y="3312000"/>
              <a:ext cx="236520" cy="958320"/>
            </a:xfrm>
            <a:prstGeom prst="bentConnector3">
              <a:avLst>
                <a:gd name="adj1" fmla="val 4832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5145"/>
            <p:cNvCxnSpPr>
              <a:stCxn id="73" idx="0"/>
              <a:endCxn id="71" idx="2"/>
            </p:cNvCxnSpPr>
            <p:nvPr/>
          </p:nvCxnSpPr>
          <p:spPr>
            <a:xfrm flipV="1" rot="16200000">
              <a:off x="5853240" y="2353320"/>
              <a:ext cx="236520" cy="2875320"/>
            </a:xfrm>
            <a:prstGeom prst="bentConnector3">
              <a:avLst>
                <a:gd name="adj1" fmla="val 4832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4" name="_s5144"/>
            <p:cNvCxnSpPr>
              <a:stCxn id="75" idx="0"/>
              <a:endCxn id="71" idx="2"/>
            </p:cNvCxnSpPr>
            <p:nvPr/>
          </p:nvCxnSpPr>
          <p:spPr>
            <a:xfrm flipV="1" rot="16200000">
              <a:off x="4895280" y="3311280"/>
              <a:ext cx="236520" cy="959040"/>
            </a:xfrm>
            <a:prstGeom prst="bentConnector3">
              <a:avLst>
                <a:gd name="adj1" fmla="val 4832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6" name="_s5143"/>
            <p:cNvCxnSpPr>
              <a:stCxn id="77" idx="0"/>
              <a:endCxn id="71" idx="2"/>
            </p:cNvCxnSpPr>
            <p:nvPr/>
          </p:nvCxnSpPr>
          <p:spPr>
            <a:xfrm flipH="1" flipV="1" rot="5400000">
              <a:off x="2979360" y="2353680"/>
              <a:ext cx="236520" cy="2874960"/>
            </a:xfrm>
            <a:prstGeom prst="bentConnector3">
              <a:avLst>
                <a:gd name="adj1" fmla="val 4832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1" name="_s5139"/>
            <p:cNvSpPr/>
            <p:nvPr/>
          </p:nvSpPr>
          <p:spPr>
            <a:xfrm>
              <a:off x="3712680" y="3224880"/>
              <a:ext cx="1641960" cy="448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" rIns="6840" tIns="3240" bIns="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Daily releas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5140"/>
            <p:cNvSpPr/>
            <p:nvPr/>
          </p:nvSpPr>
          <p:spPr>
            <a:xfrm>
              <a:off x="838080" y="3910680"/>
              <a:ext cx="1642320" cy="474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" rIns="6840" tIns="3240" bIns="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ink 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Survey informa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5141"/>
            <p:cNvSpPr/>
            <p:nvPr/>
          </p:nvSpPr>
          <p:spPr>
            <a:xfrm>
              <a:off x="4671000" y="3910680"/>
              <a:ext cx="1641960" cy="474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" rIns="6840" tIns="3240" bIns="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ink 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Canadian Statistics tabl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5142"/>
            <p:cNvSpPr/>
            <p:nvPr/>
          </p:nvSpPr>
          <p:spPr>
            <a:xfrm>
              <a:off x="6587280" y="3910680"/>
              <a:ext cx="1641960" cy="474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" rIns="6840" tIns="3240" bIns="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ink 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Publica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5149"/>
            <p:cNvSpPr/>
            <p:nvPr/>
          </p:nvSpPr>
          <p:spPr>
            <a:xfrm>
              <a:off x="2754720" y="3910680"/>
              <a:ext cx="1641960" cy="474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" rIns="684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ink 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CANSIM tabl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28600" y="6118200"/>
            <a:ext cx="78516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impossible to create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andmade link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mong related items because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ize of our holdings, magnified by duplication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uge maintenance task;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evitability of err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6095880"/>
            <a:ext cx="78613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062440" y="1452240"/>
            <a:ext cx="5329080" cy="4414680"/>
            <a:chOff x="2062440" y="1452240"/>
            <a:chExt cx="5329080" cy="4414680"/>
          </a:xfrm>
        </p:grpSpPr>
        <p:sp>
          <p:nvSpPr>
            <p:cNvPr id="84" name="_s32809"/>
            <p:cNvSpPr/>
            <p:nvPr/>
          </p:nvSpPr>
          <p:spPr>
            <a:xfrm flipV="1">
              <a:off x="4524480" y="2537640"/>
              <a:ext cx="0" cy="5425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32808"/>
            <p:cNvSpPr/>
            <p:nvPr/>
          </p:nvSpPr>
          <p:spPr>
            <a:xfrm>
              <a:off x="3981600" y="1452240"/>
              <a:ext cx="1371600" cy="13712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 Dail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32814"/>
            <p:cNvSpPr/>
            <p:nvPr/>
          </p:nvSpPr>
          <p:spPr>
            <a:xfrm flipV="1">
              <a:off x="5110200" y="3266640"/>
              <a:ext cx="1049400" cy="228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32813"/>
            <p:cNvSpPr/>
            <p:nvPr/>
          </p:nvSpPr>
          <p:spPr>
            <a:xfrm>
              <a:off x="6019920" y="2580840"/>
              <a:ext cx="1371600" cy="13712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nlin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talog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32812"/>
            <p:cNvSpPr/>
            <p:nvPr/>
          </p:nvSpPr>
          <p:spPr>
            <a:xfrm>
              <a:off x="4843800" y="4062240"/>
              <a:ext cx="414000" cy="5090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32811"/>
            <p:cNvSpPr/>
            <p:nvPr/>
          </p:nvSpPr>
          <p:spPr>
            <a:xfrm>
              <a:off x="5186520" y="4495680"/>
              <a:ext cx="1371600" cy="1371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nadi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tisti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ab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32807"/>
            <p:cNvSpPr/>
            <p:nvPr/>
          </p:nvSpPr>
          <p:spPr>
            <a:xfrm flipH="1">
              <a:off x="3733920" y="4062240"/>
              <a:ext cx="471600" cy="661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32806"/>
            <p:cNvSpPr/>
            <p:nvPr/>
          </p:nvSpPr>
          <p:spPr>
            <a:xfrm>
              <a:off x="2667240" y="4495680"/>
              <a:ext cx="1371600" cy="13712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NSIM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ab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32805"/>
            <p:cNvSpPr/>
            <p:nvPr/>
          </p:nvSpPr>
          <p:spPr>
            <a:xfrm flipH="1" flipV="1">
              <a:off x="3493800" y="3288960"/>
              <a:ext cx="514440" cy="1663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32804"/>
            <p:cNvSpPr/>
            <p:nvPr/>
          </p:nvSpPr>
          <p:spPr>
            <a:xfrm>
              <a:off x="2062440" y="2504880"/>
              <a:ext cx="1371600" cy="13712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rve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32803"/>
            <p:cNvSpPr/>
            <p:nvPr/>
          </p:nvSpPr>
          <p:spPr>
            <a:xfrm>
              <a:off x="3738600" y="3080880"/>
              <a:ext cx="1981440" cy="11761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 Black"/>
                </a:rPr>
                <a:t>Comm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 Black"/>
                </a:rPr>
                <a:t>objec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 Black"/>
                </a:rPr>
                <a:t>regist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0" y="6172200"/>
            <a:ext cx="807732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es COR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6320" y="6248520"/>
            <a:ext cx="78613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27468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a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467480" cy="56005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 rot="2725200">
            <a:off x="1561680" y="468612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8257200">
            <a:off x="4723920" y="499032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20560" y="6248520"/>
            <a:ext cx="78613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3T14:46:00Z</dcterms:created>
  <dc:creator>fedepau</dc:creator>
  <dc:description/>
  <dc:language>en-US</dc:language>
  <cp:lastModifiedBy>fedepau</cp:lastModifiedBy>
  <dcterms:modified xsi:type="dcterms:W3CDTF">2004-02-06T23:06:45Z</dcterms:modified>
  <cp:revision>46</cp:revision>
  <dc:subject/>
  <dc:title>The Common Object Registry Keeping www.statcan.ca visitors in context</dc:title>
</cp:coreProperties>
</file>