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CD80-3ED4-4D21-9EE0-F4F39A5FE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ipts in the source call on COR to provide lin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urvey meta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test release in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e Dai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data from this surve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products containing data from this surve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nadian Statistics tab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aining data from this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R script at the bottom of a Canadian Statistics table calls up links to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ll obje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gistered in COR related to this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s of the COR scripts are served up dynamically, so the link is slower than it would be to a straight HTML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s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rvey collected these data and what are the limitations of those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re these data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have any publications that explore these data in greater dep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have other tables (free or for sale) containing data from this surv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ipts embedded in the source call on COR to supply the link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urve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om which these newly released data derive and then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NSIM tab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ich contain data from this surv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95B-082D-4E7E-9429-23410951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E02-A2B0-4417-AA95-1753089D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2D9-92C1-4E53-95A0-68F07471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8D1-C782-484D-9D04-4311E024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578-7B68-442F-98A7-F9960F27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59A-60DE-45D0-A257-ED116F03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84FE-627C-4C78-8B94-93FEB73E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51D-C5A1-4414-8FF1-DEE01C94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EED-129E-4C09-A4F6-6CCEC1E5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78B-C280-43D2-8762-D330A5EF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DBC-AB70-440D-A131-D76CC92E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51D-879C-424C-B21F-4452D338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6314-0696-4FCA-9F37-60D07EA63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tcan.ca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tcan.ca/english/sdds/indexa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mmon Object Regist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tatcan.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isitors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la Fedeski-Koundakj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Conten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emination Division, Statistics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la.fedeski-koundakjian@statcan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154560"/>
            <a:ext cx="78249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S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565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rot="8556600">
            <a:off x="4990680" y="2704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9604800">
            <a:off x="4914720" y="36954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360" y="617220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5659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rot="2114400">
            <a:off x="1485720" y="50673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4600" y="6172200"/>
            <a:ext cx="7861320" cy="457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274680"/>
            <a:ext cx="80773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ia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ia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97164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ine cat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3360" y="6172200"/>
            <a:ext cx="7861320" cy="457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2114400">
            <a:off x="533160" y="38862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467480" cy="5600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ily by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16000" y="6248520"/>
            <a:ext cx="7861320" cy="457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rot="7980000">
            <a:off x="2933280" y="33145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so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 links in a redesigned survey metadata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320" y="624852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943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853452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by Subject: A new website module providing maintenance-free, fully automated access to all the objects in CO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y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me and sub-them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239760"/>
            <a:ext cx="8534160" cy="6400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4920" y="6183360"/>
            <a:ext cx="853416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943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861048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survey metadata for more than 650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can.ca/english/sdds/indexa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more than 7,500 documents officially releasing survey data and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http://www.statcan.ca/english/dai-qu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10280" y="14479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6019920"/>
            <a:ext cx="785160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257800" y="3733920"/>
            <a:ext cx="2895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945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8381880" cy="48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355680"/>
            <a:ext cx="8077320" cy="6065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8381880" cy="48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90720" y="8377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, maintenance-free links inside HTML pub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5943600" cy="4572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COR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7834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 stores only six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04840" indent="-53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es (and sub-the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s in the online cat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SIM t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ian Statistic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 tracks only two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descriptions (ID, type, and English and French lab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(the objects that are related to this 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4920" y="1066680"/>
            <a:ext cx="1371600" cy="381240"/>
          </a:xfrm>
          <a:prstGeom prst="wedgeRectCallout">
            <a:avLst>
              <a:gd name="adj1" fmla="val 37500"/>
              <a:gd name="adj2" fmla="val 14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 of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1371600"/>
            <a:ext cx="1828800" cy="304920"/>
          </a:xfrm>
          <a:prstGeom prst="wedgeRectCallout">
            <a:avLst>
              <a:gd name="adj1" fmla="val -68490"/>
              <a:gd name="adj2" fmla="val 169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447920"/>
            <a:ext cx="1752480" cy="304560"/>
          </a:xfrm>
          <a:prstGeom prst="wedgeRectCallout">
            <a:avLst>
              <a:gd name="adj1" fmla="val -64402"/>
              <a:gd name="adj2" fmla="val 142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’s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1360" y="106668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371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’s ID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1371600"/>
            <a:ext cx="167652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15397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’S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2895480"/>
            <a:ext cx="16765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3111480"/>
            <a:ext cx="175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’S RELATIONSHIPS WITH OTHER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dings teams maintain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m responsible for each data holding mai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own objects in C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s it “owns” in C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7834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ldings no longer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objects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s to external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and responsibility are distributed among many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s within C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0" y="1676520"/>
            <a:ext cx="5486400" cy="4114800"/>
            <a:chOff x="2286000" y="1676520"/>
            <a:chExt cx="5486400" cy="4114800"/>
          </a:xfrm>
        </p:grpSpPr>
        <p:sp>
          <p:nvSpPr>
            <p:cNvPr id="168" name=""/>
            <p:cNvSpPr/>
            <p:nvPr/>
          </p:nvSpPr>
          <p:spPr>
            <a:xfrm>
              <a:off x="3772080" y="3619440"/>
              <a:ext cx="1028520" cy="685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Surv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0" y="4762440"/>
              <a:ext cx="1028880" cy="685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Daily rele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72080" y="5105520"/>
              <a:ext cx="1028520" cy="685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Items in the online catalog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43680" y="4762440"/>
              <a:ext cx="1028520" cy="685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CANSIM tab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43880" y="4762440"/>
              <a:ext cx="1028520" cy="685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Canadian Statistics tab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72080" y="1676520"/>
              <a:ext cx="1028520" cy="685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The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72080" y="2590920"/>
              <a:ext cx="1028520" cy="685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Sub-the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9016400">
              <a:off x="2835360" y="4398480"/>
              <a:ext cx="1158840" cy="281160"/>
            </a:xfrm>
            <a:prstGeom prst="leftRightArrow">
              <a:avLst>
                <a:gd name="adj1" fmla="val 50000"/>
                <a:gd name="adj2" fmla="val 8205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3771720" y="4533840"/>
              <a:ext cx="914400" cy="228600"/>
            </a:xfrm>
            <a:prstGeom prst="leftRightArrow">
              <a:avLst>
                <a:gd name="adj1" fmla="val 50000"/>
                <a:gd name="adj2" fmla="val 7963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3564200">
              <a:off x="4479480" y="4352760"/>
              <a:ext cx="1133280" cy="307800"/>
            </a:xfrm>
            <a:prstGeom prst="leftRightArrow">
              <a:avLst>
                <a:gd name="adj1" fmla="val 50000"/>
                <a:gd name="adj2" fmla="val 73296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0800000">
              <a:off x="6058080" y="4959000"/>
              <a:ext cx="799920" cy="260280"/>
            </a:xfrm>
            <a:prstGeom prst="leftRightArrow">
              <a:avLst>
                <a:gd name="adj1" fmla="val 50000"/>
                <a:gd name="adj2" fmla="val 6118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3828960" y="3447720"/>
              <a:ext cx="800280" cy="228600"/>
            </a:xfrm>
            <a:prstGeom prst="leftRightArrow">
              <a:avLst>
                <a:gd name="adj1" fmla="val 50000"/>
                <a:gd name="adj2" fmla="val 6969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3867120" y="2304720"/>
              <a:ext cx="723960" cy="228600"/>
            </a:xfrm>
            <a:prstGeom prst="leftRightArrow">
              <a:avLst>
                <a:gd name="adj1" fmla="val 50000"/>
                <a:gd name="adj2" fmla="val 63045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7834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hol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some 10,000 publications, products and services in the online catalo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http://www.statcan.ca/english/search/ip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NSIM, we have nearly 2000 detailed tables containing over 18 million s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http://cansim2.statcan.ca/cgi-win/CNSMCGI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89560" y="373392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6243480"/>
            <a:ext cx="784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ification of data holdings is not simple or qu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xonomy must be applied strategically and uniformly across hol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fections are inevi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 of Daily releases in COR could not be done wholesale or retroa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ust be in CANSIM for Canadian Statistics tables to sh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 does not capture all data holdings (data not available in CANSIM, data in other databases, e.g., Census of Population and Agriculture da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n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Statistics by Subject in the 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new interfaces for COR output which are harmonized and have high us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databases that make COR redunda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re information about COR,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Pel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, Application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eminatio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13) 951-45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arc.pelchat@statcan.c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 hol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nally, in Canadian Statistics, we have more than 400 summary tables, most of which are created automatically from CANSIM 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http://www.statcan.ca/english/Pgdb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6019920"/>
            <a:ext cx="7924680" cy="4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visitors find an item in one data holding, they want to see that item in the context of the other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096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838080" y="3224880"/>
            <a:ext cx="7391160" cy="1160280"/>
            <a:chOff x="838080" y="3224880"/>
            <a:chExt cx="7391160" cy="1160280"/>
          </a:xfrm>
        </p:grpSpPr>
        <p:cxnSp>
          <p:nvCxnSpPr>
            <p:cNvPr id="69" name="_s5150"/>
            <p:cNvCxnSpPr>
              <a:stCxn id="70" idx="0"/>
              <a:endCxn id="71" idx="2"/>
            </p:cNvCxnSpPr>
            <p:nvPr/>
          </p:nvCxnSpPr>
          <p:spPr>
            <a:xfrm flipH="1" flipV="1" rot="5400000">
              <a:off x="3937320" y="3312000"/>
              <a:ext cx="236520" cy="95832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5145"/>
            <p:cNvCxnSpPr>
              <a:stCxn id="73" idx="0"/>
              <a:endCxn id="71" idx="2"/>
            </p:cNvCxnSpPr>
            <p:nvPr/>
          </p:nvCxnSpPr>
          <p:spPr>
            <a:xfrm flipV="1" rot="16200000">
              <a:off x="5853240" y="2353320"/>
              <a:ext cx="236520" cy="287532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5144"/>
            <p:cNvCxnSpPr>
              <a:stCxn id="75" idx="0"/>
              <a:endCxn id="71" idx="2"/>
            </p:cNvCxnSpPr>
            <p:nvPr/>
          </p:nvCxnSpPr>
          <p:spPr>
            <a:xfrm flipV="1" rot="16200000">
              <a:off x="4895280" y="3311280"/>
              <a:ext cx="236520" cy="95904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5143"/>
            <p:cNvCxnSpPr>
              <a:stCxn id="77" idx="0"/>
              <a:endCxn id="71" idx="2"/>
            </p:cNvCxnSpPr>
            <p:nvPr/>
          </p:nvCxnSpPr>
          <p:spPr>
            <a:xfrm flipH="1" flipV="1" rot="5400000">
              <a:off x="2979360" y="2353680"/>
              <a:ext cx="236520" cy="287496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5139"/>
            <p:cNvSpPr/>
            <p:nvPr/>
          </p:nvSpPr>
          <p:spPr>
            <a:xfrm>
              <a:off x="3712680" y="3224880"/>
              <a:ext cx="1641960" cy="4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aily relea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5140"/>
            <p:cNvSpPr/>
            <p:nvPr/>
          </p:nvSpPr>
          <p:spPr>
            <a:xfrm>
              <a:off x="838080" y="3910680"/>
              <a:ext cx="1642320" cy="474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k 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Survey info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5141"/>
            <p:cNvSpPr/>
            <p:nvPr/>
          </p:nvSpPr>
          <p:spPr>
            <a:xfrm>
              <a:off x="4671000" y="3910680"/>
              <a:ext cx="1641960" cy="474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k 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Canadian Statistics tab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5142"/>
            <p:cNvSpPr/>
            <p:nvPr/>
          </p:nvSpPr>
          <p:spPr>
            <a:xfrm>
              <a:off x="6587280" y="3910680"/>
              <a:ext cx="1641960" cy="474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k 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Public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5149"/>
            <p:cNvSpPr/>
            <p:nvPr/>
          </p:nvSpPr>
          <p:spPr>
            <a:xfrm>
              <a:off x="2754720" y="3910680"/>
              <a:ext cx="1641960" cy="474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k 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CANSIM tab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" y="6118200"/>
            <a:ext cx="78516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ssible to creat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ndmade lin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ong related items becaus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ze of our holdings, magnified by duplic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ge maintenance task;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evitability of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062440" y="1452240"/>
            <a:ext cx="5329080" cy="4414680"/>
            <a:chOff x="2062440" y="1452240"/>
            <a:chExt cx="5329080" cy="4414680"/>
          </a:xfrm>
        </p:grpSpPr>
        <p:sp>
          <p:nvSpPr>
            <p:cNvPr id="84" name="_s32809"/>
            <p:cNvSpPr/>
            <p:nvPr/>
          </p:nvSpPr>
          <p:spPr>
            <a:xfrm flipV="1">
              <a:off x="4524480" y="2537640"/>
              <a:ext cx="0" cy="542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32808"/>
            <p:cNvSpPr/>
            <p:nvPr/>
          </p:nvSpPr>
          <p:spPr>
            <a:xfrm>
              <a:off x="3981600" y="1452240"/>
              <a:ext cx="1371600" cy="1371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Dai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32814"/>
            <p:cNvSpPr/>
            <p:nvPr/>
          </p:nvSpPr>
          <p:spPr>
            <a:xfrm flipV="1">
              <a:off x="5110200" y="3266640"/>
              <a:ext cx="1049400" cy="228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2813"/>
            <p:cNvSpPr/>
            <p:nvPr/>
          </p:nvSpPr>
          <p:spPr>
            <a:xfrm>
              <a:off x="6019920" y="2580840"/>
              <a:ext cx="1371600" cy="1371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li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talog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2812"/>
            <p:cNvSpPr/>
            <p:nvPr/>
          </p:nvSpPr>
          <p:spPr>
            <a:xfrm>
              <a:off x="4843800" y="4062240"/>
              <a:ext cx="414000" cy="50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2811"/>
            <p:cNvSpPr/>
            <p:nvPr/>
          </p:nvSpPr>
          <p:spPr>
            <a:xfrm>
              <a:off x="5186520" y="4495680"/>
              <a:ext cx="1371600" cy="1371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nadi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32807"/>
            <p:cNvSpPr/>
            <p:nvPr/>
          </p:nvSpPr>
          <p:spPr>
            <a:xfrm flipH="1">
              <a:off x="3733920" y="4062240"/>
              <a:ext cx="471600" cy="661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2806"/>
            <p:cNvSpPr/>
            <p:nvPr/>
          </p:nvSpPr>
          <p:spPr>
            <a:xfrm>
              <a:off x="2667240" y="4495680"/>
              <a:ext cx="1371600" cy="1371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NSI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32805"/>
            <p:cNvSpPr/>
            <p:nvPr/>
          </p:nvSpPr>
          <p:spPr>
            <a:xfrm flipH="1" flipV="1">
              <a:off x="3493800" y="3288960"/>
              <a:ext cx="514440" cy="166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2804"/>
            <p:cNvSpPr/>
            <p:nvPr/>
          </p:nvSpPr>
          <p:spPr>
            <a:xfrm>
              <a:off x="2062440" y="2504880"/>
              <a:ext cx="1371600" cy="1371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rv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32803"/>
            <p:cNvSpPr/>
            <p:nvPr/>
          </p:nvSpPr>
          <p:spPr>
            <a:xfrm>
              <a:off x="3738600" y="3080880"/>
              <a:ext cx="1981440" cy="11761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 Black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 Black"/>
                </a:rPr>
                <a:t>objec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 Black"/>
                </a:rPr>
                <a:t>regis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0" y="6172200"/>
            <a:ext cx="807732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COR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320" y="624852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5600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2725200">
            <a:off x="1561680" y="46861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8257200">
            <a:off x="4723920" y="4990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0560" y="624852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4:46:00Z</dcterms:created>
  <dc:creator>fedepau</dc:creator>
  <dc:description/>
  <dc:language>en-US</dc:language>
  <cp:lastModifiedBy>fedepau</cp:lastModifiedBy>
  <dcterms:modified xsi:type="dcterms:W3CDTF">2004-02-06T23:06:45Z</dcterms:modified>
  <cp:revision>46</cp:revision>
  <dc:subject/>
  <dc:title>The Common Object Registry Keeping www.statcan.ca visitors in context</dc:title>
</cp:coreProperties>
</file>