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59B-0032-4681-A019-4696DBD6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65E-2DAF-4332-91B3-CC6A5B3D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97B-82AA-44AA-BEB9-1849B3F8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0A1-2041-4BEE-82C9-F9DAD23C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00B-19E0-4D29-9E36-5FF6ED1F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9FD-BC99-451B-BF00-45EFF9B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671-3406-478A-A487-76F5D01A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995-1145-4425-92A9-7DCFF19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461-F16F-4511-AE0D-7538003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418-E4E1-493C-9494-8BABD57E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FB1-F203-4168-9066-75140F54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F44-77ED-41B5-AEAB-A00EA51C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94F-3C8F-4A3E-A18D-D46E4EBD6137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etadata Models in  Survey Comp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429000" y="3124080"/>
            <a:ext cx="50292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me Results of MetaNet – WG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562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40458c"/>
                </a:solidFill>
                <a:latin typeface="Tahoma"/>
              </a:rPr>
              <a:t>METIS 2004, Genev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5562720"/>
            <a:ext cx="23619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0458c"/>
                </a:solidFill>
                <a:latin typeface="Tahoma"/>
              </a:rPr>
              <a:t>W. Grossman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0458c"/>
                </a:solidFill>
                <a:latin typeface="Tahoma"/>
              </a:rPr>
              <a:t>University of Vien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9" name="uni-logo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210" name="project_logo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1676160" cy="138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5 Example B: Edi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Editing is the process of detecting and adjusting individual errors in data records resulting from data collection and capture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put: A variable together with a set of admissible values for the variable within a specific con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Output: A summary statement about quality of the variable or a listing of errors for each cas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8FA-685F-49A7-8A4F-B1AB559BF6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6 Example B: Edi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Context may be defined in various way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ubject matter considerations, e.g. there is only one person in a household, who can claim to be head of househol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text may be defined by some more technical reasons, e.g. use as measurement unit for annual income 1000€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text may be defined by pure technical reasons, e.g. “f” for female and “m” for male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D03-4E50-402B-A026-71C2190B9D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7 Example B: Edi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text defines rules for the admissible values of the variab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ithin one data set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ithin one infological model (e.g. person-household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ithin a time s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Rules may be formulate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strong constraints, i.e. logical conditions on combination of val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soft constraints, i.e. statistical conditions on combinations of val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Rules have to be processed in algorithmic form and maintained by an administrative procedu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E22-8050-4C61-BC9F-5FF792EFAF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8 Example C: Weigh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Weight is the importance of an object in relation to a set of objects to which it belongs; …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Input: A statistical dataset together with appropriate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utput: Statistical dataset augmented by the weight informa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7FF-F122-4197-B375-D936AD6996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9 Example C: Weigh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subject matter problem should be solved by weighting (e.g. representation of strata, post-stratification, …)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procedure should be used for weighting (e.g. base weights, calibration weights, ….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 which form are the data and the additional information about the population available (e.g. population data as summary table or as register with auxiliary variables)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64E-63A8-4FBF-A65C-093894DE4E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0 Example C: Weigh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can we access and combine the different dat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o is responsible for the different dataset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is the output represented (e.g. as weight for the dataset, as weights for the sampling procedure, as summary table)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re we interested in reuse of the procedure for new data sets (e.g. the same weighting procedure within a series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33E-1E2A-49B1-BF07-2A5093CD2B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1 Example D: Analytical Un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Analytical units represent real or artificially constructed units for which statistics are compil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Input: Two or more statistical uni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utput: A new statistical un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CA3-FC77-4358-9C93-AF4629EA9B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2 Example D: Analytical Un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is the conceptual definition of the statistical unit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are the conceptual definitions captured by operational characteristics (e.g. auxiliary variables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can we access and manipulate the operational characteristics in order to produce the new analytical unit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is the new analytical unit embedded into an existing administrative framework?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868-F40E-42D4-A958-863192E791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3 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The examples show th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Models should be based on terminology but are more than terminolo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Models have to consider different types of “statistical” objec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For these objects we have to know the concepts represented as data, together with the relations between the concep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know the statistical meaning of the  objects, together with their statistical relation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655-E88E-4327-B930-56E06E11A7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4 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take into account the specific format of realisation of the objects as physical datas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must include statements about responsibility, access rights and other administrative detai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need a flexible coupling mechanism for the objects according to processing need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develop a description formalism for statistical processing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take into account information requirements of external user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60F-D694-42B1-A406-241D0DBBE8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eta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quirements for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Key Features of the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mplications for Termin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DBD-7B39-48A5-B5C6-32CCF021C4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In order to meet the different aspects of the requirement analysis a model with four different facets, resembling the idea of facet classifications used by librarians and archivist, was designed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44F-7BEF-4304-A85B-8B0C6D6FD1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tructure Facet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The objects of interest, so called “statistical categories”: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unit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popul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riabl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lues together with a number of related objects like classification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dataset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C31-ACB0-43F5-93B0-0C1F757086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domains” for coupling objects according to processing needs (basically a system of catalogues for the other object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Each instance of the structure has a twofold representation inside a syst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data (“Category-Instance data”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description (“Category-Instance model” , i.e. metadata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6C6-C0CD-47F5-98DB-76874A378B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View Facet” describe the insta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ceptual point of view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ubject matter defini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point of view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The statistical properties of the instances necessary for process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Data management point of view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ll information necessary for machine supported storage and manip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dministrative point of view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Management and bookkeeping of the structu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00A-BB9E-4C5E-ACCD-8A0620D67A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tage Facet” describes processing at the data as well as at the metadata leve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09480" y="3048120"/>
          <a:ext cx="834876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8120"/>
                    <a:ext cx="8348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D32-E00B-4308-A00D-0DF06DE842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Production blueprint”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Keeps the information how the instance is set up inside the system according to the four different views of the view fac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Processing blueprin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Describes the processing activities for the instances according to the four different views of the view face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2E1-EB4C-42F1-A1C0-F3560FBFA7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Function facet”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ll aspects of communication and usage of meta-information by humans inside the system as well as in connection with dissemination and excha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ho is involved in communicatio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hat information is communica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How is the information communicated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ahoma"/>
              </a:rPr>
              <a:t> 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018-E2B3-416B-9F39-99A2DF653F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tatistical information systems use terminology from different sour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s, Computer Science, Economy, Social Sciences,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We can at best collect terminology and bring it into an order according to some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This ordering defines a “statistical ontology” which is above terminology and has to use few common agreed te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9DB-4DD0-4839-80DA-930DC582CD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Activities of METANET WG  4 showed that there is rather large agreement between statisticians about the main terms for important structures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Uni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riab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lu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D75-0534-4634-85D5-74D58FEAAF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Based on such agreement we can assign each terminology item a specification according to the ont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UMAS proposes the following classif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is the source of terminology (e.g. statistics, general standards, application area,…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For which structure applies the term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For which view is the term used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 which processing stage is the term used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function aspects covers the term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1DC-FDC6-4E54-B400-905ACDB401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660066"/>
                </a:solidFill>
                <a:latin typeface="Tahoma"/>
              </a:rPr>
              <a:t>METANET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network of excellence funded by EUROSTAT 2000/01 – 2003, 5 work group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G 1: Methodology and Too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WG 2: Harmonisation of Metadata – Structure and Defini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G 3: Best Practice for Mig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G 4: Adoption Iss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40458c"/>
                </a:solidFill>
                <a:latin typeface="Tahoma"/>
              </a:rPr>
              <a:t>WG 5: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rminology </a:t>
            </a:r>
            <a:r>
              <a:rPr b="0" lang="de-AT" sz="2400" spc="-1" strike="noStrike">
                <a:solidFill>
                  <a:srgbClr val="40458c"/>
                </a:solidFill>
                <a:latin typeface="Tahoma"/>
              </a:rPr>
              <a:t>(ad ho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DC0-94C4-4BAF-95D2-588022A490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MCV (SDMX) proposes the following classif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dministration (close relation to administrative view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cepts, Definitions, Standards (close relation to conceptual view and structur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Data Collection, manipulating/accounting convention (close relation to stage facet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Quality and performance metadata (close relation to function facet in connection with dissemination and exchang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F7E-AEA8-4652-B101-CA8AB41E0B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tatistical processing activities define metadata requirements usually not considered in traditional data modell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processing activities require a model which supports flexible coupling of entities according to processing nee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e need besides terminology also specification of the terminology in context    of a statistical ontolog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765-BE6F-4DC5-B550-74381EB45A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ilfried.grossmann@univie.ac.a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5" name="uni-logo2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project_logo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1676160" cy="138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660066"/>
                </a:solidFill>
                <a:latin typeface="Tahoma"/>
              </a:rPr>
              <a:t>METANET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Within WG 2 two different approach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rminology Model (cf. WP 1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fied Metadata Architecture for Statistics (UMAS mode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172-6B40-437A-82E7-20013DDF06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660066"/>
                </a:solidFill>
                <a:latin typeface="Tahoma"/>
              </a:rPr>
              <a:t>METANET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ention of the UMAS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tatistics deals with different kinds of data, e.g. surveys, registers, classificatio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se data show a dynamic defined by statistical processing activ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fine a model which supports besides  description of data description of the statistical dynam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E36-2EC1-4F73-81BB-B1E9E33A24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  Meth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Requirement analysis is based 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Examination of a number of activities in survey processing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Documentation of these activities inside statistical systems, in particular proposal o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Banca d’Italia, DDI, OECD, SCB-DOK, SDDS, Statistics Netherlands (Input-Throughput-Output mode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General methods for documentation, e.g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Dublin Core, Facet Classifications, ISO-Standards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08D-B6DD-403D-94ED-E33B530EF9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2 Example A: Samp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ampling is the process of selecting a number of cases from all the cases in a particular group or univer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Input: Sampling Fra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utput: Sa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1F9-27AA-4777-991F-92F10E8650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3 Example A: Samp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is an appropriate definition for the sampling frame given the problem (e.g. coverage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kind of additional information should be available for the sampling frame (e.g. auxiliary variables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can we obtain an appropriate representation of the desired sampling frame (e.g. merging existing frames, selecting from existing fram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o is responsible for the frame in the futur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1FA-C6EB-4DCE-A9FD-39C603FEEE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4 Example A: Samp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sampling technique is appropriate for our problem (Note that there are some relations between structure of sampling frame and possible sampling techniqu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 which form is the output (i.e. the sample) represented in the system?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o is responsible for the sampling procedur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82D-4402-451F-89E0-BC8B37017A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01:23Z</dcterms:created>
  <dc:creator>mdenk</dc:creator>
  <dc:description/>
  <dc:language>en-US</dc:language>
  <cp:lastModifiedBy>Grossmann</cp:lastModifiedBy>
  <dcterms:modified xsi:type="dcterms:W3CDTF">2004-02-08T20:35:40Z</dcterms:modified>
  <cp:revision>68</cp:revision>
  <dc:subject/>
  <dc:title>Statistical Composites:</dc:title>
</cp:coreProperties>
</file>