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15A2-4A91-49CC-949F-4EE3778FF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4A40-46B0-4A51-B28A-1AA0CA03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743B-A6EB-41EB-ABE0-D5BC20641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1C47-DBEA-4587-B510-794D3514E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503D-4525-45B7-9599-BFC0446F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31FB-F8B2-4F17-A9E5-4D826E26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65AA-FC93-44C6-822C-CBBFE5F6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F29A-EFB4-43FD-AAE3-6C1F9F15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0C3D-4D54-4564-8CF7-C3DD3F7D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E660-B26B-4F87-A445-AC2C86C2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5709-2311-4BDB-B5C4-08F065D2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22B4-FF53-4AB8-A676-34CCC0CF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B687-6628-49C9-AA73-F987E096BB61}" type="slidenum">
              <a:rPr b="0" lang="de-DE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Metadata Models in  Survey Comput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429000" y="3124080"/>
            <a:ext cx="50292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Some Results of MetaNet – WG 2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5029200" y="55627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40458c"/>
                </a:solidFill>
                <a:latin typeface="Tahoma"/>
              </a:rPr>
              <a:t>METIS 2004, Geneva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362320" y="5562720"/>
            <a:ext cx="2361960" cy="5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40458c"/>
                </a:solidFill>
                <a:latin typeface="Tahoma"/>
              </a:rPr>
              <a:t>W. Grossmann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40458c"/>
                </a:solidFill>
                <a:latin typeface="Tahoma"/>
              </a:rPr>
              <a:t>University of Vienna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09" name="uni-logo2" descr=""/>
          <p:cNvPicPr/>
          <p:nvPr/>
        </p:nvPicPr>
        <p:blipFill>
          <a:blip r:embed="rId1"/>
          <a:stretch/>
        </p:blipFill>
        <p:spPr>
          <a:xfrm>
            <a:off x="7010280" y="304920"/>
            <a:ext cx="1371600" cy="1150920"/>
          </a:xfrm>
          <a:prstGeom prst="rect">
            <a:avLst/>
          </a:prstGeom>
          <a:ln w="0">
            <a:noFill/>
          </a:ln>
        </p:spPr>
      </p:pic>
      <p:pic>
        <p:nvPicPr>
          <p:cNvPr id="210" name="project_logo" descr=""/>
          <p:cNvPicPr/>
          <p:nvPr/>
        </p:nvPicPr>
        <p:blipFill>
          <a:blip r:embed="rId2"/>
          <a:stretch/>
        </p:blipFill>
        <p:spPr>
          <a:xfrm>
            <a:off x="990720" y="3352680"/>
            <a:ext cx="1676160" cy="1389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Requirement Analysis 5 Example B: Edit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Terminology view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Editing is the process of detecting and adjusting individual errors in data records resulting from data collection and capture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Operational view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Input: A variable together with a set of admissible values for the variable within a specific contex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Output: A summary statement about quality of the variable or a listing of errors for each case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0CF9-2A10-4470-A6C4-B843FFBCDAB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Requirement Analysis 6 Example B: Edit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  <a:ea typeface="Tahoma"/>
              </a:rPr>
              <a:t>Details of operational view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Context may be defined in various way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Subject matter considerations, e.g. there is only one person in a household, who can claim to be head of househol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Context may be defined by some more technical reasons, e.g. use as measurement unit for annual income 1000€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Context may be defined by pure technical reasons, e.g. “f” for female and “m” for male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D35B-D727-41F2-832A-19CBEC2095F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Requirement Analysis 7 Example B: Edit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Context defines rules for the admissible values of the variable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Within one data set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Within one infological model (e.g. person-household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Within a time seri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Rules may be formulated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As strong constraints, i.e. logical conditions on combination of valu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As soft constraints, i.e. statistical conditions on combinations of valu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Rules have to be processed in algorithmic form and maintained by an administrative procedu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8739-EE41-4EBE-B9C2-D35B37B39A3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Requirement Analysis 8 Example C: Weight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  <a:ea typeface="Tahoma"/>
              </a:rPr>
              <a:t>Terminology view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Weight is the importance of an object in relation to a set of objects to which it belongs; …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  <a:ea typeface="Tahoma"/>
              </a:rPr>
              <a:t>Operational view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Input: A statistical dataset together with appropriate inform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Output: Statistical dataset augmented by the weight information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AC07-D01F-4911-9354-D60618A07FA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Requirement Analysis 9 Example C: Weight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Details of operational view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Which subject matter problem should be solved by weighting (e.g. representation of strata, post-stratification, …)?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Which procedure should be used for weighting (e.g. base weights, calibration weights, ….)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In which form are the data and the additional information about the population available (e.g. population data as summary table or as register with auxiliary variables)?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F5FA-619A-4698-9EE0-423182DD0B0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Requirement Analysis 10 Example C: Weight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How can we access and combine the different data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Who is responsible for the different dataset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How is the output represented (e.g. as weight for the dataset, as weights for the sampling procedure, as summary table)?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Are we interested in reuse of the procedure for new data sets (e.g. the same weighting procedure within a series)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68A1-167E-4C79-99D8-81E4FF0F166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Requirement Analysis 11 Example D: Analytical Uni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  <a:ea typeface="Tahoma"/>
              </a:rPr>
              <a:t>Terminology view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Analytical units represent real or artificially constructed units for which statistics are compil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  <a:ea typeface="Tahoma"/>
              </a:rPr>
              <a:t>Operational view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Input: Two or more statistical uni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Output: A new statistical uni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AB26-A163-4767-BE26-1C208698EB9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Requirement Analysis 12 Example D: Analytical Uni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Details of operational view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What is the conceptual definition of the statistical unit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How are the conceptual definitions captured by operational characteristics (e.g. auxiliary variables)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How can we access and manipulate the operational characteristics in order to produce the new analytical unit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How is the new analytical unit embedded into an existing administrative framework?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CFDB-1367-4B8E-A4B5-BDDC97352C6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Requirement Analysis 13 Summa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The examples show th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Models should be based on terminology but are more than terminolog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Models have to consider different types of “statistical” objec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For these objects we have to know the concepts represented as data, together with the relations between the concep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We have to know the statistical meaning of the  objects, together with their statistical relations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 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D419-C0C4-465A-8011-AEDF60A9F9B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Requirement Analysis 14 Summa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We have to take into account the specific format of realisation of the objects as physical datase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We must include statements about responsibility, access rights and other administrative detail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We need a flexible coupling mechanism for the objects according to processing need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We have to develop a description formalism for statistical processing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We have to take into account information requirements of external users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 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7A92-9050-4C32-B2A6-8E5BBCD98A5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t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Metane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Requirements for Mode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Key Features of the Mod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Implications for Terminolog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2FD9-301C-46F6-8B83-9C82156795F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Key Features of the Model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  <a:ea typeface="Tahoma"/>
              </a:rPr>
              <a:t>In order to meet the different aspects of the requirement analysis a model with four different facets, resembling the idea of facet classifications used by librarians and archivist, was designed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  <a:ea typeface="Tahoma"/>
              </a:rPr>
              <a:t>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2DDC-48F8-4531-A30A-55BB4676BB9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Key Features of the Model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“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Structure Facet”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The objects of interest, so called “statistical categories”: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statistical unit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statistical population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statistical variables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statistical values together with a number of related objects like classifications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statistical datasets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 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5B74-91C9-4768-BFBC-4EEFFC67325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Key Features of the Model 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“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statistical domains” for coupling objects according to processing needs (basically a system of catalogues for the other objects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Each instance of the structure has a twofold representation inside a syste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As data (“Category-Instance data”)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As description (“Category-Instance model” , i.e. metadata)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 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9191-767C-4C17-8D89-29E35EE7015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Key Features of the Model 4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“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View Facet” describe the insta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“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Conceptual point of view”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407960" indent="-2008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subject matter definit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“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Statistical point of view”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407960" indent="-2008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The statistical properties of the instances necessary for processin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“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Data management point of view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407960" indent="-2008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All information necessary for machine supported storage and manipulat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“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Administrative point of view”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407960" indent="-2008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Management and bookkeeping of the structur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0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353E-E093-4182-96A6-845F56D990E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Key Features of the Model 5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“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Stage Facet” describes processing at the data as well as at the metadata level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 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609480" y="3048120"/>
          <a:ext cx="8348760" cy="28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048120"/>
                    <a:ext cx="8348760" cy="28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BA25-D944-4725-904F-86BD2A7B7D1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Key Features of the Model 6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“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Production blueprint”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Keeps the information how the instance is set up inside the system according to the four different views of the view face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“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Processing blueprint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Describes the processing activities for the instances according to the four different views of the view facet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 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B28A-57EC-4039-AE2E-D719F5578DA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Key Features of the Model 7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“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Function facet”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All aspects of communication and usage of meta-information by humans inside the system as well as in connection with dissemination and exchang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Who is involved in communication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What information is communicated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How is the information communicated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  <a:ea typeface="Tahoma"/>
              </a:rPr>
              <a:t> 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 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E4DD-6600-4D9C-86DC-8C4EAE72CEC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Implications for Terminology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Statistical information systems use terminology from different sour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Statistics, Computer Science, Economy, Social Sciences,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We can at best collect terminology and bring it into an order according to some mod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This ordering defines a “statistical ontology” which is above terminology and has to use few common agreed ter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 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1494-F2DE-4437-A0FA-7B0949294C3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Implications for Terminology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Activities of METANET WG  4 showed that there is rather large agreement between statisticians about the main terms for important structures: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Statistical Unit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Statistical Variable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Statistical Value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 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CCB5-1D80-40DD-A3DD-FE9ACAA031D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Implications for Terminology 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Based on such agreement we can assign each terminology item a specification according to the ontolog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UMAS proposes the following classific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What is the source of terminology (e.g. statistics, general standards, application area,…)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For which structure applies the term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For which view is the term used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In which processing stage is the term used?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Which function aspects covers the term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57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57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57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 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57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5E2A-265E-4E50-A186-7CFB12D35DC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660066"/>
                </a:solidFill>
                <a:latin typeface="Tahoma"/>
              </a:rPr>
              <a:t>METANET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A network of excellence funded by EUROSTAT 2000/01 – 2003, 5 work group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WG 1: Methodology and Tool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WG 2: Harmonisation of Metadata – Structure and Definiti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WG 3: Best Practice for Migr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WG 4: Adoption Issu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40458c"/>
                </a:solidFill>
                <a:latin typeface="Tahoma"/>
              </a:rPr>
              <a:t>WG 5: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erminology </a:t>
            </a:r>
            <a:r>
              <a:rPr b="0" lang="de-AT" sz="2400" spc="-1" strike="noStrike">
                <a:solidFill>
                  <a:srgbClr val="40458c"/>
                </a:solidFill>
                <a:latin typeface="Tahoma"/>
              </a:rPr>
              <a:t>(ad hoc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F679-286F-4CB3-BAC8-E50EBF59DC8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Implications for Terminology 4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MCV (SDMX) proposes the following classific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Administration (close relation to administrative view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Concepts, Definitions, Standards (close relation to conceptual view and structur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Data Collection, manipulating/accounting convention (close relation to stage facet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Quality and performance metadata (close relation to function facet in connection with dissemination and exchang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 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EC5D-2490-4781-806A-66F954CFBFE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Statistical processing activities define metadata requirements usually not considered in traditional data modelling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he processing activities require a model which supports flexible coupling of entities according to processing need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We need besides terminology also specification of the terminology in context    of a statistical ontology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D678-7A9D-4D42-B9F9-AA6CFCEC0B4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Thank you!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wilfried.grossmann@univie.ac.a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5" name="uni-logo2" descr=""/>
          <p:cNvPicPr/>
          <p:nvPr/>
        </p:nvPicPr>
        <p:blipFill>
          <a:blip r:embed="rId1"/>
          <a:stretch/>
        </p:blipFill>
        <p:spPr>
          <a:xfrm>
            <a:off x="6858000" y="304920"/>
            <a:ext cx="1371600" cy="1150920"/>
          </a:xfrm>
          <a:prstGeom prst="rect">
            <a:avLst/>
          </a:prstGeom>
          <a:ln w="0">
            <a:noFill/>
          </a:ln>
        </p:spPr>
      </p:pic>
      <p:pic>
        <p:nvPicPr>
          <p:cNvPr id="276" name="project_logo" descr=""/>
          <p:cNvPicPr/>
          <p:nvPr/>
        </p:nvPicPr>
        <p:blipFill>
          <a:blip r:embed="rId2"/>
          <a:stretch/>
        </p:blipFill>
        <p:spPr>
          <a:xfrm>
            <a:off x="1219320" y="3505320"/>
            <a:ext cx="1676160" cy="1388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660066"/>
                </a:solidFill>
                <a:latin typeface="Tahoma"/>
              </a:rPr>
              <a:t>METANET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Within WG 2 two different approach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erminology Model (cf. WP 12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Unified Metadata Architecture for Statistics (UMAS model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CB99-504E-4648-93BC-58B92B43D5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660066"/>
                </a:solidFill>
                <a:latin typeface="Tahoma"/>
              </a:rPr>
              <a:t>METANET 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Intention of the UMAS mod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Statistics deals with different kinds of data, e.g. surveys, registers, classifications, 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hese data show a dynamic defined by statistical processing activit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Define a model which supports besides  description of data description of the statistical dynami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5EC5-118A-491A-A1CE-90AFF0DB562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Requirement Analysis 1  Metho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Requirement analysis is based 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Examination of a number of activities in survey processing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Documentation of these activities inside statistical systems, in particular proposal of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Banca d’Italia, DDI, OECD, SCB-DOK, SDDS, Statistics Netherlands (Input-Throughput-Output model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General methods for documentation, e.g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ahoma"/>
              </a:rPr>
              <a:t>Dublin Core, Facet Classifications, ISO-Standards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24D2-DAA9-49F4-8A48-02CFD299FAB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Requirement Analysis 2 Example A: Sampl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  <a:ea typeface="Tahoma"/>
              </a:rPr>
              <a:t>Terminology view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Sampling is the process of selecting a number of cases from all the cases in a particular group or univers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  <a:ea typeface="Tahoma"/>
              </a:rPr>
              <a:t>Operational view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Input: Sampling Fram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Output: Samp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489F-E7E1-4F43-B09D-5FD334EF32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Requirement Analysis 3 Example A: Sampl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Details of operational view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What is an appropriate definition for the sampling frame given the problem (e.g. coverage)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What kind of additional information should be available for the sampling frame (e.g. auxiliary variables)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How can we obtain an appropriate representation of the desired sampling frame (e.g. merging existing frames, selecting from existing frame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Who is responsible for the frame in the future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CA9C-9196-42F8-863C-31100E8FD20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Requirement Analysis 4 Example A: Sampl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Which sampling technique is appropriate for our problem (Note that there are some relations between structure of sampling frame and possible sampling technique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In which form is the output (i.e. the sample) represented in the system?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ahoma"/>
              </a:rPr>
              <a:t>Who is responsible for the sampling procedure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2004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29AF-C3A7-482B-B4CF-069884D96CD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2.2004</a:t>
            </a: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3T09:01:23Z</dcterms:created>
  <dc:creator>mdenk</dc:creator>
  <dc:description/>
  <dc:language>en-US</dc:language>
  <cp:lastModifiedBy>Grossmann</cp:lastModifiedBy>
  <dcterms:modified xsi:type="dcterms:W3CDTF">2004-02-08T20:35:40Z</dcterms:modified>
  <cp:revision>68</cp:revision>
  <dc:subject/>
  <dc:title>Statistical Composites:</dc:title>
</cp:coreProperties>
</file>