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993600" y="731520"/>
            <a:ext cx="4872240" cy="365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14040" y="463248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92631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2600" y="92631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97531F5-8332-44AD-9BDC-EB5393C04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040" y="463248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untry progress report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available in www.unep.ch/biosafety),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indicating the results of their gap analysis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Times New Roman"/>
              </a:rPr>
              <a:t>Gaps in biosafety poli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Times New Roman"/>
              </a:rPr>
              <a:t>Gaps in regulatory regi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Times New Roman"/>
              </a:rPr>
              <a:t>Gaps in systems to handle reques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Times New Roman"/>
              </a:rPr>
              <a:t>Gaps in monitoring and enforc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Times New Roman"/>
              </a:rPr>
              <a:t>Gaps in public awareness BUT NOT IN PUBLIC PARTICIPATI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3048-7CA0-4E6C-9AF6-6DDD0BE2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B3E-95F0-41B9-8082-433A2990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A25-29C9-4CFD-8F1D-51A3AD21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081-1CC7-493B-84B1-747AEB2E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5201-D3BF-45BA-9CA8-905859A9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E1B-F816-40A0-8C3C-06732341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D4B-BBC5-47D3-8030-9688C724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5CD-8852-4547-8D85-35AB868D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08ED-F60B-4403-832C-79AC77F2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A207-6A88-404F-864C-8F456182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0AA7-022F-4DFB-BE59-EDABCE2C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BAE4-F9B8-48C5-9186-6E148857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256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7C17-CD31-4BC3-AD0E-37D703FC286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22.xml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46240" y="168444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UNEP-GEF Projects fo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ational Biosafety Framework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975440" y="5654520"/>
          <a:ext cx="919440" cy="9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5440" y="5654520"/>
                    <a:ext cx="91944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04640" y="3733920"/>
            <a:ext cx="840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Århus Convention WG on GM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Geneva, March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98440" y="5783400"/>
          <a:ext cx="2886120" cy="84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440" y="5783400"/>
                    <a:ext cx="288612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68160" y="1241280"/>
            <a:ext cx="3962520" cy="2075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ountries in phase 1 of NBF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lbania</a:t>
            </a:r>
            <a:r>
              <a:rPr b="1" i="1" lang="et-EE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zerbaijan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Croatia, </a:t>
            </a:r>
            <a:r>
              <a:rPr b="1" i="1" lang="et-EE" sz="2000" spc="-1" strike="noStrike">
                <a:solidFill>
                  <a:srgbClr val="000066"/>
                </a:solidFill>
                <a:latin typeface="Arial"/>
              </a:rPr>
              <a:t>Kyrgyzstan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Malta</a:t>
            </a:r>
            <a:r>
              <a:rPr b="1" i="1" lang="et-EE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Romania</a:t>
            </a:r>
            <a:r>
              <a:rPr b="1" i="1" lang="et-E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Serbia and Montenegro (not started yet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640" y="3716280"/>
            <a:ext cx="3962520" cy="2990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ountries in Phase 3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NBF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rmenia, Belarus, Czech Republic, Georgia, Latvia,Lithuania, Moldova, Slovakia, </a:t>
            </a:r>
            <a:r>
              <a:rPr b="1" i="1" lang="et-EE" sz="2000" spc="-1" strike="noStrike">
                <a:solidFill>
                  <a:srgbClr val="000066"/>
                </a:solidFill>
                <a:latin typeface="Arial"/>
              </a:rPr>
              <a:t>Tajikista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Estonia </a:t>
            </a:r>
            <a:r>
              <a:rPr b="1" i="1" lang="et-EE" sz="2000" spc="-1" strike="noStrike">
                <a:solidFill>
                  <a:srgbClr val="000066"/>
                </a:solidFill>
                <a:latin typeface="Arial"/>
              </a:rPr>
              <a:t>and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Slovenia (finish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89680" y="1550880"/>
            <a:ext cx="3809880" cy="1618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ountries in Phase 2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NBF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2000" spc="-1" strike="noStrike">
                <a:solidFill>
                  <a:srgbClr val="000066"/>
                </a:solidFill>
                <a:latin typeface="Arial"/>
              </a:rPr>
              <a:t>Kazakhstan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Macedonia,</a:t>
            </a:r>
            <a:r>
              <a:rPr b="1" i="1" lang="et-E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Turkey, Ukraine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60880" y="3855960"/>
            <a:ext cx="3810240" cy="18309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ountries implement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heir NB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Bulgaria (UNEP-GEF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oland (UN</a:t>
            </a:r>
            <a:r>
              <a:rPr b="1" i="1" lang="et-EE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-GE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760" y="501480"/>
            <a:ext cx="69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atus of NBF in CEEC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8640" y="391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Country progress reports</a:t>
            </a:r>
            <a:br>
              <a:rPr sz="3600"/>
            </a:br>
            <a:br>
              <a:rPr sz="1400"/>
            </a:br>
            <a:br>
              <a:rPr sz="2800"/>
            </a:b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5240" y="2112840"/>
            <a:ext cx="791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ntry progress reports (available on website at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unep.ch/biosafe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, indicating the results of their gap analysis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Gaps in biosafety poli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Gaps in regulatory reg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Gaps in systems to handle reque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Gaps in monitoring and enforc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Gaps in public awareness BUT NOT IN PUBLIC PARTICIPATI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31920" y="140976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UNEP-GEF project started March 2004 to help countries use and access the Biosafety Clearing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ligibility is currently open for Parties to CP up until the time of the first COP/MOP. Not open to countries that have a current ‘Implementation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ligibility may be extended to Parties to CBD after COP/MOP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5840" y="393840"/>
            <a:ext cx="799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9360" indent="-171936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BCH Capacity Building Proj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120160" y="5808600"/>
          <a:ext cx="7747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47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1840" y="428760"/>
            <a:ext cx="85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UNEP Projects in Biosafe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186760" y="5848200"/>
          <a:ext cx="7729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86760" y="5848200"/>
                    <a:ext cx="7729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89040" y="1441440"/>
            <a:ext cx="2901960" cy="45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velopment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mplementation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33880" y="3100320"/>
            <a:ext cx="0" cy="1087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6200" y="3317760"/>
            <a:ext cx="1158840" cy="1344600"/>
          </a:xfrm>
          <a:prstGeom prst="downArrow">
            <a:avLst>
              <a:gd name="adj1" fmla="val 50000"/>
              <a:gd name="adj2" fmla="val 290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51240" y="1636560"/>
            <a:ext cx="3762360" cy="45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ROM initial countr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tatu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a draft NBF ready for approval proced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ROM draft 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pproved  NB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an “up and running” fra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78400" y="1587600"/>
            <a:ext cx="291960" cy="1962000"/>
          </a:xfrm>
          <a:custGeom>
            <a:avLst/>
            <a:gdLst>
              <a:gd name="textAreaLeft" fmla="*/ 186480 w 291960"/>
              <a:gd name="textAreaRight" fmla="*/ 292320 w 29196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02160" y="4359240"/>
            <a:ext cx="291960" cy="1962360"/>
          </a:xfrm>
          <a:custGeom>
            <a:avLst/>
            <a:gdLst>
              <a:gd name="textAreaLeft" fmla="*/ 186480 w 291960"/>
              <a:gd name="textAreaRight" fmla="*/ 292320 w 291960"/>
              <a:gd name="textAreaTop" fmla="*/ 51120 h 1962360"/>
              <a:gd name="textAreaBottom" fmla="*/ 1911240 h 196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UNEP Projects in Biosafety in CEECC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4480" y="1560600"/>
            <a:ext cx="798984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4 countries have participated in Pilot Phas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Bulgaria, Hungary, Poland, Russian Feder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t-EE" sz="2800" spc="-1" strike="noStrike">
                <a:solidFill>
                  <a:srgbClr val="ffffff"/>
                </a:solidFill>
                <a:latin typeface="Arial"/>
              </a:rPr>
              <a:t> countries (1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i="1" lang="et-EE" sz="2800" spc="-1" strike="noStrike">
                <a:solidFill>
                  <a:srgbClr val="ffffff"/>
                </a:solidFill>
                <a:latin typeface="Arial"/>
              </a:rPr>
              <a:t> CEE an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t-EE" sz="2800" spc="-1" strike="noStrike">
                <a:solidFill>
                  <a:srgbClr val="ffffff"/>
                </a:solidFill>
                <a:latin typeface="Arial"/>
              </a:rPr>
              <a:t> CCA countries have joined NBF development project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lbania, Armenia, Azerbaijan, Belarus, Croatia, Czech Republic, Estonia, Georgia,  Kazakhstan, Latvia, Lithuania, Macedonia, Malta, Moldova, Serbia and Montenegro, Kyrgyzstan, Romania, Slovakia, Slovenia, Tajikistan, Turkey, Ukrain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 countries have joined NBF implementation projec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Bulgaria, Polan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74680" y="317520"/>
            <a:ext cx="85773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untry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C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untry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 R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 R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 R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 R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lban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acedon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 -            -  +     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rmen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 - 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alt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 -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 +     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zerbaijan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oldov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 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      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Belarus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+           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oland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      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Bosnia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Herzegovin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-             - 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o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oman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      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Bulgar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ussian Federation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-        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roat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 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erbia and MN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?        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zech Republic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 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lovak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+ 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?        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ston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 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loven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 -     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eorg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-            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ajikistan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+     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Hungary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urkey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-       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Kazakhstan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urkmenistan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+     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Kyrgyzstan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Ukraine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     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atv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Uzbekistan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-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-     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ithuan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4960" y="422280"/>
            <a:ext cx="822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Status of ratification of countries in CEEC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1880" y="387360"/>
            <a:ext cx="80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National </a:t>
            </a:r>
            <a:r>
              <a:rPr b="1" lang="th-TH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Biosafety Framewor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4960" y="1289160"/>
            <a:ext cx="85917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Main compone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iosafety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gulatory reg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ystem to handle requests (administrative, risk assessment &amp; management, decision mak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4.  Follow up activities (enforcement, monitoring for environmental effect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5.  Public Awareness and Particip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120160" y="5808600"/>
          <a:ext cx="7747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47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907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UNEP-GEF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n 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Development 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ational Biosafety Framewor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120160" y="5808600"/>
          <a:ext cx="7747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47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280" y="2270160"/>
            <a:ext cx="8839440" cy="375156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Phase </a:t>
            </a:r>
            <a:r>
              <a:rPr b="0" lang="en-US" sz="60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0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 Starting up the Projec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 u="sng">
                <a:solidFill>
                  <a:srgbClr val="ff3300"/>
                </a:solidFill>
                <a:uFillTx/>
                <a:latin typeface="Arial"/>
                <a:hlinkClick r:id="rId3" action="ppaction://hlinksldjump"/>
              </a:rPr>
              <a:t>Phase</a:t>
            </a:r>
            <a:r>
              <a:rPr b="0" lang="en-US" sz="6000" spc="-1" strike="noStrike" u="sng">
                <a:solidFill>
                  <a:srgbClr val="ff3300"/>
                </a:solidFill>
                <a:uFillTx/>
                <a:latin typeface="Arial"/>
                <a:hlinkClick r:id="rId4" action="ppaction://hlinksldjump"/>
              </a:rPr>
              <a:t>1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 Gathering inform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000" spc="-1" strike="noStrike" u="sng">
                <a:solidFill>
                  <a:srgbClr val="ff3300"/>
                </a:solidFill>
                <a:uFillTx/>
                <a:latin typeface="Arial"/>
                <a:hlinkClick r:id="rId5" action="ppaction://hlinksldjump"/>
              </a:rPr>
              <a:t>Phase </a:t>
            </a:r>
            <a:r>
              <a:rPr b="0" lang="en-US" sz="6000" spc="-1" strike="noStrike" u="sng">
                <a:solidFill>
                  <a:srgbClr val="ff3300"/>
                </a:solidFill>
                <a:uFillTx/>
                <a:latin typeface="Arial"/>
                <a:hlinkClick r:id="rId6" action="ppaction://hlinksldjump"/>
              </a:rPr>
              <a:t>2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 Consultation and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000" spc="-1" strike="noStrike" u="sng">
                <a:solidFill>
                  <a:srgbClr val="ff3300"/>
                </a:solidFill>
                <a:uFillTx/>
                <a:latin typeface="Arial"/>
                <a:hlinkClick r:id="rId7" action="ppaction://hlinksldjump"/>
              </a:rPr>
              <a:t>Phase </a:t>
            </a:r>
            <a:r>
              <a:rPr b="0" lang="en-US" sz="6000" spc="-1" strike="noStrike" u="sng">
                <a:solidFill>
                  <a:srgbClr val="ff3300"/>
                </a:solidFill>
                <a:uFillTx/>
                <a:latin typeface="Arial"/>
                <a:hlinkClick r:id="rId8" action="ppaction://hlinksldjump"/>
              </a:rPr>
              <a:t>3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 Drafting the Framew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7440" y="303120"/>
            <a:ext cx="85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Developing a National Biosafety Frame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Tahoma"/>
                <a:ea typeface="Times New Roman"/>
              </a:rPr>
              <a:t>UNEP-GEF Project on Development of NBF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618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 2003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Two new toolkit modules* providing guidance to the projec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1676520"/>
            <a:ext cx="5181480" cy="3948480"/>
          </a:xfrm>
          <a:prstGeom prst="rect">
            <a:avLst/>
          </a:prstGeom>
          <a:noFill/>
          <a:ln cap="sq"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hase 0:  Starting The Pro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*Phase 1: Taking stoc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*Phase 2: Consultation and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analysi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special reference to Arhus Conven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sions available in English French, Spanish and Russia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0040" y="5624640"/>
            <a:ext cx="15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f. Section A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89080" y="1924200"/>
            <a:ext cx="8534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irst Series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Slovakia, February 2002. Focus on Biosafety Clearing House and awareness rais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cond Series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– Lithuania, May 2003. Focus on Risk Assessment and management, Public Awareness and Particip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ird Series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– Turkey, December 2003. Focus on Regulatory Regime and Administrative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5840" y="393840"/>
            <a:ext cx="799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9360" indent="-171936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Sub-regional worksho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120160" y="5808600"/>
          <a:ext cx="7747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47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6:33:33Z</dcterms:created>
  <dc:creator>unon</dc:creator>
  <dc:description/>
  <dc:language>en-US</dc:language>
  <cp:lastModifiedBy>Stancic</cp:lastModifiedBy>
  <cp:lastPrinted>2002-03-20T11:55:35Z</cp:lastPrinted>
  <dcterms:modified xsi:type="dcterms:W3CDTF">2004-03-26T07:29:09Z</dcterms:modified>
  <cp:revision>358</cp:revision>
  <dc:subject/>
  <dc:title>Implamentation Plan</dc:title>
</cp:coreProperties>
</file>