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993600" y="731520"/>
            <a:ext cx="4872240" cy="36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040" y="463248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2631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2600" y="92631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EE1F53E-B0F4-41B4-916B-9E7EF19E6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040" y="463248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untry progress report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available in www.unep.ch/biosafety)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indicating the results of their gap analysis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Times New Roman"/>
              </a:rPr>
              <a:t>Gaps in biosafety poli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Times New Roman"/>
              </a:rPr>
              <a:t>Gaps in regulatory regi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Times New Roman"/>
              </a:rPr>
              <a:t>Gaps in systems to handle reque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Times New Roman"/>
              </a:rPr>
              <a:t>Gaps in monitoring and enforc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Times New Roman"/>
              </a:rPr>
              <a:t>Gaps in public awareness BUT NOT IN PUBLIC PARTICIPATI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17F-4858-4C86-9C26-3122718E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08C-999D-4440-A883-0F712020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E41-1262-486A-B6AE-D2ED2524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DCA-6AFB-4D91-AA29-EF152087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506-75AF-49F0-9930-CA4DBC88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A8B-DCF0-44FB-9018-4A18FC50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5AD-0E77-495B-9446-26A7D266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E79-944B-4A2D-B7E2-5C85F53B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F2B-9B0A-45E5-A873-FA2B7D4C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1E5-73A8-4D0F-B651-B4EBCCE1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87E-8339-4CEE-BA45-825A1A40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145-0714-44B2-A341-A913745E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256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4A63-7A94-4ACB-8402-783ADE28AB3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6240" y="168444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UNEP-GEF Projects fo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ational Biosafety Framework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975440" y="5654520"/>
          <a:ext cx="91944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5440" y="5654520"/>
                    <a:ext cx="9194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04640" y="3733920"/>
            <a:ext cx="84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Århus Convention WG on G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Geneva, March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8440" y="5783400"/>
          <a:ext cx="2886120" cy="84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440" y="5783400"/>
                    <a:ext cx="288612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8160" y="1241280"/>
            <a:ext cx="3962520" cy="2075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untries in phase 1 of NBF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lbania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zerbaijan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Croatia, 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Kyrgyzstan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Malta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omania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erbia and Montenegro (not started yet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640" y="3716280"/>
            <a:ext cx="3962520" cy="2990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untries in Phase 3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BF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rmenia, Belarus, Czech Republic, Georgia, Latvia,Lithuania, Moldova, Slovakia, 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Tajikista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Estonia 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lovenia (finish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89680" y="1550880"/>
            <a:ext cx="3809880" cy="1618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untries in Phase 2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BF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Kazakhstan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Macedonia,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urkey, Ukraine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60880" y="3855960"/>
            <a:ext cx="3810240" cy="18309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untries implement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ir NB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Bulgaria (UNEP-GEF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oland (UN</a:t>
            </a:r>
            <a:r>
              <a:rPr b="1" i="1" lang="et-EE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-GE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760" y="501480"/>
            <a:ext cx="69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atus of NBF in CEEC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8640" y="39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Country progress reports</a:t>
            </a:r>
            <a:br>
              <a:rPr sz="3600"/>
            </a:br>
            <a:br>
              <a:rPr sz="1400"/>
            </a:br>
            <a:br>
              <a:rPr sz="28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5240" y="2112840"/>
            <a:ext cx="791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ntry progress reports (available on website at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unep.ch/biosafe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, indicating the results of their gap analysis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Gaps in biosafe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Gaps in regulatory reg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Gaps in systems to handle reque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Gaps in monitoring and enforc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Gaps in public awareness BUT NOT IN PUBLIC PARTICIPATI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31920" y="140976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UNEP-GEF project started March 2004 to help countries use and access the Biosafety Clearing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igibility is currently open for Parties to CP up until the time of the first COP/MOP. Not open to countries that have a current ‘Implementation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igibility may be extended to Parties to CBD after COP/MOP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5840" y="393840"/>
            <a:ext cx="799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9360" indent="-171936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BCH Capacity Building Proj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120160" y="5808600"/>
          <a:ext cx="7747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47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1840" y="428760"/>
            <a:ext cx="85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UNEP Projects in Biosafe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86760" y="5848200"/>
          <a:ext cx="7729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86760" y="5848200"/>
                    <a:ext cx="772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89040" y="1441440"/>
            <a:ext cx="2901960" cy="45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velopment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mplementation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3880" y="3100320"/>
            <a:ext cx="0" cy="1087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6200" y="3317760"/>
            <a:ext cx="1158840" cy="1344600"/>
          </a:xfrm>
          <a:prstGeom prst="downArrow">
            <a:avLst>
              <a:gd name="adj1" fmla="val 50000"/>
              <a:gd name="adj2" fmla="val 290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51240" y="1636560"/>
            <a:ext cx="3762360" cy="45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ROM initial count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tatu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a draft NBF ready for approval proce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ROM draft 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pproved  NB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an “up and running”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78400" y="1587600"/>
            <a:ext cx="291960" cy="1962000"/>
          </a:xfrm>
          <a:custGeom>
            <a:avLst/>
            <a:gdLst>
              <a:gd name="textAreaLeft" fmla="*/ 186480 w 291960"/>
              <a:gd name="textAreaRight" fmla="*/ 292320 w 29196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02160" y="4359240"/>
            <a:ext cx="291960" cy="1962360"/>
          </a:xfrm>
          <a:custGeom>
            <a:avLst/>
            <a:gdLst>
              <a:gd name="textAreaLeft" fmla="*/ 186480 w 291960"/>
              <a:gd name="textAreaRight" fmla="*/ 292320 w 291960"/>
              <a:gd name="textAreaTop" fmla="*/ 51120 h 1962360"/>
              <a:gd name="textAreaBottom" fmla="*/ 1911240 h 196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UNEP Projects in Biosafety in CEECC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4480" y="1560600"/>
            <a:ext cx="798984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 countries have participated in Pilot Phas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Bulgaria, Hungary, Poland, Russian Feder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t-EE" sz="2800" spc="-1" strike="noStrike">
                <a:solidFill>
                  <a:srgbClr val="ffffff"/>
                </a:solidFill>
                <a:latin typeface="Arial"/>
              </a:rPr>
              <a:t> countries (1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i="1" lang="et-EE" sz="2800" spc="-1" strike="noStrike">
                <a:solidFill>
                  <a:srgbClr val="ffffff"/>
                </a:solidFill>
                <a:latin typeface="Arial"/>
              </a:rPr>
              <a:t> CEE an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t-EE" sz="2800" spc="-1" strike="noStrike">
                <a:solidFill>
                  <a:srgbClr val="ffffff"/>
                </a:solidFill>
                <a:latin typeface="Arial"/>
              </a:rPr>
              <a:t> CCA countries have joined NBF development project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bania, Armenia, Azerbaijan, Belarus, Croatia, Czech Republic, Estonia, Georgia,  Kazakhstan, Latvia, Lithuania, Macedonia, Malta, Moldova, Serbia and Montenegro, Kyrgyzstan, Romania, Slovakia, Slovenia, Tajikistan, Turkey, Ukra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 countries have joined NBF implementation projec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Bulgaria, Polan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74680" y="317520"/>
            <a:ext cx="8577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untry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C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untry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 R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 R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 R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 R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lba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cedo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 -            -  +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rme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lt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-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 +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zerbaij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oldov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 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elaru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oland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     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osnia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Herzegovin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-             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oma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 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ulgar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ussian Federatio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-        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roat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erbia and M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?   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zech Republic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lovak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+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?   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sto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love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 -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eorg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            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ajikist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Hungary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urkey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-  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Kazakhst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urkmenist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     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Kyrgyzst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Ukrain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     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tv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Uzbekist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 -     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ithuani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P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4960" y="422280"/>
            <a:ext cx="822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Status of ratification of countries in CEEC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1880" y="387360"/>
            <a:ext cx="80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National </a:t>
            </a:r>
            <a:r>
              <a:rPr b="1" lang="th-TH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Biosafety Framewor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4960" y="1289160"/>
            <a:ext cx="85917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Main compon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iosafety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gulatory reg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ystem to handle requests (administrative, risk assessment &amp; management, decision mak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4.  Follow up activities (enforcement, monitoring for environmental effect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5.  Public Awareness and Partici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120160" y="5808600"/>
          <a:ext cx="7747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47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907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UNEP-GEF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n 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Development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ational Biosafety Framewor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120160" y="5808600"/>
          <a:ext cx="7747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47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2270160"/>
            <a:ext cx="8839440" cy="375156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Phase 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0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Starting up the Proje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Phase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1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Gathering infor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Phase 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Arial"/>
                <a:hlinkClick r:id="rId6" action="ppaction://hlinksldjump"/>
              </a:rPr>
              <a:t>2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Consultation and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Arial"/>
                <a:hlinkClick r:id="rId7" action="ppaction://hlinksldjump"/>
              </a:rPr>
              <a:t>Phase 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Arial"/>
                <a:hlinkClick r:id="rId8" action="ppaction://hlinksldjump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Drafting the Frame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7440" y="303120"/>
            <a:ext cx="85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Developing a National Biosafety Fra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Tahoma"/>
                <a:ea typeface="Times New Roman"/>
              </a:rPr>
              <a:t>UNEP-GEF Project on Development of NBF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18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2003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Two new toolkit modules* providing guidance to the proje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676520"/>
            <a:ext cx="5181480" cy="3948480"/>
          </a:xfrm>
          <a:prstGeom prst="rect">
            <a:avLst/>
          </a:pr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hase 0:  Starting The Pro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*Phase 1: Taking stoc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*Phase 2: Consultation and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analysi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special reference to Arhus Conven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sions available in English French, Spanish and Russia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0040" y="562464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f. Section A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9080" y="1924200"/>
            <a:ext cx="853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irst Serie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Slovakia, February 2002. Focus on Biosafety Clearing House and awareness rais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cond Serie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 Lithuania, May 2003. Focus on Risk Assessment and management, Public Awareness and Partic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ird Serie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– Turkey, December 2003. Focus on Regulatory Regime and Administrative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5840" y="393840"/>
            <a:ext cx="799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9360" indent="-171936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Sub-regional worksho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120160" y="5808600"/>
          <a:ext cx="7747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0160" y="5808600"/>
                    <a:ext cx="7747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6:33:33Z</dcterms:created>
  <dc:creator>unon</dc:creator>
  <dc:description/>
  <dc:language>en-US</dc:language>
  <cp:lastModifiedBy>Stancic</cp:lastModifiedBy>
  <cp:lastPrinted>2002-03-20T11:55:35Z</cp:lastPrinted>
  <dcterms:modified xsi:type="dcterms:W3CDTF">2004-03-26T07:29:09Z</dcterms:modified>
  <cp:revision>358</cp:revision>
  <dc:subject/>
  <dc:title>Implamentation Plan</dc:title>
</cp:coreProperties>
</file>