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280" y="880920"/>
            <a:ext cx="88394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EP-GEF DEMONSTRATION PROJECTS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BIOSAFETY FRAMEWORK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hus GMO Working Group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 March 2004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600" y="5334120"/>
            <a:ext cx="12780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7746840" y="5410080"/>
          <a:ext cx="1146240" cy="12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6840" y="5410080"/>
                    <a:ext cx="114624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0600" y="1041480"/>
            <a:ext cx="90234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Handling requests -  examples of support provided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raining workshops and the guide address: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Administrative processing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 application formats, guidance for applicants, internal manuals for processing, checklists, databases etc.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Risk assessment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 systematic approach of risk assessment based on the Biosafety Protocol,  ‘real life’ dossiers, internal manuals for risk assessment procedures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 formats for decision documents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0600" y="1041480"/>
            <a:ext cx="9023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Enforcement -  examples of  support provided: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raining workshops and the guide address:</a:t>
            </a:r>
            <a:br>
              <a:rPr sz="2600"/>
            </a:b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Foundation for enforcement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 legal basis,  training of personnel 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Preparations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spection plans – prioritisation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Inspections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nal manuals for inspections, checklists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0600" y="1197000"/>
            <a:ext cx="8871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Monitoring  - examples of  support provided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mpilation of different approaches for monitoring 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nvironmental effects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ummary of the compilation will be included in the guide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0600" y="1197000"/>
            <a:ext cx="88711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ublic information,  awareness and participation –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examples of  support provided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mpilation of examples of public information and public participation 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ddress public participation in the training workshops on handling requests for permits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808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ndling requests for permi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3043800" y="13716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pplicant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521720" y="2454120"/>
            <a:ext cx="39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petent Authority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4496400" y="3538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isk assessment body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1522440" y="462132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petent Authority – (draft) decision 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3043800" y="570564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pplicant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191120" y="195732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948040"/>
            <a:ext cx="16765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05320" y="4091040"/>
            <a:ext cx="22860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157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blic participation in handling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quests for permi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23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ortant aspects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59360" y="2224080"/>
            <a:ext cx="57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t which point in the procedure? 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56480" y="3625920"/>
            <a:ext cx="60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What form of public participation?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455400" y="5027760"/>
            <a:ext cx="40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fidentiality of dat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55040" y="2925720"/>
            <a:ext cx="60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How is information made available?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560" y="572940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What is done with the input?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454680" y="432756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Who is involved?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01120" y="563400"/>
            <a:ext cx="47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raining handling reques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1133280" y="2725560"/>
            <a:ext cx="51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. Administrative processing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1134360" y="492768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. Decision making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1136160" y="382572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2. Risk assessmen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1136880" y="172728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 steps: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3352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ndling request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ision documents: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782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* Summary of the request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711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* Summary of the risk assessmen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156960" y="3689280"/>
            <a:ext cx="62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* Summary of the procedure – reaction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 on received comments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153720" y="51069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* Decis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808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ww.unep.ch/biosafety/implementation.htm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634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icle 2 of the Biosafety Protocol: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25520" y="1415880"/>
            <a:ext cx="88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357120" y="1752480"/>
            <a:ext cx="8396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“………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ach Party shall take necessary and appropriate legal, administrative and other measures to implement its obligations under this Protocol…….”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763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National Biosafety Framework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(NBF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501480" y="27399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R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gulatory regime for biosafety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503640" y="3425760"/>
            <a:ext cx="82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System to handle notifications/requests for permi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506520" y="4111560"/>
            <a:ext cx="86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Systems for ‘follow up’: enforcement and monitoring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for environmental effec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504720" y="5226120"/>
            <a:ext cx="64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5. Systems for public information, public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  awareness and public participa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501480" y="2054160"/>
            <a:ext cx="88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overnment p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licy on biosafet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20600" y="914400"/>
            <a:ext cx="88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NBFs vary from country to country, but usually have a number of common components: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9600" y="1606680"/>
            <a:ext cx="8556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9240" indent="-2289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28924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Particip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Currently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8 demonstration project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Bulgaria, Cameroon, China, Cuba, Kenya, Namibia, Poland, Ugand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2289240" indent="-2289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28924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Star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: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Late 2002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2289240" indent="-2289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28924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Dur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: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verage 3 years per countr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2289240" indent="-2289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28924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Budge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From 500,000 – 1,000,000 US$ per countr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2482920"/>
            <a:ext cx="8240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Target: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in components of the NBFs “up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running”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923760" y="227160"/>
            <a:ext cx="73821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NBF Implementation Projec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39720" y="1066680"/>
            <a:ext cx="743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oject execution: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854360"/>
            <a:ext cx="819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January 2003 – July 200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- ‘laying foundation’: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picture of existing situa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review of draft legisla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start up workshops 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fine tuned work plan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summary on UNEP-GEF web sit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September 2003 – 2005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 execution of the work pla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600" y="1197000"/>
            <a:ext cx="8871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olicies on biosafety - examples of  support provide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mpilation of examples of policy documents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D-ROM / UNEP-GEF Biosafety web site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hapter 1 of a guidance document on implementation of NBFs will provide a summary of the compilation: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Policy documents take very different forms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Biosafety policy is usually part of broader policies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Broad-based stakeholder input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0600" y="1197000"/>
            <a:ext cx="90234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Regulatory regimes -  examples of  support provided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xpert panels to review (draft) legislation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rafting implementing regulations / guidelines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im measures 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raining workshops and the guide address: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Different levels of regulation (Acts, regulations, etc)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Different types of provisions (general provisions, operational provisions, final clauses)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  <a:p>
            <a:pPr lvl="1" marL="1104840" indent="-53316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imes New Roman"/>
              </a:rPr>
              <a:t>Examples of provisions </a:t>
            </a:r>
            <a:endParaRPr b="0" lang="en-US" sz="2600" spc="-1" strike="noStrike">
              <a:solidFill>
                <a:srgbClr val="ffffff"/>
              </a:solidFill>
              <a:latin typeface="Angsana New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120160" y="58086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52280" y="12852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P-GEF Projects on Implementation of NBF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7:40:49Z</dcterms:created>
  <dc:creator>Ministerie van VROM</dc:creator>
  <dc:description/>
  <dc:language>en-US</dc:language>
  <cp:lastModifiedBy>Stancic</cp:lastModifiedBy>
  <cp:lastPrinted>1999-08-23T09:08:34Z</cp:lastPrinted>
  <dcterms:modified xsi:type="dcterms:W3CDTF">2004-03-26T07:29:45Z</dcterms:modified>
  <cp:revision>20940</cp:revision>
  <dc:subject/>
  <dc:title>Geen diatitel</dc:title>
</cp:coreProperties>
</file>