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13400"/>
            <a:ext cx="822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1340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1340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13400"/>
            <a:ext cx="264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13400"/>
            <a:ext cx="264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13400"/>
            <a:ext cx="264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3333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1340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1340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13400"/>
            <a:ext cx="82296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www.unece.org/" TargetMode="External"/><Relationship Id="rId6" Type="http://schemas.openxmlformats.org/officeDocument/2006/relationships/image" Target="../media/image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68360" y="5949720"/>
            <a:ext cx="82072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66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692360" y="1096920"/>
            <a:ext cx="5715000" cy="28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692360" y="6424560"/>
            <a:ext cx="5715000" cy="288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714680" y="1957320"/>
            <a:ext cx="5715000" cy="294336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7" name="ecelogo" descr="United Nations Economic Commsission for Europe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696080" y="136440"/>
              <a:ext cx="1447920" cy="609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"/>
          <p:cNvSpPr/>
          <p:nvPr/>
        </p:nvSpPr>
        <p:spPr>
          <a:xfrm>
            <a:off x="7848000" y="640080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6B4B-D0F3-445F-97A5-8F9B35BD8932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447920"/>
            <a:ext cx="7989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66"/>
                </a:solidFill>
                <a:latin typeface="Verdana"/>
              </a:rPr>
              <a:t>ENVIRONMENT FOR EUROPE:</a:t>
            </a:r>
            <a:br>
              <a:rPr sz="4000"/>
            </a:br>
            <a:r>
              <a:rPr b="0" i="1" lang="en-GB" sz="4000" spc="-1" strike="noStrike">
                <a:solidFill>
                  <a:srgbClr val="ffff66"/>
                </a:solidFill>
                <a:latin typeface="Verdana"/>
              </a:rPr>
              <a:t>Pan-European Ministerial Process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 Pat Silveir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retary of the Environment for Europe pro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 Economic Commission for Europ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50" name="ecelogo" descr="United Nations Economic Comms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96080" y="13680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1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66"/>
                </a:solidFill>
                <a:latin typeface="Tahoma"/>
              </a:rPr>
              <a:t>PREPARATORY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n-ended EfE Preparatory Group is responsible, inter alia, for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ciding the agenda for the next (Belgrade) Ministerial Conferen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cepting proposals for who will take the lead in preparing an item and monitoring the readiness of the item for the Conferen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66"/>
                </a:solidFill>
                <a:latin typeface="Arial"/>
              </a:rPr>
              <a:t>PREPARATORY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Negotiating the draft Ministerial Declara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Undertaking all other substantive prepar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orking closely with the Host Country in its local prepar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EfE AND </a:t>
            </a:r>
            <a:br>
              <a:rPr sz="4000"/>
            </a:b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LEGAL INSTR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isterial Conferences have three functions re regional environmental legal instruments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LEGAL INSTR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ntroduce or support new areas in which negotiations should begin or are underway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(e.g., work on Protocols to “Air Convention” for sulphur dioxide and nitrogen oxide emissions and on VOC emissions supported at Dobris Conference; completion of negotiations on European Energy Charter supported at Lucerne; Aarhus Convention supported at Sofia Conference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LEGAL INSTRUMENTS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Include on the Conference Agenda adoption and signing by the Parties of a new legal instrum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e.g., Aarhus Convention in Aarhus;  Carpathian Convention and three new ECE Protocols (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  <a:ea typeface="Arial Unicode MS"/>
              </a:rPr>
              <a:t>Strategic Environmental Assessment, Civil Liability and Damage Caused by the Transboundary Effects of Industrial Accidents on Transboundary Waters and Pollutant Release and Transfer Registers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Kiev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LEGAL INSTR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Encourage member States to sign and ratify legal instrumen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ither the Ministerial Conference nor its Preparatory Group themselves negotiate new instruments.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y may welcome and encourage such negotiations initiated by other fora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PREPARING FOR BEL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w issues for Belgrade should be brought to the Open-ended EfE Preparatory Group, Oc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paratory Group could decide that issue may proceed to Belgrade if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l members of the Group ag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State or organization volunteers to take the l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State/s or organization/s provides financing for the preparatory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cus should be inclusive of all UNECE member Stat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fE process is geared to harmonization across all 55 States and cooperation among them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ample:  EECCA Environment Strategy, adopted in Kiev, was conceived as a partnership – it is not limited to EECCA countri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EECCA STRATEGY &amp; G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ference in Section 4.4:  Agricul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stated as follows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rol application of growth promoters, antibiotics; apply cautious approaches for decision-making on use of genetically modified organisms (GMOs), based on the precautionary principle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66680"/>
            <a:ext cx="8066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ry Pat Silveir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ecretary, Ef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ry.pat.silveira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@unece.or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106" name="ecelogo" descr="United Nations Economic Comms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96080" y="13680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7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06616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66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uc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paratory proces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fE and legal instru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56" name="ecelogo" descr="United Nations Economic Comms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96080" y="13680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06616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he process was initiated by Mr. Josef Vavrousek, Environment Minister of what was then Czechoslovakia;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he first Ministerial Conference took place near Prague, at Dobris Castle, on 21-23 June 1991.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62" name="ecelogo" descr="United Nations Economic Comms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96080" y="13680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3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337760"/>
            <a:ext cx="7086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TAL OF FIVE CONFERENCES HAVE BEEN ORGANIZED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in Lucerne (1993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in Sofia (1995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Fourth in Aarhus (1998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Fifth in Kiev (2003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ixth Conference will take place in Belgrade, in 2007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EfE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rmonize environmental quality and policies across all 55 UNECE member Stat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 environmental cooperation to work toward peace and stability and sustainable development in the reg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pport partnerships, with a special focus on EECCA countries (Aarhu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TH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0773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EfE process is a unique partnership of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ember States within the UNECE reg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organizations of the UN system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other intergovernmental organiz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regional environment centr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n-governmental organizations and other major group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0102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66"/>
                </a:solidFill>
                <a:latin typeface="Tahoma"/>
              </a:rPr>
              <a:t>THE STRUCTURE </a:t>
            </a:r>
            <a:br>
              <a:rPr sz="4400"/>
            </a:br>
            <a:br>
              <a:rPr sz="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The United Nations Economic Commission for Europe, which has been closely associated with the “Environment for Europe” process since the beginning, serves as secretariat to the proces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74" name="ecelogo" descr="United Nations Economic Comms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96080" y="13680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5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315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ahoma"/>
              </a:rPr>
              <a:t>TH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00200" y="12193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Active partners include,e.g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European Commi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OEC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The Council of Europe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The EE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UNEP, UNDP and WHO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World Bank and EB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Eco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Arial Unicode MS"/>
              </a:rPr>
              <a:t> 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0"/>
            <a:ext cx="9144000" cy="746280"/>
            <a:chOff x="0" y="0"/>
            <a:chExt cx="9144000" cy="746280"/>
          </a:xfrm>
        </p:grpSpPr>
        <p:pic>
          <p:nvPicPr>
            <p:cNvPr id="80" name="ecelogo" descr="United Nations Economic Comms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96080" y="13680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1" name=""/>
            <p:cNvGraphicFramePr/>
            <p:nvPr/>
          </p:nvGraphicFramePr>
          <p:xfrm>
            <a:off x="0" y="0"/>
            <a:ext cx="914400" cy="74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086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66"/>
                </a:solidFill>
                <a:latin typeface="Tahoma"/>
              </a:rPr>
              <a:t>PREPARATORY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924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pen-ended EfE Preparatory Group is established for 2 year preparation of Conference:  next meeting is Oc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ll member States and partners participate in Preparatory Group and both take initiatives and assume responsibility for bringing items to the Conference agend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3:42:27Z</dcterms:created>
  <dc:creator/>
  <dc:description/>
  <dc:language>en-US</dc:language>
  <cp:lastModifiedBy>Stancic</cp:lastModifiedBy>
  <dcterms:modified xsi:type="dcterms:W3CDTF">2004-03-29T07:13:11Z</dcterms:modified>
  <cp:revision>186</cp:revision>
  <dc:subject/>
  <dc:title>Slide 1</dc:title>
</cp:coreProperties>
</file>