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268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713400"/>
            <a:ext cx="82296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268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713400"/>
            <a:ext cx="40158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713400"/>
            <a:ext cx="40158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360" y="268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26496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267920"/>
            <a:ext cx="26496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267920"/>
            <a:ext cx="26496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713400"/>
            <a:ext cx="26496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713400"/>
            <a:ext cx="26496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713400"/>
            <a:ext cx="26496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68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26792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68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68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268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68360" y="33336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268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13400"/>
            <a:ext cx="40158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268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713400"/>
            <a:ext cx="40158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268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13400"/>
            <a:ext cx="82296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hyperlink" Target="http://www.unece.org/" TargetMode="External"/><Relationship Id="rId6" Type="http://schemas.openxmlformats.org/officeDocument/2006/relationships/image" Target="../media/image3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26792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468360" y="5949720"/>
            <a:ext cx="820728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66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1692360" y="1096920"/>
            <a:ext cx="5715000" cy="284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1692360" y="6424560"/>
            <a:ext cx="5715000" cy="2880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714680" y="1957320"/>
            <a:ext cx="5715000" cy="294336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0" y="0"/>
            <a:ext cx="9144000" cy="746280"/>
            <a:chOff x="0" y="0"/>
            <a:chExt cx="9144000" cy="746280"/>
          </a:xfrm>
        </p:grpSpPr>
        <p:pic>
          <p:nvPicPr>
            <p:cNvPr id="7" name="ecelogo" descr="United Nations Economic Commsission for Europe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7696080" y="136440"/>
              <a:ext cx="1447920" cy="609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8" name=""/>
            <p:cNvGraphicFramePr/>
            <p:nvPr/>
          </p:nvGraphicFramePr>
          <p:xfrm>
            <a:off x="0" y="0"/>
            <a:ext cx="914400" cy="746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0" y="0"/>
                      <a:ext cx="914400" cy="74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" name=""/>
          <p:cNvSpPr/>
          <p:nvPr/>
        </p:nvSpPr>
        <p:spPr>
          <a:xfrm>
            <a:off x="7848000" y="6400800"/>
            <a:ext cx="1093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10A9-107E-4890-84DE-5ECAFF18E6C0}" type="slidenum">
              <a:rPr b="1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unece.org/" TargetMode="External"/><Relationship Id="rId2" Type="http://schemas.openxmlformats.org/officeDocument/2006/relationships/image" Target="../media/image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unece.org/" TargetMode="External"/><Relationship Id="rId2" Type="http://schemas.openxmlformats.org/officeDocument/2006/relationships/image" Target="../media/image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unece.org/" TargetMode="External"/><Relationship Id="rId2" Type="http://schemas.openxmlformats.org/officeDocument/2006/relationships/image" Target="../media/image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unece.org/" TargetMode="External"/><Relationship Id="rId2" Type="http://schemas.openxmlformats.org/officeDocument/2006/relationships/image" Target="../media/image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unece.org/" TargetMode="External"/><Relationship Id="rId2" Type="http://schemas.openxmlformats.org/officeDocument/2006/relationships/image" Target="../media/image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unece.org/" TargetMode="External"/><Relationship Id="rId2" Type="http://schemas.openxmlformats.org/officeDocument/2006/relationships/image" Target="../media/image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447920"/>
            <a:ext cx="79898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66"/>
                </a:solidFill>
                <a:latin typeface="Verdana"/>
              </a:rPr>
              <a:t>ENVIRONMENT FOR EUROPE:</a:t>
            </a:r>
            <a:br>
              <a:rPr sz="4000"/>
            </a:br>
            <a:r>
              <a:rPr b="0" i="1" lang="en-GB" sz="4000" spc="-1" strike="noStrike">
                <a:solidFill>
                  <a:srgbClr val="ffff66"/>
                </a:solidFill>
                <a:latin typeface="Verdana"/>
              </a:rPr>
              <a:t>Pan-European Ministerial Process</a:t>
            </a: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41911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y Pat Silveira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retary of the Environment for Europe proces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 Economic Commission for Europ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0"/>
            <a:ext cx="9144000" cy="746280"/>
            <a:chOff x="0" y="0"/>
            <a:chExt cx="9144000" cy="746280"/>
          </a:xfrm>
        </p:grpSpPr>
        <p:pic>
          <p:nvPicPr>
            <p:cNvPr id="50" name="ecelogo" descr="United Nations Economic Commsission for Europe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696080" y="136800"/>
              <a:ext cx="1447920" cy="6094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1" name=""/>
            <p:cNvGraphicFramePr/>
            <p:nvPr/>
          </p:nvGraphicFramePr>
          <p:xfrm>
            <a:off x="0" y="0"/>
            <a:ext cx="914400" cy="746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0"/>
                      <a:ext cx="914400" cy="74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66"/>
                </a:solidFill>
                <a:latin typeface="Tahoma"/>
              </a:rPr>
              <a:t>PREPARATORY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pen-ended EfE Preparatory Group is responsible, inter alia, for: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eciding the agenda for the next (Belgrade) Ministerial Conferenc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cepting proposals for who will take the lead in preparing an item and monitoring the readiness of the item for the Conferenc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6858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66"/>
                </a:solidFill>
                <a:latin typeface="Arial"/>
              </a:rPr>
              <a:t>PREPARATORY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Negotiating the draft Ministerial Declarat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Undertaking all other substantive preparation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Working closely with the Host Country in its local preparation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66"/>
                </a:solidFill>
                <a:latin typeface="Tahoma"/>
              </a:rPr>
              <a:t>EfE AND </a:t>
            </a:r>
            <a:br>
              <a:rPr sz="4000"/>
            </a:br>
            <a:r>
              <a:rPr b="1" i="1" lang="en-US" sz="4000" spc="-1" strike="noStrike">
                <a:solidFill>
                  <a:srgbClr val="ffff66"/>
                </a:solidFill>
                <a:latin typeface="Tahoma"/>
              </a:rPr>
              <a:t>LEGAL INSTRU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6201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Ministerial Conferences have three functions re regional environmental legal instruments: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66"/>
                </a:solidFill>
                <a:latin typeface="Tahoma"/>
              </a:rPr>
              <a:t>LEGAL INSTRU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Introduce or support new areas in which negotiations should begin or are underway: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(e.g., work on Protocols to “Air Convention” for sulphur dioxide and nitrogen oxide emissions and on VOC emissions supported at Dobris Conference; completion of negotiations on European Energy Charter supported at Lucerne; Aarhus Convention supported at Sofia Conference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66"/>
                </a:solidFill>
                <a:latin typeface="Tahoma"/>
              </a:rPr>
              <a:t>LEGAL INSTRUMENTS</a:t>
            </a:r>
            <a:r>
              <a:rPr b="1" i="1" lang="en-US" sz="4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7696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. Include on the Conference Agenda adoption and signing by the Parties of a new legal instrumen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(e.g., Aarhus Convention in Aarhus;  Carpathian Convention and three new ECE Protocols (</a:t>
            </a:r>
            <a:r>
              <a:rPr b="1" lang="en-GB" sz="2000" spc="-1" strike="noStrike">
                <a:solidFill>
                  <a:srgbClr val="ffffff"/>
                </a:solidFill>
                <a:latin typeface="Verdana"/>
                <a:ea typeface="Arial Unicode MS"/>
              </a:rPr>
              <a:t>Strategic Environmental Assessment, Civil Liability and Damage Caused by the Transboundary Effects of Industrial Accidents on Transboundary Waters and Pollutant Release and Transfer Registers)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 Kiev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66"/>
                </a:solidFill>
                <a:latin typeface="Tahoma"/>
              </a:rPr>
              <a:t>LEGAL INSTRU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3. Encourage member States to sign and ratify legal instrument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either the Ministerial Conference nor its Preparatory Group themselves negotiate new instruments. 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y may welcome and encourage such negotiations initiated by other fora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Tahoma"/>
              </a:rPr>
              <a:t>PREPARING FOR BELG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ew issues for Belgrade should be brought to the Open-ended EfE Preparatory Group, Oc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eparatory Group could decide that issue may proceed to Belgrade if: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ll members of the Group agr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 State or organization volunteers to take the le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 State/s or organization/s provides financing for the preparatory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Tahoma"/>
              </a:rPr>
              <a:t>TARGET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cus should be inclusive of all UNECE member Stat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fE process is geared to harmonization across all 55 States and cooperation among them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xample:  EECCA Environment Strategy, adopted in Kiev, was conceived as a partnership – it is not limited to EECCA countri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Tahoma"/>
              </a:rPr>
              <a:t>EECCA STRATEGY &amp; G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ference in Section 4.4:  Agricultur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on stated as follows: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ntrol application of growth promoters, antibiotics; apply cautious approaches for decision-making on use of genetically modified organisms (GMOs), based on the precautionary principle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066680"/>
            <a:ext cx="8066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hank you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ary Pat Silveira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Secretary, Ef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ary.pat.silveira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@unece.org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0" y="0"/>
            <a:ext cx="9144000" cy="746280"/>
            <a:chOff x="0" y="0"/>
            <a:chExt cx="9144000" cy="746280"/>
          </a:xfrm>
        </p:grpSpPr>
        <p:pic>
          <p:nvPicPr>
            <p:cNvPr id="106" name="ecelogo" descr="United Nations Economic Commsission for Europe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696080" y="136800"/>
              <a:ext cx="1447920" cy="6094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07" name=""/>
            <p:cNvGraphicFramePr/>
            <p:nvPr/>
          </p:nvGraphicFramePr>
          <p:xfrm>
            <a:off x="0" y="0"/>
            <a:ext cx="914400" cy="746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0"/>
                      <a:ext cx="914400" cy="74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06616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ff66"/>
                </a:solidFill>
                <a:latin typeface="Tahoma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istory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tructur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eparatory proces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fE and legal instrumen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0" y="0"/>
            <a:ext cx="9144000" cy="746280"/>
            <a:chOff x="0" y="0"/>
            <a:chExt cx="9144000" cy="746280"/>
          </a:xfrm>
        </p:grpSpPr>
        <p:pic>
          <p:nvPicPr>
            <p:cNvPr id="56" name="ecelogo" descr="United Nations Economic Commsission for Europe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696080" y="136800"/>
              <a:ext cx="1447920" cy="6094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7" name=""/>
            <p:cNvGraphicFramePr/>
            <p:nvPr/>
          </p:nvGraphicFramePr>
          <p:xfrm>
            <a:off x="0" y="0"/>
            <a:ext cx="914400" cy="746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0"/>
                      <a:ext cx="914400" cy="74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06616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Tahoma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he process was initiated by Mr. Josef Vavrousek, Environment Minister of what was then Czechoslovakia;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he first Ministerial Conference took place near Prague, at Dobris Castle, on 21-23 June 1991.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0" y="0"/>
            <a:ext cx="9144000" cy="746280"/>
            <a:chOff x="0" y="0"/>
            <a:chExt cx="9144000" cy="746280"/>
          </a:xfrm>
        </p:grpSpPr>
        <p:pic>
          <p:nvPicPr>
            <p:cNvPr id="62" name="ecelogo" descr="United Nations Economic Commsission for Europe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696080" y="136800"/>
              <a:ext cx="1447920" cy="6094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3" name=""/>
            <p:cNvGraphicFramePr/>
            <p:nvPr/>
          </p:nvGraphicFramePr>
          <p:xfrm>
            <a:off x="0" y="0"/>
            <a:ext cx="914400" cy="746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0"/>
                      <a:ext cx="914400" cy="74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Tahoma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337760"/>
            <a:ext cx="70866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OTAL OF FIVE CONFERENCES HAVE BEEN ORGANIZED: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in Lucerne (1993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in Sofia (1995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Fourth in Aarhus (1998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Fifth in Kiev (2003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Sixth Conference will take place in Belgrade, in 2007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Tahoma"/>
              </a:rPr>
              <a:t>EfE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armonize environmental quality and policies across all 55 UNECE member Stat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Use environmental cooperation to work toward peace and stability and sustainable development in the reg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upport partnerships, with a special focus on EECCA countries (Aarhus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Tahoma"/>
              </a:rPr>
              <a:t>TH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07732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EfE process is a unique partnership of: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member States within the UNECE reg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organizations of the UN system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other intergovernmental organizat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regional environment centr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non-governmental organizations and other major groups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0102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ff66"/>
                </a:solidFill>
                <a:latin typeface="Tahoma"/>
              </a:rPr>
              <a:t>THE STRUCTURE </a:t>
            </a:r>
            <a:br>
              <a:rPr sz="4400"/>
            </a:br>
            <a:br>
              <a:rPr sz="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  <a:ea typeface="Tahoma"/>
              </a:rPr>
              <a:t>The United Nations Economic Commission for Europe, which has been closely associated with the “Environment for Europe” process since the beginning, serves as secretariat to the process.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9144000" cy="746280"/>
            <a:chOff x="0" y="0"/>
            <a:chExt cx="9144000" cy="746280"/>
          </a:xfrm>
        </p:grpSpPr>
        <p:pic>
          <p:nvPicPr>
            <p:cNvPr id="74" name="ecelogo" descr="United Nations Economic Commsission for Europe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696080" y="136800"/>
              <a:ext cx="1447920" cy="6094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75" name=""/>
            <p:cNvGraphicFramePr/>
            <p:nvPr/>
          </p:nvGraphicFramePr>
          <p:xfrm>
            <a:off x="0" y="0"/>
            <a:ext cx="914400" cy="746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0"/>
                      <a:ext cx="914400" cy="74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3152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Tahoma"/>
              </a:rPr>
              <a:t>TH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00200" y="1219320"/>
            <a:ext cx="685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Arial Unicode MS"/>
              </a:rPr>
              <a:t>Active partners include,e.g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Arial Unicode MS"/>
              </a:rPr>
              <a:t>European Commiss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Arial Unicode MS"/>
              </a:rPr>
              <a:t>OECD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Arial Unicode MS"/>
              </a:rPr>
              <a:t>The Council of Europe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Arial Unicode MS"/>
              </a:rPr>
              <a:t>The EEA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Arial Unicode MS"/>
              </a:rPr>
              <a:t>UNEP, UNDP and WHO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Arial Unicode MS"/>
              </a:rPr>
              <a:t>World Bank and EBRD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Arial Unicode MS"/>
              </a:rPr>
              <a:t>EcoForum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  <a:ea typeface="Arial Unicode MS"/>
              </a:rPr>
              <a:t> 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0" y="0"/>
            <a:ext cx="9144000" cy="746280"/>
            <a:chOff x="0" y="0"/>
            <a:chExt cx="9144000" cy="746280"/>
          </a:xfrm>
        </p:grpSpPr>
        <p:pic>
          <p:nvPicPr>
            <p:cNvPr id="80" name="ecelogo" descr="United Nations Economic Commsission for Europe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696080" y="136800"/>
              <a:ext cx="1447920" cy="6094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81" name=""/>
            <p:cNvGraphicFramePr/>
            <p:nvPr/>
          </p:nvGraphicFramePr>
          <p:xfrm>
            <a:off x="0" y="0"/>
            <a:ext cx="914400" cy="746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0"/>
                      <a:ext cx="914400" cy="74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086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66"/>
                </a:solidFill>
                <a:latin typeface="Tahoma"/>
              </a:rPr>
              <a:t>PREPARATORY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79246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pen-ended EfE Preparatory Group is established for 2 year preparation of Conference:  next meeting is Oc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ll member States and partners participate in Preparatory Group and both take initiatives and assume responsibility for bringing items to the Conference agenda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3T13:42:27Z</dcterms:created>
  <dc:creator/>
  <dc:description/>
  <dc:language>en-US</dc:language>
  <cp:lastModifiedBy>Stancic</cp:lastModifiedBy>
  <dcterms:modified xsi:type="dcterms:W3CDTF">2004-03-29T07:13:11Z</dcterms:modified>
  <cp:revision>186</cp:revision>
  <dc:subject/>
  <dc:title>Slide 1</dc:title>
</cp:coreProperties>
</file>