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6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3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23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2240" y="3826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6560" y="167652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52240" y="167652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6560" y="3826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52240" y="3826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39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3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6400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39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2240" y="3826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23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3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23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2240" y="3826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6560" y="167652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2240" y="167652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6560" y="3826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2240" y="3826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3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6400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2240" y="3826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2240" y="167652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23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676520"/>
            <a:ext cx="823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5000"/>
              </a:lnSpc>
              <a:spcBef>
                <a:spcPts val="1874"/>
              </a:spcBef>
              <a:buClr>
                <a:srgbClr val="ffff00"/>
              </a:buClr>
              <a:buFont typeface="Stone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lnSpc>
                <a:spcPct val="85000"/>
              </a:lnSpc>
              <a:spcBef>
                <a:spcPts val="1874"/>
              </a:spcBef>
              <a:buClr>
                <a:srgbClr val="ffffff"/>
              </a:buClr>
              <a:buFont typeface="Stone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lnSpc>
                <a:spcPct val="85000"/>
              </a:lnSpc>
              <a:spcBef>
                <a:spcPts val="1874"/>
              </a:spcBef>
              <a:buClr>
                <a:srgbClr val="ffffff"/>
              </a:buClr>
              <a:buFont typeface="Stone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Ea-wo%20-r" descr=""/>
          <p:cNvPicPr/>
          <p:nvPr/>
        </p:nvPicPr>
        <p:blipFill>
          <a:blip r:embed="rId3"/>
          <a:stretch/>
        </p:blipFill>
        <p:spPr>
          <a:xfrm>
            <a:off x="6629400" y="5791320"/>
            <a:ext cx="234324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033360"/>
            <a:ext cx="838224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2743200" y="533520"/>
          <a:ext cx="3581280" cy="19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533520"/>
                    <a:ext cx="358128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1874"/>
              </a:spcBef>
              <a:buClr>
                <a:srgbClr val="ffff00"/>
              </a:buClr>
              <a:buFont typeface="StoneSan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0e54"/>
                </a:solidFill>
                <a:latin typeface="StoneSans"/>
              </a:rPr>
              <a:t>Fifth Outline Level</a:t>
            </a:r>
            <a:endParaRPr b="0" lang="en-US" sz="3000" spc="-1" strike="noStrike">
              <a:solidFill>
                <a:srgbClr val="0e0e54"/>
              </a:solidFill>
              <a:latin typeface="StoneSans"/>
            </a:endParaRPr>
          </a:p>
          <a:p>
            <a:pPr lvl="5" marL="1828800">
              <a:spcBef>
                <a:spcPts val="751"/>
              </a:spcBef>
              <a:buClr>
                <a:srgbClr val="ffffff"/>
              </a:buClr>
              <a:buFont typeface="Stone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0e54"/>
                </a:solidFill>
                <a:latin typeface="StoneSans"/>
              </a:rPr>
              <a:t>Sixth Outline Level</a:t>
            </a:r>
            <a:endParaRPr b="0" lang="en-US" sz="3000" spc="-1" strike="noStrike">
              <a:solidFill>
                <a:srgbClr val="0e0e54"/>
              </a:solidFill>
              <a:latin typeface="StoneSans"/>
            </a:endParaRPr>
          </a:p>
          <a:p>
            <a:pPr lvl="6" marL="1828800">
              <a:spcBef>
                <a:spcPts val="751"/>
              </a:spcBef>
              <a:buClr>
                <a:srgbClr val="ffffff"/>
              </a:buClr>
              <a:buFont typeface="Stone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e0e54"/>
                </a:solidFill>
                <a:latin typeface="StoneSans"/>
              </a:rPr>
              <a:t>Seventh Outline Level</a:t>
            </a:r>
            <a:endParaRPr b="0" lang="en-US" sz="3000" spc="-1" strike="noStrike">
              <a:solidFill>
                <a:srgbClr val="0e0e54"/>
              </a:solidFill>
              <a:latin typeface="Stone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152520"/>
            <a:ext cx="8382240" cy="191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arhus Convention Task Force on Electronic Information Tools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eva, 26-27 January 200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4920" y="5482800"/>
            <a:ext cx="8610480" cy="9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 Jar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Policy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rrent St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23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ticipating in UNEP workshop in Kiev (26-29 Jan 04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 algn="just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n introduction to the Environment Agency’s experience in providing environment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 algn="just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summary of the Environment Agency’s future direction in moving to tailored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 algn="just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preliminary input to the UNEP/EA capacity building project to develop a framework for electronic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rrent St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3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tand alone workshop in ECCA Region (Spring 04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the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ose and develop pilot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port on output, inc. proposals on way forward/ further stage of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vironment Agen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 Departmental Public Body responsible to Department of the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 range of duties and powers relating to environmental manag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,000 staff across England and W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 Regional Offices, 26 Area Off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~100 staff respond to &gt;350,000 reque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place a high priority on the provision of information in achieving environmental go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0" y="1908360"/>
            <a:ext cx="13716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oneSansSemibold"/>
              </a:rPr>
              <a:t>Local commun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oneSansSemibold"/>
              </a:rPr>
              <a:t>Stud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oneSansSemibold"/>
              </a:rPr>
              <a:t>Schoolchildr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oneSansSemibold"/>
              </a:rPr>
              <a:t>Teach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oneSansSemibold"/>
              </a:rPr>
              <a:t>Consulta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oneSansSemibold"/>
              </a:rPr>
              <a:t>Solici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oneSansSemibold"/>
              </a:rPr>
              <a:t>Busi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617760" cy="108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57600" y="3124080"/>
            <a:ext cx="573120" cy="8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740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35053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2666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Y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791320" y="2895480"/>
            <a:ext cx="1218960" cy="1091880"/>
            <a:chOff x="5791320" y="2895480"/>
            <a:chExt cx="1218960" cy="1091880"/>
          </a:xfrm>
        </p:grpSpPr>
        <p:grpSp>
          <p:nvGrpSpPr>
            <p:cNvPr id="91" name=""/>
            <p:cNvGrpSpPr/>
            <p:nvPr/>
          </p:nvGrpSpPr>
          <p:grpSpPr>
            <a:xfrm>
              <a:off x="5791320" y="2895480"/>
              <a:ext cx="457200" cy="330480"/>
              <a:chOff x="5791320" y="2895480"/>
              <a:chExt cx="457200" cy="330480"/>
            </a:xfrm>
          </p:grpSpPr>
          <p:sp>
            <p:nvSpPr>
              <p:cNvPr id="92" name=""/>
              <p:cNvSpPr/>
              <p:nvPr/>
            </p:nvSpPr>
            <p:spPr>
              <a:xfrm>
                <a:off x="5944320" y="312120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81680" y="313668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56480" y="2895480"/>
                <a:ext cx="327600" cy="2264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1520" y="2898720"/>
                <a:ext cx="317520" cy="2192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96800" y="292032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03280" y="2924280"/>
                <a:ext cx="236160" cy="16200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130080" y="310428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130080" y="310104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91320" y="3144600"/>
                <a:ext cx="457200" cy="81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96720" y="314784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48720" y="317448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97040" y="316620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88040" y="317052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200280" y="316800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16480" y="31680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39720" y="315108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170400" y="316296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943600" y="3048120"/>
              <a:ext cx="457200" cy="329760"/>
              <a:chOff x="5943600" y="3048120"/>
              <a:chExt cx="457200" cy="329760"/>
            </a:xfrm>
          </p:grpSpPr>
          <p:sp>
            <p:nvSpPr>
              <p:cNvPr id="110" name=""/>
              <p:cNvSpPr/>
              <p:nvPr/>
            </p:nvSpPr>
            <p:spPr>
              <a:xfrm>
                <a:off x="6096600" y="327348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33960" y="328896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8760" y="3048120"/>
                <a:ext cx="327600" cy="2260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13800" y="3051360"/>
                <a:ext cx="317520" cy="218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49080" y="307296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55560" y="3076920"/>
                <a:ext cx="236160" cy="16164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82360" y="325656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82360" y="325332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43600" y="3296880"/>
                <a:ext cx="457200" cy="81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49000" y="330012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01000" y="332676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49320" y="331884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40320" y="332280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52560" y="332028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68760" y="332028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92000" y="330336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22680" y="331524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095880" y="3200400"/>
              <a:ext cx="457200" cy="329760"/>
              <a:chOff x="6095880" y="3200400"/>
              <a:chExt cx="457200" cy="329760"/>
            </a:xfrm>
          </p:grpSpPr>
          <p:sp>
            <p:nvSpPr>
              <p:cNvPr id="128" name=""/>
              <p:cNvSpPr/>
              <p:nvPr/>
            </p:nvSpPr>
            <p:spPr>
              <a:xfrm>
                <a:off x="6248880" y="342576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86240" y="344124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161040" y="3200400"/>
                <a:ext cx="327600" cy="2260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66080" y="3203640"/>
                <a:ext cx="317520" cy="218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01360" y="322524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07840" y="3229200"/>
                <a:ext cx="236160" cy="16164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34640" y="340884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34640" y="340560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95880" y="3449160"/>
                <a:ext cx="457200" cy="81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01280" y="345240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53280" y="347904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01600" y="347112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492600" y="347508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04840" y="347256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21040" y="34725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44280" y="345564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74960" y="346752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248520" y="3352680"/>
              <a:ext cx="457200" cy="330480"/>
              <a:chOff x="6248520" y="3352680"/>
              <a:chExt cx="457200" cy="330480"/>
            </a:xfrm>
          </p:grpSpPr>
          <p:sp>
            <p:nvSpPr>
              <p:cNvPr id="146" name=""/>
              <p:cNvSpPr/>
              <p:nvPr/>
            </p:nvSpPr>
            <p:spPr>
              <a:xfrm>
                <a:off x="6401520" y="357840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38880" y="359388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13680" y="3352680"/>
                <a:ext cx="327600" cy="2264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18720" y="3355920"/>
                <a:ext cx="317520" cy="2192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54000" y="337752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60480" y="3381480"/>
                <a:ext cx="236160" cy="16200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87280" y="356148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87280" y="355824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248520" y="3601800"/>
                <a:ext cx="457200" cy="81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53920" y="360504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05920" y="363168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54240" y="362340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45240" y="362772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57480" y="362520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73680" y="36252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96920" y="360828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7600" y="362016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400800" y="3505320"/>
              <a:ext cx="457200" cy="329760"/>
              <a:chOff x="6400800" y="3505320"/>
              <a:chExt cx="457200" cy="329760"/>
            </a:xfrm>
          </p:grpSpPr>
          <p:sp>
            <p:nvSpPr>
              <p:cNvPr id="164" name=""/>
              <p:cNvSpPr/>
              <p:nvPr/>
            </p:nvSpPr>
            <p:spPr>
              <a:xfrm>
                <a:off x="6553800" y="373068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91160" y="374616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65960" y="3505320"/>
                <a:ext cx="327600" cy="2260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71000" y="3508560"/>
                <a:ext cx="317520" cy="218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06280" y="353016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12760" y="3534120"/>
                <a:ext cx="236160" cy="16164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9560" y="371376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39560" y="371052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00800" y="3754080"/>
                <a:ext cx="457200" cy="81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06200" y="375732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58200" y="378396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806520" y="377604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797520" y="378000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09760" y="377748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25960" y="377748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49200" y="376056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79880" y="377244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553080" y="3657600"/>
              <a:ext cx="457200" cy="329760"/>
              <a:chOff x="6553080" y="3657600"/>
              <a:chExt cx="457200" cy="329760"/>
            </a:xfrm>
          </p:grpSpPr>
          <p:sp>
            <p:nvSpPr>
              <p:cNvPr id="182" name=""/>
              <p:cNvSpPr/>
              <p:nvPr/>
            </p:nvSpPr>
            <p:spPr>
              <a:xfrm>
                <a:off x="6706080" y="388296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43440" y="389844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18240" y="3657600"/>
                <a:ext cx="327600" cy="2260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23280" y="3660840"/>
                <a:ext cx="317520" cy="218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58560" y="368244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65040" y="3686400"/>
                <a:ext cx="236160" cy="16164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91840" y="386604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91840" y="386280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3080" y="3906360"/>
                <a:ext cx="457200" cy="81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8480" y="390960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10480" y="393624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958800" y="392832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49800" y="393228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962040" y="392976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78240" y="39297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801480" y="391284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32160" y="392472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YBY: One size fits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685800" y="1295280"/>
            <a:ext cx="4324320" cy="1219320"/>
            <a:chOff x="685800" y="1295280"/>
            <a:chExt cx="4324320" cy="121932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866880" y="1657440"/>
              <a:ext cx="4874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5800" y="12952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2913120" y="1778040"/>
              <a:ext cx="452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649520" y="2079720"/>
              <a:ext cx="108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95760" y="2079720"/>
              <a:ext cx="84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1920" y="1417680"/>
              <a:ext cx="10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IYB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648320" y="1981080"/>
              <a:ext cx="361800" cy="262080"/>
              <a:chOff x="4648320" y="1981080"/>
              <a:chExt cx="361800" cy="262080"/>
            </a:xfrm>
          </p:grpSpPr>
          <p:sp>
            <p:nvSpPr>
              <p:cNvPr id="208" name=""/>
              <p:cNvSpPr/>
              <p:nvPr/>
            </p:nvSpPr>
            <p:spPr>
              <a:xfrm>
                <a:off x="4769640" y="2160000"/>
                <a:ext cx="119880" cy="14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19600" y="2172240"/>
                <a:ext cx="219600" cy="720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99800" y="1981080"/>
                <a:ext cx="259200" cy="1796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03760" y="1983600"/>
                <a:ext cx="251280" cy="173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31840" y="2000880"/>
                <a:ext cx="197640" cy="13536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36880" y="2004120"/>
                <a:ext cx="186840" cy="12852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16160" y="2146680"/>
                <a:ext cx="13320" cy="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916160" y="2143800"/>
                <a:ext cx="13320" cy="108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48320" y="2178720"/>
                <a:ext cx="361800" cy="644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52640" y="2181240"/>
                <a:ext cx="353520" cy="5832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51720" y="2202120"/>
                <a:ext cx="77760" cy="360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69440" y="2196000"/>
                <a:ext cx="19080" cy="5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62240" y="2199240"/>
                <a:ext cx="4320" cy="180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71960" y="219708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84560" y="219708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44880" y="2183760"/>
                <a:ext cx="93600" cy="5364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48200" y="2193120"/>
                <a:ext cx="4572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lone Information Serv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90720" y="2514600"/>
            <a:ext cx="4324320" cy="1219320"/>
            <a:chOff x="990720" y="2514600"/>
            <a:chExt cx="4324320" cy="121932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1171800" y="2876760"/>
              <a:ext cx="4874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90720" y="25146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3218040" y="2997360"/>
              <a:ext cx="452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954440" y="3299040"/>
              <a:ext cx="108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00680" y="3299040"/>
              <a:ext cx="84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76840" y="2637000"/>
              <a:ext cx="102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lood war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4953240" y="3200400"/>
              <a:ext cx="361800" cy="262080"/>
              <a:chOff x="4953240" y="3200400"/>
              <a:chExt cx="361800" cy="262080"/>
            </a:xfrm>
          </p:grpSpPr>
          <p:sp>
            <p:nvSpPr>
              <p:cNvPr id="234" name=""/>
              <p:cNvSpPr/>
              <p:nvPr/>
            </p:nvSpPr>
            <p:spPr>
              <a:xfrm>
                <a:off x="5074560" y="3379320"/>
                <a:ext cx="119880" cy="14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4520" y="3391560"/>
                <a:ext cx="219600" cy="720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04720" y="3200400"/>
                <a:ext cx="259200" cy="1796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08680" y="3202920"/>
                <a:ext cx="251280" cy="173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36760" y="3220200"/>
                <a:ext cx="197640" cy="13536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41800" y="3223440"/>
                <a:ext cx="186840" cy="12852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21080" y="3366000"/>
                <a:ext cx="13320" cy="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1080" y="3363120"/>
                <a:ext cx="13320" cy="108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53240" y="3398040"/>
                <a:ext cx="361800" cy="644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57560" y="3400560"/>
                <a:ext cx="353520" cy="5832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640" y="3421440"/>
                <a:ext cx="77760" cy="360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74360" y="3415320"/>
                <a:ext cx="19080" cy="5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267160" y="3418560"/>
                <a:ext cx="4320" cy="180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76880" y="341640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289480" y="341640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49800" y="3403080"/>
                <a:ext cx="93600" cy="5364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53120" y="3412440"/>
                <a:ext cx="4572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476360" y="4172040"/>
            <a:ext cx="487440" cy="857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295280" y="38098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3522600" y="4292640"/>
            <a:ext cx="452520" cy="669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59000" y="4594320"/>
            <a:ext cx="108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05240" y="4594320"/>
            <a:ext cx="843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81400" y="3932280"/>
            <a:ext cx="11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257800" y="4495680"/>
            <a:ext cx="361800" cy="262080"/>
            <a:chOff x="5257800" y="4495680"/>
            <a:chExt cx="361800" cy="262080"/>
          </a:xfrm>
        </p:grpSpPr>
        <p:sp>
          <p:nvSpPr>
            <p:cNvPr id="258" name=""/>
            <p:cNvSpPr/>
            <p:nvPr/>
          </p:nvSpPr>
          <p:spPr>
            <a:xfrm>
              <a:off x="5379120" y="4674600"/>
              <a:ext cx="119880" cy="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29080" y="4686840"/>
              <a:ext cx="219600" cy="7200"/>
            </a:xfrm>
            <a:prstGeom prst="rect">
              <a:avLst/>
            </a:prstGeom>
            <a:solidFill>
              <a:srgbClr val="b4b4b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09280" y="4495680"/>
              <a:ext cx="259200" cy="17964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13240" y="4498200"/>
              <a:ext cx="251280" cy="173880"/>
            </a:xfrm>
            <a:prstGeom prst="rect">
              <a:avLst/>
            </a:prstGeom>
            <a:solidFill>
              <a:srgbClr val="fff1d4"/>
            </a:solidFill>
            <a:ln w="12600">
              <a:solidFill>
                <a:srgbClr val="fff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41320" y="4515480"/>
              <a:ext cx="197640" cy="135360"/>
            </a:xfrm>
            <a:prstGeom prst="roundRect">
              <a:avLst>
                <a:gd name="adj" fmla="val 6903"/>
              </a:avLst>
            </a:prstGeom>
            <a:solidFill>
              <a:srgbClr val="dcdcd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46360" y="4518720"/>
              <a:ext cx="186840" cy="128520"/>
            </a:xfrm>
            <a:prstGeom prst="roundRect">
              <a:avLst>
                <a:gd name="adj" fmla="val 7245"/>
              </a:avLst>
            </a:prstGeom>
            <a:solidFill>
              <a:srgbClr val="005050"/>
            </a:solidFill>
            <a:ln w="12600">
              <a:solidFill>
                <a:srgbClr val="ffde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25640" y="4661280"/>
              <a:ext cx="13320" cy="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25640" y="4658400"/>
              <a:ext cx="13320" cy="1080"/>
            </a:xfrm>
            <a:prstGeom prst="rect">
              <a:avLst/>
            </a:prstGeom>
            <a:solidFill>
              <a:srgbClr val="8dff7e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57800" y="4693320"/>
              <a:ext cx="361800" cy="6444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62120" y="4695840"/>
              <a:ext cx="353520" cy="58320"/>
            </a:xfrm>
            <a:prstGeom prst="rect">
              <a:avLst/>
            </a:prstGeom>
            <a:solidFill>
              <a:srgbClr val="fff1d4"/>
            </a:solidFill>
            <a:ln w="12600">
              <a:solidFill>
                <a:srgbClr val="fff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61200" y="4716720"/>
              <a:ext cx="77760" cy="3600"/>
            </a:xfrm>
            <a:prstGeom prst="rect">
              <a:avLst/>
            </a:prstGeom>
            <a:solidFill>
              <a:srgbClr val="5a5a5a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920" y="4710600"/>
              <a:ext cx="19080" cy="5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1720" y="4713840"/>
              <a:ext cx="4320" cy="1800"/>
            </a:xfrm>
            <a:prstGeom prst="rect">
              <a:avLst/>
            </a:prstGeom>
            <a:solidFill>
              <a:srgbClr val="8dff7e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81440" y="4711680"/>
              <a:ext cx="2880" cy="2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94040" y="4711680"/>
              <a:ext cx="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54360" y="4698360"/>
              <a:ext cx="93600" cy="53640"/>
            </a:xfrm>
            <a:prstGeom prst="roundRect">
              <a:avLst>
                <a:gd name="adj" fmla="val 1697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57680" y="4707720"/>
              <a:ext cx="45720" cy="1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00200" y="5257800"/>
            <a:ext cx="4324320" cy="1219320"/>
            <a:chOff x="1600200" y="5257800"/>
            <a:chExt cx="4324320" cy="1219320"/>
          </a:xfrm>
        </p:grpSpPr>
        <p:pic>
          <p:nvPicPr>
            <p:cNvPr id="276" name="" descr=""/>
            <p:cNvPicPr/>
            <p:nvPr/>
          </p:nvPicPr>
          <p:blipFill>
            <a:blip r:embed="rId8"/>
            <a:stretch/>
          </p:blipFill>
          <p:spPr>
            <a:xfrm>
              <a:off x="1781280" y="5619960"/>
              <a:ext cx="4874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600200" y="52578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9"/>
            <a:stretch/>
          </p:blipFill>
          <p:spPr>
            <a:xfrm>
              <a:off x="3827520" y="5740560"/>
              <a:ext cx="452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563920" y="6042240"/>
              <a:ext cx="108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0160" y="6042240"/>
              <a:ext cx="84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6320" y="5380200"/>
              <a:ext cx="10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62720" y="5943600"/>
              <a:ext cx="361800" cy="262080"/>
              <a:chOff x="5562720" y="5943600"/>
              <a:chExt cx="361800" cy="262080"/>
            </a:xfrm>
          </p:grpSpPr>
          <p:sp>
            <p:nvSpPr>
              <p:cNvPr id="283" name=""/>
              <p:cNvSpPr/>
              <p:nvPr/>
            </p:nvSpPr>
            <p:spPr>
              <a:xfrm>
                <a:off x="5684040" y="6122520"/>
                <a:ext cx="119880" cy="14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34000" y="6134760"/>
                <a:ext cx="219600" cy="720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14200" y="5943600"/>
                <a:ext cx="259200" cy="1796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18160" y="5946120"/>
                <a:ext cx="251280" cy="173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646240" y="5963400"/>
                <a:ext cx="197640" cy="13536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51280" y="5966640"/>
                <a:ext cx="186840" cy="12852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0560" y="6109200"/>
                <a:ext cx="13320" cy="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30560" y="6106320"/>
                <a:ext cx="13320" cy="108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62720" y="6141240"/>
                <a:ext cx="361800" cy="644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67040" y="6143760"/>
                <a:ext cx="353520" cy="5832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66120" y="6164640"/>
                <a:ext cx="77760" cy="360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83840" y="6158520"/>
                <a:ext cx="19080" cy="5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76640" y="6161760"/>
                <a:ext cx="4320" cy="180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86360" y="615960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98960" y="6159600"/>
                <a:ext cx="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59280" y="6146280"/>
                <a:ext cx="93600" cy="5364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62600" y="6155640"/>
                <a:ext cx="4572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914400" y="152280"/>
            <a:ext cx="1904760" cy="2514240"/>
            <a:chOff x="914400" y="152280"/>
            <a:chExt cx="1904760" cy="2514240"/>
          </a:xfrm>
        </p:grpSpPr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990720" y="152280"/>
              <a:ext cx="414360" cy="571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02" name=""/>
            <p:cNvGraphicFramePr/>
            <p:nvPr/>
          </p:nvGraphicFramePr>
          <p:xfrm>
            <a:off x="1447920" y="152280"/>
            <a:ext cx="49824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7920" y="152280"/>
                      <a:ext cx="4982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4" name=""/>
            <p:cNvSpPr/>
            <p:nvPr/>
          </p:nvSpPr>
          <p:spPr>
            <a:xfrm>
              <a:off x="914400" y="68580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523520" y="1066320"/>
              <a:ext cx="129564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00400" y="3581280"/>
            <a:ext cx="2057400" cy="1739160"/>
            <a:chOff x="3200400" y="3581280"/>
            <a:chExt cx="2057400" cy="1739160"/>
          </a:xfrm>
        </p:grpSpPr>
        <p:sp>
          <p:nvSpPr>
            <p:cNvPr id="307" name=""/>
            <p:cNvSpPr/>
            <p:nvPr/>
          </p:nvSpPr>
          <p:spPr>
            <a:xfrm>
              <a:off x="3886200" y="495216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toneSansSemibold"/>
                </a:rPr>
                <a:t>WIYBY V2</a:t>
              </a:r>
              <a:r>
                <a:rPr b="0" lang="en-US" sz="1200" spc="-1" strike="noStrike">
                  <a:solidFill>
                    <a:srgbClr val="ffffff"/>
                  </a:solidFill>
                  <a:latin typeface="StoneSansSemibold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4267080" y="4648320"/>
              <a:ext cx="457200" cy="329760"/>
              <a:chOff x="4267080" y="4648320"/>
              <a:chExt cx="457200" cy="329760"/>
            </a:xfrm>
          </p:grpSpPr>
          <p:sp>
            <p:nvSpPr>
              <p:cNvPr id="309" name=""/>
              <p:cNvSpPr/>
              <p:nvPr/>
            </p:nvSpPr>
            <p:spPr>
              <a:xfrm>
                <a:off x="4420080" y="487368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57440" y="488916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32240" y="4648320"/>
                <a:ext cx="327600" cy="2260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7280" y="4651560"/>
                <a:ext cx="317520" cy="218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372560" y="467316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79040" y="4677120"/>
                <a:ext cx="236160" cy="16164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05840" y="485676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05840" y="485352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67080" y="4897080"/>
                <a:ext cx="457200" cy="81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480" y="490032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24480" y="492696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72800" y="491904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63800" y="492300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76040" y="492048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92240" y="492048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15480" y="490356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46160" y="491544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3200400" y="3581280"/>
              <a:ext cx="1066680" cy="1219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33520" y="3124080"/>
            <a:ext cx="5181480" cy="1387440"/>
            <a:chOff x="533520" y="3124080"/>
            <a:chExt cx="5181480" cy="1387440"/>
          </a:xfrm>
        </p:grpSpPr>
        <p:sp>
          <p:nvSpPr>
            <p:cNvPr id="328" name=""/>
            <p:cNvSpPr/>
            <p:nvPr/>
          </p:nvSpPr>
          <p:spPr>
            <a:xfrm>
              <a:off x="3962520" y="41140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toneSansSemibold"/>
                </a:rPr>
                <a:t>eDecis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533520" y="3124080"/>
              <a:ext cx="5181480" cy="1387440"/>
              <a:chOff x="533520" y="3124080"/>
              <a:chExt cx="5181480" cy="1387440"/>
            </a:xfrm>
          </p:grpSpPr>
          <p:sp>
            <p:nvSpPr>
              <p:cNvPr id="330" name=""/>
              <p:cNvSpPr/>
              <p:nvPr/>
            </p:nvSpPr>
            <p:spPr>
              <a:xfrm>
                <a:off x="533520" y="312408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Document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724280" y="3200040"/>
                <a:ext cx="990720" cy="6094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90720" y="3429000"/>
                <a:ext cx="617400" cy="10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 flipV="1">
                <a:off x="1600200" y="3352320"/>
                <a:ext cx="1066680" cy="3812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4267080" y="3886200"/>
                <a:ext cx="457200" cy="329760"/>
                <a:chOff x="4267080" y="3886200"/>
                <a:chExt cx="457200" cy="3297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420080" y="4111560"/>
                  <a:ext cx="151560" cy="18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357440" y="4127040"/>
                  <a:ext cx="277200" cy="9360"/>
                </a:xfrm>
                <a:prstGeom prst="rect">
                  <a:avLst/>
                </a:prstGeom>
                <a:solidFill>
                  <a:srgbClr val="b4b4b4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332240" y="3886200"/>
                  <a:ext cx="327600" cy="22608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337280" y="3889440"/>
                  <a:ext cx="317520" cy="21888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372560" y="3911040"/>
                  <a:ext cx="249840" cy="170640"/>
                </a:xfrm>
                <a:prstGeom prst="roundRect">
                  <a:avLst>
                    <a:gd name="adj" fmla="val 6903"/>
                  </a:avLst>
                </a:prstGeom>
                <a:solidFill>
                  <a:srgbClr val="dcdc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379040" y="3915000"/>
                  <a:ext cx="236160" cy="161640"/>
                </a:xfrm>
                <a:prstGeom prst="roundRect">
                  <a:avLst>
                    <a:gd name="adj" fmla="val 7245"/>
                  </a:avLst>
                </a:prstGeom>
                <a:solidFill>
                  <a:srgbClr val="005050"/>
                </a:solidFill>
                <a:ln w="12600">
                  <a:solidFill>
                    <a:srgbClr val="ffde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605840" y="4094640"/>
                  <a:ext cx="16920" cy="7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605840" y="4091400"/>
                  <a:ext cx="16920" cy="144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267080" y="4134960"/>
                  <a:ext cx="457200" cy="8100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72480" y="4138200"/>
                  <a:ext cx="446760" cy="7344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24480" y="4164840"/>
                  <a:ext cx="98280" cy="4680"/>
                </a:xfrm>
                <a:prstGeom prst="rect">
                  <a:avLst/>
                </a:prstGeom>
                <a:solidFill>
                  <a:srgbClr val="5a5a5a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672800" y="4156920"/>
                  <a:ext cx="2412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63800" y="4160880"/>
                  <a:ext cx="5400" cy="216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676040" y="4158360"/>
                  <a:ext cx="396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692240" y="4158360"/>
                  <a:ext cx="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515480" y="4141440"/>
                  <a:ext cx="118440" cy="67320"/>
                </a:xfrm>
                <a:prstGeom prst="roundRect">
                  <a:avLst>
                    <a:gd name="adj" fmla="val 1697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646160" y="4153320"/>
                  <a:ext cx="57960" cy="12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3276720" y="3352680"/>
                <a:ext cx="990360" cy="762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5715000" y="4797360"/>
            <a:ext cx="3352320" cy="919440"/>
            <a:chOff x="5715000" y="4797360"/>
            <a:chExt cx="3352320" cy="919440"/>
          </a:xfrm>
        </p:grpSpPr>
        <p:grpSp>
          <p:nvGrpSpPr>
            <p:cNvPr id="354" name=""/>
            <p:cNvGrpSpPr/>
            <p:nvPr/>
          </p:nvGrpSpPr>
          <p:grpSpPr>
            <a:xfrm>
              <a:off x="6248520" y="4797360"/>
              <a:ext cx="2818800" cy="919440"/>
              <a:chOff x="6248520" y="4797360"/>
              <a:chExt cx="2818800" cy="9194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6248520" y="4952880"/>
                <a:ext cx="456840" cy="330480"/>
                <a:chOff x="6248520" y="4952880"/>
                <a:chExt cx="456840" cy="330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401520" y="5178600"/>
                  <a:ext cx="151200" cy="18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338520" y="5194080"/>
                  <a:ext cx="277200" cy="9360"/>
                </a:xfrm>
                <a:prstGeom prst="rect">
                  <a:avLst/>
                </a:prstGeom>
                <a:solidFill>
                  <a:srgbClr val="b4b4b4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313680" y="4952880"/>
                  <a:ext cx="327240" cy="22644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318360" y="4956120"/>
                  <a:ext cx="317520" cy="21924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354000" y="4977720"/>
                  <a:ext cx="249840" cy="170640"/>
                </a:xfrm>
                <a:prstGeom prst="roundRect">
                  <a:avLst>
                    <a:gd name="adj" fmla="val 6903"/>
                  </a:avLst>
                </a:prstGeom>
                <a:solidFill>
                  <a:srgbClr val="dcdc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360480" y="4981680"/>
                  <a:ext cx="236160" cy="162000"/>
                </a:xfrm>
                <a:prstGeom prst="roundRect">
                  <a:avLst>
                    <a:gd name="adj" fmla="val 7245"/>
                  </a:avLst>
                </a:prstGeom>
                <a:solidFill>
                  <a:srgbClr val="005050"/>
                </a:solidFill>
                <a:ln w="12600">
                  <a:solidFill>
                    <a:srgbClr val="ffde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586920" y="5161680"/>
                  <a:ext cx="16920" cy="7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586920" y="5158440"/>
                  <a:ext cx="16920" cy="144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48520" y="5202000"/>
                  <a:ext cx="456840" cy="8136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253920" y="5205240"/>
                  <a:ext cx="446400" cy="7344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505560" y="5231880"/>
                  <a:ext cx="98280" cy="4680"/>
                </a:xfrm>
                <a:prstGeom prst="rect">
                  <a:avLst/>
                </a:prstGeom>
                <a:solidFill>
                  <a:srgbClr val="5a5a5a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653880" y="5223600"/>
                  <a:ext cx="2412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644880" y="5227920"/>
                  <a:ext cx="5400" cy="216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657120" y="5225400"/>
                  <a:ext cx="396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673320" y="5225400"/>
                  <a:ext cx="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6560" y="5208480"/>
                  <a:ext cx="118440" cy="67320"/>
                </a:xfrm>
                <a:prstGeom prst="roundRect">
                  <a:avLst>
                    <a:gd name="adj" fmla="val 1697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627240" y="5220360"/>
                  <a:ext cx="57600" cy="12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6933960" y="4797360"/>
                <a:ext cx="2133360" cy="91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toneSansSemibold"/>
                  </a:rPr>
                  <a:t>Educ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toneSansSemibold"/>
                  </a:rPr>
                  <a:t>What’s happening/have your say, local data to analyse, etc.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5715000" y="5105520"/>
              <a:ext cx="60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715000" y="3868920"/>
            <a:ext cx="3048120" cy="919440"/>
            <a:chOff x="5715000" y="3868920"/>
            <a:chExt cx="3048120" cy="919440"/>
          </a:xfrm>
        </p:grpSpPr>
        <p:grpSp>
          <p:nvGrpSpPr>
            <p:cNvPr id="376" name=""/>
            <p:cNvGrpSpPr/>
            <p:nvPr/>
          </p:nvGrpSpPr>
          <p:grpSpPr>
            <a:xfrm>
              <a:off x="6248520" y="3868920"/>
              <a:ext cx="2514600" cy="919440"/>
              <a:chOff x="6248520" y="3868920"/>
              <a:chExt cx="2514600" cy="9194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248520" y="4191120"/>
                <a:ext cx="457200" cy="329760"/>
                <a:chOff x="6248520" y="4191120"/>
                <a:chExt cx="457200" cy="329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6401520" y="4416480"/>
                  <a:ext cx="151560" cy="18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38880" y="4431960"/>
                  <a:ext cx="277200" cy="9360"/>
                </a:xfrm>
                <a:prstGeom prst="rect">
                  <a:avLst/>
                </a:prstGeom>
                <a:solidFill>
                  <a:srgbClr val="b4b4b4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313680" y="4191120"/>
                  <a:ext cx="327600" cy="22608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318720" y="4194360"/>
                  <a:ext cx="317520" cy="21888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354000" y="4215960"/>
                  <a:ext cx="249840" cy="170640"/>
                </a:xfrm>
                <a:prstGeom prst="roundRect">
                  <a:avLst>
                    <a:gd name="adj" fmla="val 6903"/>
                  </a:avLst>
                </a:prstGeom>
                <a:solidFill>
                  <a:srgbClr val="dcdc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360480" y="4219920"/>
                  <a:ext cx="236160" cy="161640"/>
                </a:xfrm>
                <a:prstGeom prst="roundRect">
                  <a:avLst>
                    <a:gd name="adj" fmla="val 7245"/>
                  </a:avLst>
                </a:prstGeom>
                <a:solidFill>
                  <a:srgbClr val="005050"/>
                </a:solidFill>
                <a:ln w="12600">
                  <a:solidFill>
                    <a:srgbClr val="ffde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87280" y="4399560"/>
                  <a:ext cx="16920" cy="7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587280" y="4396320"/>
                  <a:ext cx="16920" cy="144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248520" y="4439880"/>
                  <a:ext cx="457200" cy="8100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253920" y="4443120"/>
                  <a:ext cx="446760" cy="7344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505920" y="4469760"/>
                  <a:ext cx="98280" cy="4680"/>
                </a:xfrm>
                <a:prstGeom prst="rect">
                  <a:avLst/>
                </a:prstGeom>
                <a:solidFill>
                  <a:srgbClr val="5a5a5a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54240" y="4461840"/>
                  <a:ext cx="2412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645240" y="4465800"/>
                  <a:ext cx="5400" cy="216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657480" y="4463280"/>
                  <a:ext cx="396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73680" y="4463280"/>
                  <a:ext cx="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496920" y="4446360"/>
                  <a:ext cx="118440" cy="67320"/>
                </a:xfrm>
                <a:prstGeom prst="roundRect">
                  <a:avLst>
                    <a:gd name="adj" fmla="val 1697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27600" y="4458240"/>
                  <a:ext cx="57960" cy="12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6934320" y="3868920"/>
                <a:ext cx="1828800" cy="91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toneSansSemibold"/>
                  </a:rPr>
                  <a:t>Communiti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toneSansSemibold"/>
                  </a:rPr>
                  <a:t>e.g. libraries - what’s happening in your are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715000" y="4343400"/>
              <a:ext cx="60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715000" y="3504600"/>
            <a:ext cx="2362320" cy="330480"/>
            <a:chOff x="5715000" y="3504600"/>
            <a:chExt cx="2362320" cy="330480"/>
          </a:xfrm>
        </p:grpSpPr>
        <p:grpSp>
          <p:nvGrpSpPr>
            <p:cNvPr id="398" name=""/>
            <p:cNvGrpSpPr/>
            <p:nvPr/>
          </p:nvGrpSpPr>
          <p:grpSpPr>
            <a:xfrm>
              <a:off x="6248520" y="3504600"/>
              <a:ext cx="1828800" cy="330480"/>
              <a:chOff x="6248520" y="3504600"/>
              <a:chExt cx="1828800" cy="33048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6248520" y="3505320"/>
                <a:ext cx="457200" cy="329760"/>
                <a:chOff x="6248520" y="3505320"/>
                <a:chExt cx="457200" cy="3297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401520" y="3730680"/>
                  <a:ext cx="151560" cy="18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338880" y="3746160"/>
                  <a:ext cx="277200" cy="9360"/>
                </a:xfrm>
                <a:prstGeom prst="rect">
                  <a:avLst/>
                </a:prstGeom>
                <a:solidFill>
                  <a:srgbClr val="b4b4b4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313680" y="3505320"/>
                  <a:ext cx="327600" cy="22608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318720" y="3508560"/>
                  <a:ext cx="317520" cy="21888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354000" y="3530160"/>
                  <a:ext cx="249840" cy="170640"/>
                </a:xfrm>
                <a:prstGeom prst="roundRect">
                  <a:avLst>
                    <a:gd name="adj" fmla="val 6903"/>
                  </a:avLst>
                </a:prstGeom>
                <a:solidFill>
                  <a:srgbClr val="dcdc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360480" y="3534120"/>
                  <a:ext cx="236160" cy="161640"/>
                </a:xfrm>
                <a:prstGeom prst="roundRect">
                  <a:avLst>
                    <a:gd name="adj" fmla="val 7245"/>
                  </a:avLst>
                </a:prstGeom>
                <a:solidFill>
                  <a:srgbClr val="005050"/>
                </a:solidFill>
                <a:ln w="12600">
                  <a:solidFill>
                    <a:srgbClr val="ffde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87280" y="3713760"/>
                  <a:ext cx="16920" cy="7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87280" y="3710520"/>
                  <a:ext cx="16920" cy="144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48520" y="3754080"/>
                  <a:ext cx="457200" cy="8100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253920" y="3757320"/>
                  <a:ext cx="446760" cy="7344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05920" y="3783960"/>
                  <a:ext cx="98280" cy="4680"/>
                </a:xfrm>
                <a:prstGeom prst="rect">
                  <a:avLst/>
                </a:prstGeom>
                <a:solidFill>
                  <a:srgbClr val="5a5a5a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54240" y="3776040"/>
                  <a:ext cx="2412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45240" y="3780000"/>
                  <a:ext cx="5400" cy="216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657480" y="3777480"/>
                  <a:ext cx="396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673680" y="3777480"/>
                  <a:ext cx="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496920" y="3760560"/>
                  <a:ext cx="118440" cy="67320"/>
                </a:xfrm>
                <a:prstGeom prst="roundRect">
                  <a:avLst>
                    <a:gd name="adj" fmla="val 1697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627600" y="3772440"/>
                  <a:ext cx="57960" cy="12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"/>
              <p:cNvSpPr/>
              <p:nvPr/>
            </p:nvSpPr>
            <p:spPr>
              <a:xfrm>
                <a:off x="6705720" y="3504600"/>
                <a:ext cx="1371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toneSansSemibold"/>
                  </a:rPr>
                  <a:t>Individual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715000" y="3657600"/>
              <a:ext cx="60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724280" y="3657600"/>
            <a:ext cx="990720" cy="2209680"/>
            <a:chOff x="4724280" y="3657600"/>
            <a:chExt cx="990720" cy="2209680"/>
          </a:xfrm>
        </p:grpSpPr>
        <p:sp>
          <p:nvSpPr>
            <p:cNvPr id="420" name=""/>
            <p:cNvSpPr/>
            <p:nvPr/>
          </p:nvSpPr>
          <p:spPr>
            <a:xfrm>
              <a:off x="5715000" y="3657600"/>
              <a:ext cx="0" cy="22096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24280" y="5562720"/>
              <a:ext cx="9907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24280" y="4724280"/>
              <a:ext cx="9907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24280" y="4038480"/>
              <a:ext cx="9907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048120" y="3581280"/>
            <a:ext cx="2209680" cy="2638440"/>
            <a:chOff x="3048120" y="3581280"/>
            <a:chExt cx="2209680" cy="2638440"/>
          </a:xfrm>
        </p:grpSpPr>
        <p:grpSp>
          <p:nvGrpSpPr>
            <p:cNvPr id="425" name=""/>
            <p:cNvGrpSpPr/>
            <p:nvPr/>
          </p:nvGrpSpPr>
          <p:grpSpPr>
            <a:xfrm>
              <a:off x="4267080" y="5410080"/>
              <a:ext cx="457200" cy="330480"/>
              <a:chOff x="4267080" y="5410080"/>
              <a:chExt cx="457200" cy="330480"/>
            </a:xfrm>
          </p:grpSpPr>
          <p:sp>
            <p:nvSpPr>
              <p:cNvPr id="426" name=""/>
              <p:cNvSpPr/>
              <p:nvPr/>
            </p:nvSpPr>
            <p:spPr>
              <a:xfrm>
                <a:off x="4420080" y="563580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57440" y="565128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32240" y="5410080"/>
                <a:ext cx="327600" cy="2264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37280" y="5413320"/>
                <a:ext cx="317520" cy="2192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72560" y="543492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79040" y="5438880"/>
                <a:ext cx="236160" cy="16200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605840" y="561888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5840" y="561564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67080" y="5659200"/>
                <a:ext cx="457200" cy="81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272480" y="566244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524480" y="568908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72800" y="568080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63800" y="568512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76040" y="568260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92240" y="56826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515480" y="566568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46160" y="567756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3886200" y="55771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toneSansSemibold"/>
                </a:rPr>
                <a:t>Publications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48120" y="3581280"/>
              <a:ext cx="1143000" cy="19814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715000" y="5713200"/>
            <a:ext cx="3276720" cy="554400"/>
            <a:chOff x="5715000" y="5713200"/>
            <a:chExt cx="3276720" cy="554400"/>
          </a:xfrm>
        </p:grpSpPr>
        <p:sp>
          <p:nvSpPr>
            <p:cNvPr id="446" name=""/>
            <p:cNvSpPr/>
            <p:nvPr/>
          </p:nvSpPr>
          <p:spPr>
            <a:xfrm>
              <a:off x="6934320" y="5713200"/>
              <a:ext cx="20574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toneSansSemibold"/>
                </a:rPr>
                <a:t>Local Govern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6248520" y="5715000"/>
              <a:ext cx="457200" cy="329760"/>
              <a:chOff x="6248520" y="5715000"/>
              <a:chExt cx="457200" cy="329760"/>
            </a:xfrm>
          </p:grpSpPr>
          <p:sp>
            <p:nvSpPr>
              <p:cNvPr id="448" name=""/>
              <p:cNvSpPr/>
              <p:nvPr/>
            </p:nvSpPr>
            <p:spPr>
              <a:xfrm>
                <a:off x="6401520" y="594036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38880" y="595584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13680" y="5715000"/>
                <a:ext cx="327600" cy="2260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18720" y="5718240"/>
                <a:ext cx="317520" cy="218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54000" y="573984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60480" y="5743800"/>
                <a:ext cx="236160" cy="16164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87280" y="592344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87280" y="592020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48520" y="5963760"/>
                <a:ext cx="457200" cy="81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53920" y="596700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05920" y="599364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654240" y="598572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645240" y="598968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657480" y="598716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73680" y="59871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96920" y="597024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27600" y="598212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715000" y="5867280"/>
              <a:ext cx="60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952880" y="655560"/>
            <a:ext cx="3352680" cy="2316240"/>
            <a:chOff x="4952880" y="655560"/>
            <a:chExt cx="3352680" cy="2316240"/>
          </a:xfrm>
        </p:grpSpPr>
        <p:sp>
          <p:nvSpPr>
            <p:cNvPr id="467" name=""/>
            <p:cNvSpPr/>
            <p:nvPr/>
          </p:nvSpPr>
          <p:spPr>
            <a:xfrm flipV="1">
              <a:off x="4952880" y="1219320"/>
              <a:ext cx="99072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6019560" y="914400"/>
              <a:ext cx="457200" cy="329760"/>
              <a:chOff x="6019560" y="914400"/>
              <a:chExt cx="457200" cy="329760"/>
            </a:xfrm>
          </p:grpSpPr>
          <p:sp>
            <p:nvSpPr>
              <p:cNvPr id="469" name=""/>
              <p:cNvSpPr/>
              <p:nvPr/>
            </p:nvSpPr>
            <p:spPr>
              <a:xfrm>
                <a:off x="6172560" y="113976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09920" y="115524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084720" y="914400"/>
                <a:ext cx="327600" cy="2260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089760" y="917640"/>
                <a:ext cx="317520" cy="21888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25040" y="93924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31520" y="943200"/>
                <a:ext cx="236160" cy="16164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58320" y="112284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58320" y="111960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19560" y="1163160"/>
                <a:ext cx="457200" cy="81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24960" y="116640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276960" y="119304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25280" y="118512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16280" y="118908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428520" y="118656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44720" y="11865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67960" y="116964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98640" y="118152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6933960" y="655560"/>
              <a:ext cx="13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StoneSansSemibold"/>
                </a:rPr>
                <a:t>Insurance, Consultancies and other spin off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952880" y="1355760"/>
            <a:ext cx="3352680" cy="1616040"/>
            <a:chOff x="4952880" y="1355760"/>
            <a:chExt cx="3352680" cy="1616040"/>
          </a:xfrm>
        </p:grpSpPr>
        <p:sp>
          <p:nvSpPr>
            <p:cNvPr id="488" name=""/>
            <p:cNvSpPr/>
            <p:nvPr/>
          </p:nvSpPr>
          <p:spPr>
            <a:xfrm flipV="1">
              <a:off x="4952880" y="1676520"/>
              <a:ext cx="10666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6019560" y="1523880"/>
              <a:ext cx="457200" cy="330480"/>
              <a:chOff x="6019560" y="1523880"/>
              <a:chExt cx="457200" cy="330480"/>
            </a:xfrm>
          </p:grpSpPr>
          <p:sp>
            <p:nvSpPr>
              <p:cNvPr id="490" name=""/>
              <p:cNvSpPr/>
              <p:nvPr/>
            </p:nvSpPr>
            <p:spPr>
              <a:xfrm>
                <a:off x="6172560" y="174960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09920" y="176508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84720" y="1523880"/>
                <a:ext cx="327600" cy="2264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89760" y="1527120"/>
                <a:ext cx="317520" cy="2192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125040" y="154872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31520" y="1552680"/>
                <a:ext cx="236160" cy="16200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58320" y="173268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358320" y="172944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19560" y="1773000"/>
                <a:ext cx="457200" cy="81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24960" y="177624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76960" y="180288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425280" y="179460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416280" y="179892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28520" y="179640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4720" y="17964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67960" y="177948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98640" y="179136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6933960" y="13557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toneSansSemibold"/>
                </a:rPr>
                <a:t>Land Development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952880" y="2133000"/>
            <a:ext cx="3200400" cy="838440"/>
            <a:chOff x="4952880" y="2133000"/>
            <a:chExt cx="3200400" cy="838440"/>
          </a:xfrm>
        </p:grpSpPr>
        <p:sp>
          <p:nvSpPr>
            <p:cNvPr id="509" name=""/>
            <p:cNvSpPr/>
            <p:nvPr/>
          </p:nvSpPr>
          <p:spPr>
            <a:xfrm flipV="1">
              <a:off x="4952880" y="2361960"/>
              <a:ext cx="10666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81680" y="2133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toneSansSemibold"/>
                </a:rPr>
                <a:t>Commercial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6019560" y="2209680"/>
              <a:ext cx="457200" cy="330480"/>
              <a:chOff x="6019560" y="2209680"/>
              <a:chExt cx="457200" cy="330480"/>
            </a:xfrm>
          </p:grpSpPr>
          <p:sp>
            <p:nvSpPr>
              <p:cNvPr id="512" name=""/>
              <p:cNvSpPr/>
              <p:nvPr/>
            </p:nvSpPr>
            <p:spPr>
              <a:xfrm>
                <a:off x="6172560" y="243540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09920" y="245088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084720" y="2209680"/>
                <a:ext cx="327600" cy="2264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89760" y="2212920"/>
                <a:ext cx="317520" cy="2192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125040" y="223452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131520" y="2238480"/>
                <a:ext cx="236160" cy="16200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58320" y="241848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358320" y="241524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19560" y="2458800"/>
                <a:ext cx="457200" cy="81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24960" y="246204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276960" y="248868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25280" y="248040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16280" y="248472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28520" y="248220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444720" y="24822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67960" y="246528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98640" y="247716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9" name=""/>
          <p:cNvGrpSpPr/>
          <p:nvPr/>
        </p:nvGrpSpPr>
        <p:grpSpPr>
          <a:xfrm>
            <a:off x="609480" y="1295280"/>
            <a:ext cx="7467480" cy="2141640"/>
            <a:chOff x="609480" y="1295280"/>
            <a:chExt cx="7467480" cy="2141640"/>
          </a:xfrm>
        </p:grpSpPr>
        <p:sp>
          <p:nvSpPr>
            <p:cNvPr id="530" name=""/>
            <p:cNvSpPr/>
            <p:nvPr/>
          </p:nvSpPr>
          <p:spPr>
            <a:xfrm>
              <a:off x="6705360" y="26964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toneSansSemibold"/>
                </a:rPr>
                <a:t>Resident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09480" y="1295280"/>
              <a:ext cx="5867280" cy="2141640"/>
              <a:chOff x="609480" y="1295280"/>
              <a:chExt cx="5867280" cy="2141640"/>
            </a:xfrm>
          </p:grpSpPr>
          <p:sp>
            <p:nvSpPr>
              <p:cNvPr id="532" name=""/>
              <p:cNvSpPr/>
              <p:nvPr/>
            </p:nvSpPr>
            <p:spPr>
              <a:xfrm>
                <a:off x="3276360" y="312408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3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1600200"/>
                <a:ext cx="617400" cy="10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609480" y="129528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66880" y="2590920"/>
                <a:ext cx="57312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3809880" y="23299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toneSansSemibold"/>
                  </a:rPr>
                  <a:t>Property Search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toneSansSemibold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4267080" y="2971800"/>
                <a:ext cx="457200" cy="329760"/>
                <a:chOff x="4267080" y="2971800"/>
                <a:chExt cx="457200" cy="3297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420080" y="3197160"/>
                  <a:ext cx="151560" cy="18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357440" y="3212640"/>
                  <a:ext cx="277200" cy="9360"/>
                </a:xfrm>
                <a:prstGeom prst="rect">
                  <a:avLst/>
                </a:prstGeom>
                <a:solidFill>
                  <a:srgbClr val="b4b4b4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32240" y="2971800"/>
                  <a:ext cx="327600" cy="22608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37280" y="2975040"/>
                  <a:ext cx="317520" cy="21888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372560" y="2996640"/>
                  <a:ext cx="249840" cy="170640"/>
                </a:xfrm>
                <a:prstGeom prst="roundRect">
                  <a:avLst>
                    <a:gd name="adj" fmla="val 6903"/>
                  </a:avLst>
                </a:prstGeom>
                <a:solidFill>
                  <a:srgbClr val="dcdc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379040" y="3000600"/>
                  <a:ext cx="236160" cy="161640"/>
                </a:xfrm>
                <a:prstGeom prst="roundRect">
                  <a:avLst>
                    <a:gd name="adj" fmla="val 7245"/>
                  </a:avLst>
                </a:prstGeom>
                <a:solidFill>
                  <a:srgbClr val="005050"/>
                </a:solidFill>
                <a:ln w="12600">
                  <a:solidFill>
                    <a:srgbClr val="ffde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605840" y="3180240"/>
                  <a:ext cx="16920" cy="7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605840" y="3177000"/>
                  <a:ext cx="16920" cy="144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267080" y="3220560"/>
                  <a:ext cx="457200" cy="8100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272480" y="3223800"/>
                  <a:ext cx="446760" cy="7344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524480" y="3250440"/>
                  <a:ext cx="98280" cy="4680"/>
                </a:xfrm>
                <a:prstGeom prst="rect">
                  <a:avLst/>
                </a:prstGeom>
                <a:solidFill>
                  <a:srgbClr val="5a5a5a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672800" y="3242520"/>
                  <a:ext cx="2412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663800" y="3246480"/>
                  <a:ext cx="5400" cy="216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676040" y="3243960"/>
                  <a:ext cx="396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692240" y="3243960"/>
                  <a:ext cx="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515480" y="3227040"/>
                  <a:ext cx="118440" cy="67320"/>
                </a:xfrm>
                <a:prstGeom prst="roundRect">
                  <a:avLst>
                    <a:gd name="adj" fmla="val 1697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646160" y="3238920"/>
                  <a:ext cx="57960" cy="12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676160" y="2057400"/>
                <a:ext cx="9144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6019560" y="2884320"/>
                <a:ext cx="457200" cy="330480"/>
                <a:chOff x="6019560" y="2884320"/>
                <a:chExt cx="457200" cy="330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6172560" y="3110040"/>
                  <a:ext cx="151560" cy="18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109920" y="3125520"/>
                  <a:ext cx="277200" cy="9360"/>
                </a:xfrm>
                <a:prstGeom prst="rect">
                  <a:avLst/>
                </a:prstGeom>
                <a:solidFill>
                  <a:srgbClr val="b4b4b4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084720" y="2884320"/>
                  <a:ext cx="327600" cy="22644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089760" y="2887560"/>
                  <a:ext cx="317520" cy="21924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125040" y="2909160"/>
                  <a:ext cx="249840" cy="170640"/>
                </a:xfrm>
                <a:prstGeom prst="roundRect">
                  <a:avLst>
                    <a:gd name="adj" fmla="val 6903"/>
                  </a:avLst>
                </a:prstGeom>
                <a:solidFill>
                  <a:srgbClr val="dcdc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131520" y="2913120"/>
                  <a:ext cx="236160" cy="162000"/>
                </a:xfrm>
                <a:prstGeom prst="roundRect">
                  <a:avLst>
                    <a:gd name="adj" fmla="val 7245"/>
                  </a:avLst>
                </a:prstGeom>
                <a:solidFill>
                  <a:srgbClr val="005050"/>
                </a:solidFill>
                <a:ln w="12600">
                  <a:solidFill>
                    <a:srgbClr val="ffde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358320" y="3093120"/>
                  <a:ext cx="16920" cy="7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358320" y="3089880"/>
                  <a:ext cx="16920" cy="144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019560" y="3133440"/>
                  <a:ext cx="457200" cy="8136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024960" y="3136680"/>
                  <a:ext cx="446760" cy="73440"/>
                </a:xfrm>
                <a:prstGeom prst="rect">
                  <a:avLst/>
                </a:prstGeom>
                <a:solidFill>
                  <a:srgbClr val="fff1d4"/>
                </a:solidFill>
                <a:ln w="12600">
                  <a:solidFill>
                    <a:srgbClr val="fff1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276960" y="3163320"/>
                  <a:ext cx="98280" cy="4680"/>
                </a:xfrm>
                <a:prstGeom prst="rect">
                  <a:avLst/>
                </a:prstGeom>
                <a:solidFill>
                  <a:srgbClr val="5a5a5a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425280" y="3155040"/>
                  <a:ext cx="2412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416280" y="3159360"/>
                  <a:ext cx="5400" cy="2160"/>
                </a:xfrm>
                <a:prstGeom prst="rect">
                  <a:avLst/>
                </a:prstGeom>
                <a:solidFill>
                  <a:srgbClr val="8dff7e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428520" y="3156840"/>
                  <a:ext cx="396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444720" y="3156840"/>
                  <a:ext cx="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267960" y="3139920"/>
                  <a:ext cx="118440" cy="67320"/>
                </a:xfrm>
                <a:prstGeom prst="roundRect">
                  <a:avLst>
                    <a:gd name="adj" fmla="val 1697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398640" y="3151800"/>
                  <a:ext cx="57960" cy="12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4" name=""/>
              <p:cNvSpPr/>
              <p:nvPr/>
            </p:nvSpPr>
            <p:spPr>
              <a:xfrm>
                <a:off x="4952880" y="29718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0" y="60120"/>
            <a:ext cx="8305920" cy="3079800"/>
            <a:chOff x="0" y="60120"/>
            <a:chExt cx="8305920" cy="3079800"/>
          </a:xfrm>
        </p:grpSpPr>
        <p:grpSp>
          <p:nvGrpSpPr>
            <p:cNvPr id="576" name=""/>
            <p:cNvGrpSpPr/>
            <p:nvPr/>
          </p:nvGrpSpPr>
          <p:grpSpPr>
            <a:xfrm>
              <a:off x="4267080" y="152280"/>
              <a:ext cx="457200" cy="330480"/>
              <a:chOff x="4267080" y="152280"/>
              <a:chExt cx="457200" cy="330480"/>
            </a:xfrm>
          </p:grpSpPr>
          <p:sp>
            <p:nvSpPr>
              <p:cNvPr id="577" name=""/>
              <p:cNvSpPr/>
              <p:nvPr/>
            </p:nvSpPr>
            <p:spPr>
              <a:xfrm>
                <a:off x="4420080" y="378000"/>
                <a:ext cx="151560" cy="18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57440" y="393480"/>
                <a:ext cx="277200" cy="9360"/>
              </a:xfrm>
              <a:prstGeom prst="rect">
                <a:avLst/>
              </a:prstGeom>
              <a:solidFill>
                <a:srgbClr val="b4b4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32240" y="152280"/>
                <a:ext cx="327600" cy="2264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37280" y="155520"/>
                <a:ext cx="317520" cy="2192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72560" y="177120"/>
                <a:ext cx="249840" cy="170640"/>
              </a:xfrm>
              <a:prstGeom prst="roundRect">
                <a:avLst>
                  <a:gd name="adj" fmla="val 6903"/>
                </a:avLst>
              </a:prstGeom>
              <a:solidFill>
                <a:srgbClr val="dcdc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379040" y="181080"/>
                <a:ext cx="236160" cy="162000"/>
              </a:xfrm>
              <a:prstGeom prst="roundRect">
                <a:avLst>
                  <a:gd name="adj" fmla="val 7245"/>
                </a:avLst>
              </a:prstGeom>
              <a:solidFill>
                <a:srgbClr val="005050"/>
              </a:solidFill>
              <a:ln w="12600">
                <a:solidFill>
                  <a:srgbClr val="ffde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605840" y="361080"/>
                <a:ext cx="16920" cy="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05840" y="357840"/>
                <a:ext cx="16920" cy="144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67080" y="401400"/>
                <a:ext cx="457200" cy="81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72480" y="404640"/>
                <a:ext cx="446760" cy="73440"/>
              </a:xfrm>
              <a:prstGeom prst="rect">
                <a:avLst/>
              </a:prstGeom>
              <a:solidFill>
                <a:srgbClr val="fff1d4"/>
              </a:solidFill>
              <a:ln w="12600">
                <a:solidFill>
                  <a:srgbClr val="fff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24480" y="431280"/>
                <a:ext cx="98280" cy="4680"/>
              </a:xfrm>
              <a:prstGeom prst="rect">
                <a:avLst/>
              </a:prstGeom>
              <a:solidFill>
                <a:srgbClr val="5a5a5a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72800" y="423000"/>
                <a:ext cx="24120" cy="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63800" y="427320"/>
                <a:ext cx="5400" cy="2160"/>
              </a:xfrm>
              <a:prstGeom prst="rect">
                <a:avLst/>
              </a:prstGeom>
              <a:solidFill>
                <a:srgbClr val="8dff7e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76040" y="424800"/>
                <a:ext cx="396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692240" y="4248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515480" y="407880"/>
                <a:ext cx="118440" cy="67320"/>
              </a:xfrm>
              <a:prstGeom prst="roundRect">
                <a:avLst>
                  <a:gd name="adj" fmla="val 1697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646160" y="419760"/>
                <a:ext cx="579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60120"/>
              <a:ext cx="8305920" cy="3079800"/>
              <a:chOff x="0" y="60120"/>
              <a:chExt cx="8305920" cy="307980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219492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toneSansSemibold"/>
                  </a:rPr>
                  <a:t>Company identifi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533520" y="60120"/>
                <a:ext cx="7772400" cy="3079800"/>
                <a:chOff x="533520" y="60120"/>
                <a:chExt cx="7772400" cy="30798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724280" y="304920"/>
                  <a:ext cx="1295640" cy="0"/>
                </a:xfrm>
                <a:prstGeom prst="line">
                  <a:avLst/>
                </a:prstGeom>
                <a:ln w="28440">
                  <a:solidFill>
                    <a:srgbClr val="fc012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8" name=""/>
                <p:cNvGrpSpPr/>
                <p:nvPr/>
              </p:nvGrpSpPr>
              <p:grpSpPr>
                <a:xfrm>
                  <a:off x="6019920" y="152280"/>
                  <a:ext cx="457200" cy="330480"/>
                  <a:chOff x="6019920" y="152280"/>
                  <a:chExt cx="457200" cy="33048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6172920" y="378000"/>
                    <a:ext cx="151560" cy="18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6110280" y="393480"/>
                    <a:ext cx="277200" cy="9360"/>
                  </a:xfrm>
                  <a:prstGeom prst="rect">
                    <a:avLst/>
                  </a:prstGeom>
                  <a:solidFill>
                    <a:srgbClr val="b4b4b4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6085080" y="152280"/>
                    <a:ext cx="327600" cy="226440"/>
                  </a:xfrm>
                  <a:prstGeom prst="rect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6090120" y="155520"/>
                    <a:ext cx="317520" cy="219240"/>
                  </a:xfrm>
                  <a:prstGeom prst="rect">
                    <a:avLst/>
                  </a:prstGeom>
                  <a:solidFill>
                    <a:srgbClr val="fff1d4"/>
                  </a:solidFill>
                  <a:ln w="12600">
                    <a:solidFill>
                      <a:srgbClr val="fff1d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6125400" y="177120"/>
                    <a:ext cx="249840" cy="170640"/>
                  </a:xfrm>
                  <a:prstGeom prst="roundRect">
                    <a:avLst>
                      <a:gd name="adj" fmla="val 6903"/>
                    </a:avLst>
                  </a:prstGeom>
                  <a:solidFill>
                    <a:srgbClr val="dcdc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131880" y="181080"/>
                    <a:ext cx="236160" cy="162000"/>
                  </a:xfrm>
                  <a:prstGeom prst="roundRect">
                    <a:avLst>
                      <a:gd name="adj" fmla="val 7245"/>
                    </a:avLst>
                  </a:prstGeom>
                  <a:solidFill>
                    <a:srgbClr val="005050"/>
                  </a:solidFill>
                  <a:ln w="12600">
                    <a:solidFill>
                      <a:srgbClr val="ffdeb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358680" y="361080"/>
                    <a:ext cx="16920" cy="72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358680" y="357840"/>
                    <a:ext cx="16920" cy="1440"/>
                  </a:xfrm>
                  <a:prstGeom prst="rect">
                    <a:avLst/>
                  </a:prstGeom>
                  <a:solidFill>
                    <a:srgbClr val="8dff7e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6019920" y="401400"/>
                    <a:ext cx="457200" cy="81360"/>
                  </a:xfrm>
                  <a:prstGeom prst="rect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6025320" y="404640"/>
                    <a:ext cx="446760" cy="73440"/>
                  </a:xfrm>
                  <a:prstGeom prst="rect">
                    <a:avLst/>
                  </a:prstGeom>
                  <a:solidFill>
                    <a:srgbClr val="fff1d4"/>
                  </a:solidFill>
                  <a:ln w="12600">
                    <a:solidFill>
                      <a:srgbClr val="fff1d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6277320" y="431280"/>
                    <a:ext cx="98280" cy="4680"/>
                  </a:xfrm>
                  <a:prstGeom prst="rect">
                    <a:avLst/>
                  </a:prstGeom>
                  <a:solidFill>
                    <a:srgbClr val="5a5a5a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6425640" y="423000"/>
                    <a:ext cx="24120" cy="68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416640" y="427320"/>
                    <a:ext cx="5400" cy="2160"/>
                  </a:xfrm>
                  <a:prstGeom prst="rect">
                    <a:avLst/>
                  </a:prstGeom>
                  <a:solidFill>
                    <a:srgbClr val="8dff7e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6428880" y="424800"/>
                    <a:ext cx="3960" cy="2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445080" y="424800"/>
                    <a:ext cx="0" cy="2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268320" y="407880"/>
                    <a:ext cx="118440" cy="67320"/>
                  </a:xfrm>
                  <a:prstGeom prst="roundRect">
                    <a:avLst>
                      <a:gd name="adj" fmla="val 1697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399000" y="419760"/>
                    <a:ext cx="5796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>
                  <a:off x="3886200" y="380520"/>
                  <a:ext cx="2057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toneSansSemibold"/>
                    </a:rPr>
                    <a:t>Financial Investme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61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33520" y="2590920"/>
                  <a:ext cx="312480" cy="54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>
                  <a:off x="838080" y="2819520"/>
                  <a:ext cx="1676520" cy="152280"/>
                </a:xfrm>
                <a:prstGeom prst="line">
                  <a:avLst/>
                </a:prstGeom>
                <a:ln w="28440">
                  <a:solidFill>
                    <a:srgbClr val="fc012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19" name=""/>
                <p:cNvCxnSpPr>
                  <a:endCxn id="580" idx="1"/>
                </p:cNvCxnSpPr>
                <p:nvPr/>
              </p:nvCxnSpPr>
              <p:spPr>
                <a:xfrm flipH="1" flipV="1" rot="5400000">
                  <a:off x="2507760" y="728280"/>
                  <a:ext cx="2293200" cy="1365840"/>
                </a:xfrm>
                <a:prstGeom prst="bentConnector2">
                  <a:avLst/>
                </a:prstGeom>
                <a:ln w="28440">
                  <a:solidFill>
                    <a:srgbClr val="fc0128"/>
                  </a:solidFill>
                  <a:miter/>
                  <a:tailEnd len="med" type="triangle" w="med"/>
                </a:ln>
              </p:spPr>
            </p:cxnSp>
            <p:sp>
              <p:nvSpPr>
                <p:cNvPr id="620" name=""/>
                <p:cNvSpPr/>
                <p:nvPr/>
              </p:nvSpPr>
              <p:spPr>
                <a:xfrm>
                  <a:off x="6934320" y="60120"/>
                  <a:ext cx="13716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StoneSansSemibold"/>
                    </a:rPr>
                    <a:t>Financial Services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fra/UNEP Capacity Building Proje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Funded by UK/Defra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ECCA count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UNE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fra/UNEP Capacity Building Proje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untries will benefit from shared benefits and experiences, and shared and co-ordinated resources (e.g. licensing agreement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teroperable systems and common standards will allow information to be shared, accessed and used without confinement to political bounda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nsider relevance to the use, development and applicability of the UNEP.net global por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 Outl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pilots/proof of conce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liver a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ender consis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funding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user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 Frame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 algn="just">
              <a:lnSpc>
                <a:spcPct val="85000"/>
              </a:lnSpc>
              <a:spcBef>
                <a:spcPts val="1874"/>
              </a:spcBef>
              <a:buClr>
                <a:srgbClr val="ffff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erivation and Assessment of a framework for the delivery of information services that includ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85000"/>
              </a:lnSpc>
              <a:spcBef>
                <a:spcPts val="1624"/>
              </a:spcBef>
              <a:buClr>
                <a:srgbClr val="ffff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finition of use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85000"/>
              </a:lnSpc>
              <a:spcBef>
                <a:spcPts val="1624"/>
              </a:spcBef>
              <a:buClr>
                <a:srgbClr val="ffff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finition of data and information requirements and associated standa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85000"/>
              </a:lnSpc>
              <a:spcBef>
                <a:spcPts val="1624"/>
              </a:spcBef>
              <a:buClr>
                <a:srgbClr val="ffff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nteroperable technical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85000"/>
              </a:lnSpc>
              <a:spcBef>
                <a:spcPts val="1624"/>
              </a:spcBef>
              <a:buClr>
                <a:srgbClr val="ffff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dentification of funding streams and opportun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85000"/>
              </a:lnSpc>
              <a:spcBef>
                <a:spcPts val="1624"/>
              </a:spcBef>
              <a:buClr>
                <a:srgbClr val="ffff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esolution of data policy and legal iss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85000"/>
              </a:lnSpc>
              <a:spcBef>
                <a:spcPts val="1624"/>
              </a:spcBef>
              <a:buClr>
                <a:srgbClr val="ffff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4:13:43Z</dcterms:created>
  <dc:creator>pchatfield</dc:creator>
  <dc:description/>
  <dc:language>en-US</dc:language>
  <cp:lastModifiedBy>stancic</cp:lastModifiedBy>
  <cp:lastPrinted>2003-12-02T17:54:52Z</cp:lastPrinted>
  <dcterms:modified xsi:type="dcterms:W3CDTF">2004-02-24T08:43:19Z</dcterms:modified>
  <cp:revision>58</cp:revision>
  <dc:subject/>
  <dc:title>READ THIS FIRST</dc:title>
</cp:coreProperties>
</file>