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484280"/>
            <a:ext cx="87138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50920" y="1197000"/>
            <a:ext cx="8642160" cy="79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NTORY = All information in on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ses.rusrec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08000" y="115920"/>
            <a:ext cx="648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RHUS ACTIV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LECTRON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USSIAN REGIONAL ENVIRONMENTA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79280" y="476280"/>
            <a:ext cx="626436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43640" y="836640"/>
            <a:ext cx="255924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72908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6238800"/>
            <a:ext cx="8642160" cy="50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base of metadata on environment in Russ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6560" y="2101680"/>
          <a:ext cx="4105440" cy="219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6560" y="2101680"/>
                    <a:ext cx="41054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79280" y="3478320"/>
          <a:ext cx="5184720" cy="239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3478320"/>
                    <a:ext cx="518472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356000" y="2432160"/>
            <a:ext cx="6553440" cy="2004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554200" y="4076640"/>
            <a:ext cx="658980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03640" y="3645000"/>
            <a:ext cx="2305080" cy="504720"/>
          </a:xfrm>
          <a:prstGeom prst="wedgeEllipseCallout">
            <a:avLst>
              <a:gd name="adj1" fmla="val -69629"/>
              <a:gd name="adj2" fmla="val 12956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ull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3645000"/>
            <a:ext cx="1152360" cy="431640"/>
          </a:xfrm>
          <a:prstGeom prst="wedgeEllipseCallout">
            <a:avLst>
              <a:gd name="adj1" fmla="val -209916"/>
              <a:gd name="adj2" fmla="val 17022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76640"/>
            <a:ext cx="1619280" cy="720720"/>
          </a:xfrm>
          <a:prstGeom prst="wedgeEllipseCallout">
            <a:avLst>
              <a:gd name="adj1" fmla="val 60884"/>
              <a:gd name="adj2" fmla="val 746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arch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276640"/>
            <a:ext cx="1619280" cy="720720"/>
          </a:xfrm>
          <a:prstGeom prst="wedgeEllipseCallout">
            <a:avLst>
              <a:gd name="adj1" fmla="val 211472"/>
              <a:gd name="adj2" fmla="val -2865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arch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276640"/>
            <a:ext cx="1619280" cy="720720"/>
          </a:xfrm>
          <a:prstGeom prst="wedgeEllipseCallout">
            <a:avLst>
              <a:gd name="adj1" fmla="val 20097"/>
              <a:gd name="adj2" fmla="val 16101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earch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197000"/>
            <a:ext cx="8642160" cy="9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is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ww.rusrec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115920"/>
            <a:ext cx="648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RHUS ACTIV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LECTRON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USSIAN REGIONAL ENVIRONMENTA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76280"/>
            <a:ext cx="626436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836640"/>
            <a:ext cx="255924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729080" cy="50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347920"/>
            <a:ext cx="4033800" cy="41767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*) Database of legislative act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*) Legislative proces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calendar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texts of draft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experts assessment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*) Public consultations/discussions on draft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00600" y="2625840"/>
          <a:ext cx="3984480" cy="26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0600" y="2625840"/>
                    <a:ext cx="3984480" cy="2641320"/>
                  </a:xfrm>
                  <a:prstGeom prst="rect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836960" y="4137120"/>
          <a:ext cx="4056120" cy="21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36960" y="4137120"/>
                    <a:ext cx="4056120" cy="2100240"/>
                  </a:xfrm>
                  <a:prstGeom prst="rect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2781360"/>
            <a:ext cx="4105080" cy="3456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erts 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net news  digest on RREC web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 with mass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press-clu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197000"/>
            <a:ext cx="86421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ally Modified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115920"/>
            <a:ext cx="648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RHUS ACTIV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LECTRON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USSIAN REGIONAL ENVIRONMENTA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476280"/>
            <a:ext cx="626436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836640"/>
            <a:ext cx="255924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729080" cy="50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4859280" y="2133720"/>
          <a:ext cx="3697200" cy="21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133720"/>
                    <a:ext cx="369720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940360" y="3933720"/>
            <a:ext cx="3059280" cy="14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1197000"/>
            <a:ext cx="8642160" cy="316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’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s network actively participate in forming of EECCA regional information field and prepare several project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elaboration of Web-portal for EECCA Environmental Strate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velopment of data-base for EECCA Environmental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y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establishment of  news mailing and electronic forum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115920"/>
            <a:ext cx="648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RHUS ACTIV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LECTRON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USSIAN REGIONAL ENVIRONMENTA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476280"/>
            <a:ext cx="626436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43640" y="836640"/>
            <a:ext cx="255924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729080" cy="501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411280" y="4437000"/>
            <a:ext cx="49150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8:50:01Z</dcterms:created>
  <dc:creator>ws1</dc:creator>
  <dc:description/>
  <dc:language>en-US</dc:language>
  <cp:lastModifiedBy>stancic</cp:lastModifiedBy>
  <dcterms:modified xsi:type="dcterms:W3CDTF">2004-02-24T10:09:59Z</dcterms:modified>
  <cp:revision>165</cp:revision>
  <dc:subject/>
  <dc:title>Слайд 1</dc:title>
</cp:coreProperties>
</file>