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1FB-00BD-4E31-88EA-EFA4F5B3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C06-40E6-483A-92DD-169EA693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086-2A04-4CDC-B26C-6D4B7EC0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CFE-C193-4F24-BBCB-7EDD35B0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994-1D90-4DD0-8911-96442E38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E4C-7854-4A8C-9126-7590B49D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E5B-9957-4605-B41C-28E46F90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A1F-AC2E-4C12-9AB7-EDF9574C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E3D-6098-44E8-88ED-8F37C1B2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378-F8FB-4F6C-95D3-A01C78FD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A77-7542-423E-9840-746A20EF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6F5-871B-4D4B-84DB-7454611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spcBef>
                <a:spcPts val="799"/>
              </a:spcBef>
              <a:buClr>
                <a:srgbClr val="006633"/>
              </a:buClr>
              <a:buFont typeface="Times New Roman CE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31480" indent="-226080">
              <a:spcBef>
                <a:spcPts val="799"/>
              </a:spcBef>
              <a:buClr>
                <a:srgbClr val="0066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3" marL="1584000" indent="-226080">
              <a:spcBef>
                <a:spcPts val="799"/>
              </a:spcBef>
              <a:buClr>
                <a:srgbClr val="006633"/>
              </a:buClr>
              <a:buFont typeface="Times New Roman CE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4" marL="2036520" indent="-226080">
              <a:spcBef>
                <a:spcPts val="799"/>
              </a:spcBef>
              <a:buClr>
                <a:srgbClr val="0066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5" marL="2036520" indent="-226080">
              <a:spcBef>
                <a:spcPts val="799"/>
              </a:spcBef>
              <a:buClr>
                <a:srgbClr val="0066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6" marL="2036520" indent="-226080">
              <a:spcBef>
                <a:spcPts val="799"/>
              </a:spcBef>
              <a:buClr>
                <a:srgbClr val="0066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40EF38-7D65-4636-A552-9D6CA9235642}" type="slidenum"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image" Target="../media/image1.wmf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 algn="ctr">
              <a:lnSpc>
                <a:spcPct val="90000"/>
              </a:lnSpc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Environmental Information System in Hungary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Agnes Martosné Bartha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 algn="ctr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 CE"/>
              </a:rPr>
              <a:t>Aarhus Convention’s Task Force on Electronic Tools</a:t>
            </a:r>
            <a:endParaRPr b="0" lang="en-US" sz="1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 algn="ctr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 CE"/>
              </a:rPr>
              <a:t>2nd Meeting 26-27. January 2004</a:t>
            </a:r>
            <a:endParaRPr b="0" lang="en-US" sz="1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 algn="ctr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 CE"/>
              </a:rPr>
              <a:t>Geneva</a:t>
            </a:r>
            <a:endParaRPr b="0" lang="en-US" sz="18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335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"/>
              </a:rPr>
              <a:t>Ministry of Environment and Water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8E7-A725-48C7-A534-05A192CF52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International co-operation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buClr>
                <a:srgbClr val="ff00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OECD/EU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biannual data collection on the state of the environment   and environmental expenditures of society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U (EEA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connection to the EIONET network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Dobøiš+3 Repor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U’98 Repor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KIEV’2003 European SoE Ripor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CA1-60B7-49D9-8C38-EF439E1188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Publication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6633"/>
              </a:solidFill>
              <a:latin typeface="Times New Roman CE"/>
            </a:endParaRPr>
          </a:p>
          <a:p>
            <a:pPr marL="339480" indent="-339480">
              <a:lnSpc>
                <a:spcPct val="90000"/>
              </a:lnSpc>
              <a:buClr>
                <a:srgbClr val="ff00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Environmental Indicators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Environmental Indicators of Hungary 2000; 2002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Main Environmental Indicators of Hungary 2000; 2002;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Main Environmental Indicators of Hungary 2003 (mini CD)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Key Environmental Indicators of Hungary 2002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Environmental Pressure Indicators of Hungary 2003 (joint publication with HCSO, in Hungarian only)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Environmental Data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Environmental Statistical Data of Hungary (yearbook of HCSO since 1996)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35480" indent="-282960">
              <a:lnSpc>
                <a:spcPct val="9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0" lang="hu-HU" sz="2000" spc="-1" strike="noStrike">
                <a:solidFill>
                  <a:srgbClr val="006633"/>
                </a:solidFill>
                <a:latin typeface="Times New Roman CE"/>
              </a:rPr>
              <a:t>OECD Environmental Data Compendium (biannual publication since 1997, in Hungarian)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C3B-C685-4FEB-92A6-232CC3E7FB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41280" y="1752480"/>
            <a:ext cx="66614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10bb0"/>
                </a:solidFill>
                <a:latin typeface="Times New Roman"/>
              </a:rPr>
              <a:t>Ministry’s Information Centre (GRID-Budapest) - NFP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2400a"/>
                </a:solidFill>
                <a:latin typeface="Times New Roman"/>
              </a:rPr>
              <a:t>Institutes belonging to the Ministry - NRC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ff0033"/>
                </a:solidFill>
                <a:latin typeface="Times New Roman"/>
              </a:rPr>
              <a:t>Other ministries &amp; institutes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8080"/>
                </a:solidFill>
                <a:latin typeface="Times New Roman"/>
              </a:rPr>
              <a:t>International co-operation (EEA, OECD, UNEP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6840" y="1758960"/>
            <a:ext cx="5778720" cy="273060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6840" y="2139840"/>
            <a:ext cx="4940280" cy="19684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6840" y="2444760"/>
            <a:ext cx="4025880" cy="1359000"/>
          </a:xfrm>
          <a:prstGeom prst="ellipse">
            <a:avLst/>
          </a:prstGeom>
          <a:solidFill>
            <a:srgbClr val="c2400a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6840" y="2825640"/>
            <a:ext cx="1663920" cy="596880"/>
          </a:xfrm>
          <a:prstGeom prst="ellipse">
            <a:avLst/>
          </a:prstGeom>
          <a:solidFill>
            <a:srgbClr val="c10bb0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ADE-0B31-4A4D-AE57-F681BF7A0B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Data dissemination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inspectorates, directorates, national parks (regional level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/ UNEP/GRID-Budapest/KGI (national level -   aggregated data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IONET/thematic centres with GIS database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biannual report on the state of the environment (for the </a:t>
            </a:r>
            <a:br>
              <a:rPr sz="2400"/>
            </a:b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Parliament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information for decision makers and public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05600" indent="-271440">
              <a:lnSpc>
                <a:spcPct val="9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Public Service Office</a:t>
            </a:r>
            <a:r>
              <a:rPr b="0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EE6-2F55-4CCC-955C-3CDE3C7160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Connection to EU/EIONET network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Structure of Hungarian EIONET member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-32904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Water (Final Report of VITUKI Rt. „Performing the Tasks of the EEA’s EUROWATERNET System in Hungary for Surface Waters and Groundwater”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-32904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Terrestrial Environmen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-32904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Air and Climate Change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-32904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Natural protection and Biodiversity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-32904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Waste and Material Flow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  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53E-ECCF-4CDE-B92B-986CC6152C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Connection to EU/EIONET network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-270720">
              <a:spcBef>
                <a:spcPts val="601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Objectiv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-270720">
              <a:spcBef>
                <a:spcPts val="601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Descrip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586800" indent="-225720">
              <a:spcBef>
                <a:spcPts val="499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National Reference Centres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586800" indent="-225720">
              <a:spcBef>
                <a:spcPts val="499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EIONET Legislation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586800" indent="-225720">
              <a:spcBef>
                <a:spcPts val="499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Link-up of the National EIONET Institutions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586800" indent="-225720">
              <a:spcBef>
                <a:spcPts val="499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 CE"/>
              </a:rPr>
              <a:t>Data Modelling</a:t>
            </a: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58680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6633"/>
              </a:solidFill>
              <a:latin typeface="Times New Roman CE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73D-9ABF-43D2-92FD-2640FBE56B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Projects in order to meet Objectives (1.)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National Reference Centr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-29160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results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of the survey and comparis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-29160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list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of Hungarian institutions to be join to EIONE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-29160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reasons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why these institutions are on the lis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-29160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suggestions for measures to be taken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to transform institutions to be members of the EIONE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EIONET Legisla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Institutional network needs elaboration of legal, organisational and financial background and basis. 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Governmental decree.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0CD-A908-4D64-8A3E-1B08C48CCA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Projects in order to meet Objectives (2.)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Link-up of the National EIONET Institution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quipment supply determining the hardware development of the different institutions 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basic software supply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construction of the network (institutions with each other and national centre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software - specific unified data exchange standard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training of staff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CE5-9A15-4186-9305-582C44CD1B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Projects in order to meet Objectives (3.) 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 u="sng">
                <a:solidFill>
                  <a:srgbClr val="006633"/>
                </a:solidFill>
                <a:uFillTx/>
                <a:latin typeface="Times New Roman CE"/>
              </a:rPr>
              <a:t>Data Modelling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nvironmental and integrated environmental-economical model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information for decision makers, environmental politics and general public</a:t>
            </a: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33"/>
              </a:buClr>
              <a:buSzPct val="8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PUBLIC</a:t>
            </a:r>
            <a:r>
              <a:rPr b="1" lang="hu-HU" sz="3200" spc="-1" strike="noStrike">
                <a:solidFill>
                  <a:srgbClr val="006633"/>
                </a:solidFill>
                <a:latin typeface="Times New Roman CE"/>
              </a:rPr>
              <a:t>:</a:t>
            </a:r>
            <a:endParaRPr b="0" lang="en-US" sz="32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WWW.KVVM.HU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EEA: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http://nfp-hu.eionet.eu.int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D29-3B8B-4A2E-9079-5E60CA4A90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934320" y="2590920"/>
          <a:ext cx="173340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590920"/>
                    <a:ext cx="17334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1600" y="2438280"/>
            <a:ext cx="1765440" cy="133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447920" y="2666880"/>
          <a:ext cx="449280" cy="5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666880"/>
                    <a:ext cx="449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209680" y="2666880"/>
          <a:ext cx="703440" cy="96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2666880"/>
                    <a:ext cx="703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391520" y="2743200"/>
          <a:ext cx="703080" cy="968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91520" y="2743200"/>
                    <a:ext cx="7030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315200" y="5334120"/>
          <a:ext cx="703440" cy="968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15200" y="5334120"/>
                    <a:ext cx="703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509120" y="1828800"/>
            <a:ext cx="143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80080" y="1828800"/>
            <a:ext cx="2323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33"/>
                </a:solidFill>
                <a:latin typeface="Times New Roman"/>
              </a:rPr>
              <a:t>Internet Map Sever</a:t>
            </a:r>
            <a:endParaRPr b="0" lang="en-US" sz="2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09560" y="6324480"/>
            <a:ext cx="175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Database server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2860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22860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8200" y="2895480"/>
            <a:ext cx="3044880" cy="0"/>
          </a:xfrm>
          <a:prstGeom prst="line">
            <a:avLst/>
          </a:prstGeom>
          <a:ln w="1260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07840" y="3352680"/>
            <a:ext cx="2968920" cy="0"/>
          </a:xfrm>
          <a:prstGeom prst="line">
            <a:avLst/>
          </a:prstGeom>
          <a:ln w="1260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7480" y="4041720"/>
            <a:ext cx="0" cy="1063800"/>
          </a:xfrm>
          <a:prstGeom prst="line">
            <a:avLst/>
          </a:prstGeom>
          <a:ln w="1260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4039920"/>
            <a:ext cx="0" cy="987480"/>
          </a:xfrm>
          <a:prstGeom prst="line">
            <a:avLst/>
          </a:prstGeom>
          <a:ln w="1260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334120"/>
            <a:ext cx="4343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66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no direct communication between the web server and the database server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buClr>
                <a:srgbClr val="0066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shared resources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buClr>
                <a:srgbClr val="0066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higher security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87320" y="2500200"/>
            <a:ext cx="139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map request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86600" y="3414600"/>
            <a:ext cx="139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created map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160" y="4343400"/>
            <a:ext cx="127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SQL query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42670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Times New Roman"/>
              </a:rPr>
              <a:t>result of the query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2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3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384-D615-4BCB-B35B-C3782206E8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Main  tasks of the Ministry: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48" name=""/>
          <p:cNvSpPr/>
          <p:nvPr/>
        </p:nvSpPr>
        <p:spPr>
          <a:xfrm>
            <a:off x="484200" y="2895480"/>
            <a:ext cx="835488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elaboration of governmental policy 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preparation of legal measures and control of  efficiency                                              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preparation of Government’s decision making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winning the public over to environment  protection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information of decision makers and citizens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international co-operation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A2A-92FB-441E-897D-D8EF60F8ED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Basic structure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Deputy State Secretary for Environmental Protection, for Nature Conservation, for Water Affair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12 Environmental Inspectorate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12 Water Directorat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12 Water Inspectorat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10 National Park Directorat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Aft>
                <a:spcPts val="9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Environmental Management Institute (KGI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335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"/>
              </a:rPr>
              <a:t>Ministry of Environment and Water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3DF-3B71-4FF4-993E-EDDB9656FD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    </a:t>
            </a: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Institutes collect data concerning of the environment :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 of Agriculture and Rural Developmen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 of Economic Affair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 for Information and Telecommunica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inistry of Health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lnSpc>
                <a:spcPct val="13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Hungarian Central Statistical Office (HCSO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8FA-4ABE-43DA-99D4-D3CE01C826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Data by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measurement - monitoring (sampling, on-line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statistical sampling, data collec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official control (measurement, penalty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self report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remote sensing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B75-404D-438A-89B7-372FF65BEE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Accesibility of data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Constitution (1949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Act on Data Protection (1992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Act on Statistics (1993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Act on the General Rules of Environmental 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Protection (1995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Cabinet Order on National Statistical Data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 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Collection Programme (1998) - yearly up-dated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lnSpc>
                <a:spcPct val="120000"/>
              </a:lnSpc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Ratification of the Aarhus Convention (2001)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D6C-0F9A-4952-A213-81231ABD19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-343080">
              <a:spcBef>
                <a:spcPts val="700"/>
              </a:spcBef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Environmental Information System - what for?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Help to formulate environmental policy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Give background for legislation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Ensure public acces to the information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1DB-7377-4BA2-A05A-1A0EA266C0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33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What was the situation at the beginning ?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spcAft>
                <a:spcPts val="24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out of date legal regula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spcAft>
                <a:spcPts val="24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not harmonized data-collection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spcAft>
                <a:spcPts val="2401"/>
              </a:spcAft>
              <a:buClr>
                <a:srgbClr val="006633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 CE"/>
              </a:rPr>
              <a:t>separate databases</a:t>
            </a:r>
            <a:endParaRPr b="0" lang="en-US" sz="2400" spc="-1" strike="noStrike">
              <a:solidFill>
                <a:srgbClr val="006633"/>
              </a:solidFill>
              <a:latin typeface="Times New Roman CE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A6E-5A9E-4E56-96AD-017177AB4B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GRID Budapest</a:t>
            </a:r>
            <a:br>
              <a:rPr sz="2000"/>
            </a:br>
            <a:r>
              <a:rPr b="1" lang="hu-HU" sz="2400" spc="-1" strike="noStrike">
                <a:solidFill>
                  <a:srgbClr val="52d729"/>
                </a:solidFill>
                <a:latin typeface="Times New Roman CE"/>
              </a:rPr>
              <a:t>Ministry of Environment and Water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33"/>
              </a:buClr>
              <a:buFont typeface="Times New Roman CE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06633"/>
                </a:solidFill>
                <a:latin typeface="Times New Roman CE"/>
              </a:rPr>
              <a:t>New legal framework</a:t>
            </a:r>
            <a:endParaRPr b="0" lang="en-US" sz="2800" spc="-1" strike="noStrike">
              <a:solidFill>
                <a:srgbClr val="006633"/>
              </a:solidFill>
              <a:latin typeface="Times New Roman CE"/>
            </a:endParaRPr>
          </a:p>
        </p:txBody>
      </p:sp>
      <p:sp>
        <p:nvSpPr>
          <p:cNvPr id="78" name=""/>
          <p:cNvSpPr/>
          <p:nvPr/>
        </p:nvSpPr>
        <p:spPr>
          <a:xfrm>
            <a:off x="-99360" y="2532240"/>
            <a:ext cx="9343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ff00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>
                <a:solidFill>
                  <a:srgbClr val="006633"/>
                </a:solidFill>
                <a:latin typeface="Times New Roman"/>
              </a:rPr>
              <a:t>Act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on the General Rules of Environmental Protection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(1995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on Nature Conservation (1996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on Regional Development &amp; Regional Planning 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  (1996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on Housing and Construction (1997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Times New Roman"/>
              </a:rPr>
              <a:t>on Waste Management (2000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33"/>
              </a:buClr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buClr>
                <a:srgbClr val="ff00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i="1" lang="hu-HU" sz="2400" spc="-1" strike="noStrike">
                <a:solidFill>
                  <a:srgbClr val="006633"/>
                </a:solidFill>
                <a:latin typeface="Times New Roman"/>
              </a:rPr>
              <a:t>National Environment Programme (1997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buClr>
                <a:srgbClr val="ff00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hu-HU" sz="24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i="1" lang="hu-HU" sz="2400" spc="-1" strike="noStrike">
                <a:solidFill>
                  <a:srgbClr val="006633"/>
                </a:solidFill>
                <a:latin typeface="Times New Roman"/>
              </a:rPr>
              <a:t>National Concept of Regional Policy (1997)</a:t>
            </a:r>
            <a:endParaRPr b="0" lang="en-US" sz="2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988400" y="746280"/>
            <a:ext cx="69984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0476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402-1E7C-4C45-AD63-4AC9EC2BA3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1T20:47:32Z</dcterms:created>
  <dc:creator>Bozó Pál</dc:creator>
  <dc:description/>
  <dc:language>en-US</dc:language>
  <cp:lastModifiedBy>Martosné Bartha Ágnes</cp:lastModifiedBy>
  <cp:lastPrinted>2001-03-06T11:56:47Z</cp:lastPrinted>
  <dcterms:modified xsi:type="dcterms:W3CDTF">2004-01-21T11:10:22Z</dcterms:modified>
  <cp:revision>35</cp:revision>
  <dc:subject/>
  <dc:title>        Ministry for Environment and Regional Policy</dc:title>
</cp:coreProperties>
</file>