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942-39FC-40D5-8E1B-05C54A03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21E-A2E6-433B-BECE-CB1ECEFF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A2C-D53E-4DAD-8178-74C2FE2E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DDA-1F2D-49BC-A09A-2395A47A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FA2-33C2-4194-9622-7B63A979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ADD-F915-40A3-8EB8-D2AAB5B8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808-7DDF-4B55-A3CC-14277498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701-FB53-4E8C-95FB-E2DE8750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238-929E-481E-82FD-51250BFE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A5E-E321-41F3-9104-F8BD4FC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5D2-7F49-4CE7-8D22-36CA3E1F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296-C144-4580-917C-3919ECE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spcBef>
                <a:spcPts val="799"/>
              </a:spcBef>
              <a:buClr>
                <a:srgbClr val="006633"/>
              </a:buClr>
              <a:buFont typeface="Times New Roman CE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31480" indent="-226080">
              <a:spcBef>
                <a:spcPts val="799"/>
              </a:spcBef>
              <a:buClr>
                <a:srgbClr val="0066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3" marL="1584000" indent="-226080">
              <a:spcBef>
                <a:spcPts val="799"/>
              </a:spcBef>
              <a:buClr>
                <a:srgbClr val="006633"/>
              </a:buClr>
              <a:buFont typeface="Times New Roman CE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4" marL="2036520" indent="-226080">
              <a:spcBef>
                <a:spcPts val="799"/>
              </a:spcBef>
              <a:buClr>
                <a:srgbClr val="0066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5" marL="2036520" indent="-226080">
              <a:spcBef>
                <a:spcPts val="799"/>
              </a:spcBef>
              <a:buClr>
                <a:srgbClr val="0066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6" marL="2036520" indent="-226080">
              <a:spcBef>
                <a:spcPts val="799"/>
              </a:spcBef>
              <a:buClr>
                <a:srgbClr val="0066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576EDA-F354-41D6-AC1F-E45D68287232}" type="slidenum"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image" Target="../media/image1.wmf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 algn="ctr">
              <a:lnSpc>
                <a:spcPct val="90000"/>
              </a:lnSpc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Environmental Information System in Hungary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Agnes Martosné Bartha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 algn="ctr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 CE"/>
              </a:rPr>
              <a:t>Aarhus Convention’s Task Force on Electronic Tools</a:t>
            </a:r>
            <a:endParaRPr b="0" lang="en-US" sz="1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 algn="ctr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 CE"/>
              </a:rPr>
              <a:t>2nd Meeting 26-27. January 2004</a:t>
            </a:r>
            <a:endParaRPr b="0" lang="en-US" sz="1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 algn="ctr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 CE"/>
              </a:rPr>
              <a:t>Geneva</a:t>
            </a:r>
            <a:endParaRPr b="0" lang="en-US" sz="18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335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"/>
              </a:rPr>
              <a:t>Ministry of Environment and Water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70C-ECB2-45F6-B80A-E044688644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International co-operation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buClr>
                <a:srgbClr val="ff00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OECD/EU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biannual data collection on the state of the environment   and environmental expenditures of society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U (EEA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connection to the EIONET network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Dobøiš+3 Repor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U’98 Repor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KIEV’2003 European SoE Ripor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6F2-B5E7-4F1C-8500-83196353B2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Publication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6633"/>
              </a:solidFill>
              <a:latin typeface="Times New Roman CE"/>
            </a:endParaRPr>
          </a:p>
          <a:p>
            <a:pPr marL="339480" indent="-339480">
              <a:lnSpc>
                <a:spcPct val="90000"/>
              </a:lnSpc>
              <a:buClr>
                <a:srgbClr val="ff00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Environmental Indicators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Environmental Indicators of Hungary 2000; 2002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Main Environmental Indicators of Hungary 2000; 2002;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Main Environmental Indicators of Hungary 2003 (mini CD)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Key Environmental Indicators of Hungary 2002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Environmental Pressure Indicators of Hungary 2003 (joint publication with HCSO, in Hungarian only)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Environmental Data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Environmental Statistical Data of Hungary (yearbook of HCSO since 1996)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OECD Environmental Data Compendium (biannual publication since 1997, in Hungarian)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C4C-FE9F-431B-954B-290C015B20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41280" y="1752480"/>
            <a:ext cx="66614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10bb0"/>
                </a:solidFill>
                <a:latin typeface="Times New Roman"/>
              </a:rPr>
              <a:t>Ministry’s Information Centre (GRID-Budapest) - NFP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2400a"/>
                </a:solidFill>
                <a:latin typeface="Times New Roman"/>
              </a:rPr>
              <a:t>Institutes belonging to the Ministry - NRC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ff0033"/>
                </a:solidFill>
                <a:latin typeface="Times New Roman"/>
              </a:rPr>
              <a:t>Other ministries &amp; institutes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8080"/>
                </a:solidFill>
                <a:latin typeface="Times New Roman"/>
              </a:rPr>
              <a:t>International co-operation (EEA, OECD, UNEP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6840" y="1758960"/>
            <a:ext cx="5778720" cy="273060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6840" y="2139840"/>
            <a:ext cx="4940280" cy="19684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6840" y="2444760"/>
            <a:ext cx="4025880" cy="1359000"/>
          </a:xfrm>
          <a:prstGeom prst="ellipse">
            <a:avLst/>
          </a:prstGeom>
          <a:solidFill>
            <a:srgbClr val="c2400a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6840" y="2825640"/>
            <a:ext cx="1663920" cy="596880"/>
          </a:xfrm>
          <a:prstGeom prst="ellipse">
            <a:avLst/>
          </a:prstGeom>
          <a:solidFill>
            <a:srgbClr val="c10bb0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340-B383-430B-84D8-210EE668D9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Data dissemination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inspectorates, directorates, national parks (regional level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/ UNEP/GRID-Budapest/KGI (national level -   aggregated data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IONET/thematic centres with GIS database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biannual report on the state of the environment (for the </a:t>
            </a:r>
            <a:br>
              <a:rPr sz="2400"/>
            </a:b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Parliament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information for decision makers and public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Public Service Office</a:t>
            </a:r>
            <a:r>
              <a:rPr b="0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9EE-AD84-4183-AD80-8A19A2A4BC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Connection to EU/EIONET network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Structure of Hungarian EIONET member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-32904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Water (Final Report of VITUKI Rt. „Performing the Tasks of the EEA’s EUROWATERNET System in Hungary for Surface Waters and Groundwater”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-32904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Terrestrial Environmen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-32904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Air and Climate Change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-32904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Natural protection and Biodiversity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-32904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Waste and Material Flow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  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AD4-C29D-4A48-86FF-56642BCCB1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Connection to EU/EIONET network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-270720">
              <a:spcBef>
                <a:spcPts val="601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Objectiv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-270720">
              <a:spcBef>
                <a:spcPts val="601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Descrip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586800" indent="-225720">
              <a:spcBef>
                <a:spcPts val="499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National Reference Centres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586800" indent="-225720">
              <a:spcBef>
                <a:spcPts val="499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EIONET Legislation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586800" indent="-225720">
              <a:spcBef>
                <a:spcPts val="499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Link-up of the National EIONET Institutions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586800" indent="-225720">
              <a:spcBef>
                <a:spcPts val="499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Data Modelling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58680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CB9-E46E-48A1-92D2-1DC4FF88AE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Projects in order to meet Objectives (1.)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National Reference Centr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-29160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results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of the survey and comparis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-29160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list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of Hungarian institutions to be join to EIONE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-29160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reasons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why these institutions are on the lis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-29160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suggestions for measures to be taken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to transform institutions to be members of the EIONE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EIONET Legisla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Institutional network needs elaboration of legal, organisational and financial background and basis. 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Governmental decree.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C5E-2CED-45D0-8028-7EF356DBEE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Projects in order to meet Objectives (2.)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Link-up of the National EIONET Institution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quipment supply determining the hardware development of the different institutions 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basic software supply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construction of the network (institutions with each other and national centre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software - specific unified data exchange standard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training of staff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3EE-2880-45D0-9F00-5486C71497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Projects in order to meet Objectives (3.) 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Data Modelling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nvironmental and integrated environmental-economical model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information for decision makers, environmental politics and general public</a:t>
            </a: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PUBLIC</a:t>
            </a:r>
            <a:r>
              <a:rPr b="1" lang="hu-HU" sz="3200" spc="-1" strike="noStrike">
                <a:solidFill>
                  <a:srgbClr val="006633"/>
                </a:solidFill>
                <a:latin typeface="Times New Roman CE"/>
              </a:rPr>
              <a:t>: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WWW.KVVM.HU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EEA: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http://nfp-hu.eionet.eu.int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7A7-1835-4CDE-B1E0-4D77A18C63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934320" y="2590920"/>
          <a:ext cx="173340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590920"/>
                    <a:ext cx="17334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1600" y="2438280"/>
            <a:ext cx="1765440" cy="133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447920" y="2666880"/>
          <a:ext cx="449280" cy="5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666880"/>
                    <a:ext cx="449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209680" y="2666880"/>
          <a:ext cx="703440" cy="96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2666880"/>
                    <a:ext cx="703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391520" y="2743200"/>
          <a:ext cx="703080" cy="968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91520" y="2743200"/>
                    <a:ext cx="7030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315200" y="5334120"/>
          <a:ext cx="703440" cy="968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15200" y="5334120"/>
                    <a:ext cx="703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509120" y="1828800"/>
            <a:ext cx="143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80080" y="1828800"/>
            <a:ext cx="2323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"/>
              </a:rPr>
              <a:t>Internet Map Sever</a:t>
            </a:r>
            <a:endParaRPr b="0" lang="en-US" sz="2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09560" y="6324480"/>
            <a:ext cx="175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Database server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2860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22860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8200" y="2895480"/>
            <a:ext cx="3044880" cy="0"/>
          </a:xfrm>
          <a:prstGeom prst="line">
            <a:avLst/>
          </a:prstGeom>
          <a:ln w="1260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07840" y="3352680"/>
            <a:ext cx="2968920" cy="0"/>
          </a:xfrm>
          <a:prstGeom prst="line">
            <a:avLst/>
          </a:prstGeom>
          <a:ln w="1260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7480" y="4041720"/>
            <a:ext cx="0" cy="1063800"/>
          </a:xfrm>
          <a:prstGeom prst="line">
            <a:avLst/>
          </a:prstGeom>
          <a:ln w="1260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772400" y="4039920"/>
            <a:ext cx="0" cy="987480"/>
          </a:xfrm>
          <a:prstGeom prst="line">
            <a:avLst/>
          </a:prstGeom>
          <a:ln w="1260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334120"/>
            <a:ext cx="4343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66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no direct communication between the web server and the database server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buClr>
                <a:srgbClr val="0066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shared resources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buClr>
                <a:srgbClr val="0066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higher security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87320" y="2500200"/>
            <a:ext cx="139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map request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86600" y="3414600"/>
            <a:ext cx="139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created map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160" y="4343400"/>
            <a:ext cx="127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SQL query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42670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result of the query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2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3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F41-3994-4263-B3A0-B1DF3E8C12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Main  tasks of the Ministry: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48" name=""/>
          <p:cNvSpPr/>
          <p:nvPr/>
        </p:nvSpPr>
        <p:spPr>
          <a:xfrm>
            <a:off x="484200" y="2895480"/>
            <a:ext cx="8354880" cy="36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elaboration of governmental policy 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preparation of legal measures and control of  efficiency                                              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preparation of Government’s decision making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winning the public over to environment  protection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information of decision makers and citizens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international co-operation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CEB-3765-49CD-A488-7F9AA5CF7E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Basic structure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Deputy State Secretary for Environmental Protection, for Nature Conservation, for Water Affair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12 Environmental Inspectorate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12 Water Directorat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12 Water Inspectorat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10 National Park Directorat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nvironmental Management Institute (KGI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335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"/>
              </a:rPr>
              <a:t>Ministry of Environment and Water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907-728F-4AE2-B1A8-D5CA7298B2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    </a:t>
            </a: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Institutes collect data concerning of the environment :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 of Agriculture and Rural Developmen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 of Economic Affair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 for Information and Telecommunica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 of Health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Hungarian Central Statistical Office (HCSO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E2E-0E3E-4FF6-83C7-F243963E26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Data by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easurement - monitoring (sampling, on-line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statistical sampling, data collec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official control (measurement, penalty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self repor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remote sensing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613-BD7C-4937-91BB-685993A1D1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Accesibility of data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Constitution (1949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Act on Data Protection (1992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Act on Statistics (1993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Act on the General Rules of Environmental 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Protection (1995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Cabinet Order on National Statistical Data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Collection Programme (1998) - yearly up-dated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Ratification of the Aarhus Convention (2001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A07-9A19-4B18-B503-24FC0B262B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700"/>
              </a:spcBef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Environmental Information System - what for?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Help to formulate environmental policy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Give background for legislation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Ensure public acces to the information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B92-1102-42CE-A9EE-7607BE7014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33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What was the situation at the beginning ?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spcAft>
                <a:spcPts val="24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out of date legal regula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spcAft>
                <a:spcPts val="24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not harmonized data-collec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spcAft>
                <a:spcPts val="24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separate databas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722-FA41-473E-97E5-7F2716FB37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New legal framework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78" name=""/>
          <p:cNvSpPr/>
          <p:nvPr/>
        </p:nvSpPr>
        <p:spPr>
          <a:xfrm>
            <a:off x="-99360" y="2532240"/>
            <a:ext cx="9343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ff00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>
                <a:solidFill>
                  <a:srgbClr val="006633"/>
                </a:solidFill>
                <a:latin typeface="Times New Roman"/>
              </a:rPr>
              <a:t>Act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on the General Rules of Environmental Protection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(1995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on Nature Conservation (1996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on Regional Development &amp; Regional Planning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(1996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on Housing and Construction (1997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on Waste Management (2000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buClr>
                <a:srgbClr val="ff00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i="1" lang="hu-HU" sz="2400" spc="-1" strike="noStrike">
                <a:solidFill>
                  <a:srgbClr val="006633"/>
                </a:solidFill>
                <a:latin typeface="Times New Roman"/>
              </a:rPr>
              <a:t>National Environment Programme (1997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buClr>
                <a:srgbClr val="ff00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i="1" lang="hu-HU" sz="2400" spc="-1" strike="noStrike">
                <a:solidFill>
                  <a:srgbClr val="006633"/>
                </a:solidFill>
                <a:latin typeface="Times New Roman"/>
              </a:rPr>
              <a:t>National Concept of Regional Policy (1997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71C-3F74-4DE1-92C2-6CBEE1180F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1T20:47:32Z</dcterms:created>
  <dc:creator>Bozó Pál</dc:creator>
  <dc:description/>
  <dc:language>en-US</dc:language>
  <cp:lastModifiedBy>Martosné Bartha Ágnes</cp:lastModifiedBy>
  <cp:lastPrinted>2001-03-06T11:56:47Z</cp:lastPrinted>
  <dcterms:modified xsi:type="dcterms:W3CDTF">2004-01-21T11:10:22Z</dcterms:modified>
  <cp:revision>35</cp:revision>
  <dc:subject/>
  <dc:title>        Ministry for Environment and Regional Policy</dc:title>
</cp:coreProperties>
</file>