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A9AD1-620D-433C-BB81-4529BC35E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360" y="3846240"/>
            <a:ext cx="79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8388B-C26C-425F-A3A6-C2BCE6B82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7168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360" y="384624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1680" y="384624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49741-EB38-435E-BB08-E1542561C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3160" y="121932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75960" y="121932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360" y="384624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83160" y="384624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75960" y="384624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0283-E930-44F4-A9E3-77A358C85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86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71680" y="1219320"/>
            <a:ext cx="3886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95280" y="152280"/>
            <a:ext cx="7640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1680" y="1219320"/>
            <a:ext cx="3886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360" y="384624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2DD4F-5514-4381-A084-3F1C99564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86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168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71680" y="384624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7168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360" y="3846240"/>
            <a:ext cx="79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90360" y="3846240"/>
            <a:ext cx="79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7168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90360" y="384624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71680" y="384624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83160" y="121932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5960" y="121932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90360" y="384624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83160" y="384624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5960" y="3846240"/>
            <a:ext cx="25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EA4F8-9F62-47E6-9C15-74A388724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86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1680" y="1219320"/>
            <a:ext cx="3886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6DEC5-158C-4F21-9A48-DD50D18DE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D5BB-6DB0-4B94-BEEE-67EA7B0C8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152280"/>
            <a:ext cx="7640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C22B7-99C4-45AB-8D57-95098AB80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1680" y="1219320"/>
            <a:ext cx="3886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384624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9B05-E884-4C57-95CD-BA0096DDB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86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168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1680" y="384624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B69D2-3BC8-462A-82B6-0DA20E666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71680" y="1219320"/>
            <a:ext cx="38865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360" y="3846240"/>
            <a:ext cx="79642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EE1A8-04F5-45F6-BCD7-5A0DC9390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4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8c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96ff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64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295280" y="6477120"/>
            <a:ext cx="56390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77120"/>
            <a:ext cx="1828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2C60-8832-4B6D-A9F0-004DC95B5379}" type="slidenum">
              <a:rPr b="0" lang="nl-N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VG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490680" cy="6098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58920" y="892080"/>
            <a:ext cx="555480" cy="555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30320" y="663480"/>
            <a:ext cx="555480" cy="555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3488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609480" y="380880"/>
            <a:ext cx="555840" cy="555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75420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1980720" y="5943240"/>
            <a:ext cx="4038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133720" y="15998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logoVG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490680" cy="609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1981080" y="640080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44480" y="5105520"/>
            <a:ext cx="32040" cy="16192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97000" y="2720880"/>
            <a:ext cx="555480" cy="555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90720" y="2514600"/>
            <a:ext cx="555480" cy="555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2940120"/>
            <a:ext cx="75801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447920" y="2209680"/>
            <a:ext cx="555480" cy="555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44480" y="158760"/>
            <a:ext cx="32040" cy="49482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8c78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96ff"/>
              </a:buClr>
              <a:buSzPct val="60000"/>
              <a:buFont typeface="Wingdings" charset="2"/>
              <a:buChar char="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6400"/>
              </a:buClr>
              <a:buSzPct val="55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vs@milieuinfo.b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ervlaanderen.be/" TargetMode="External"/><Relationship Id="rId2" Type="http://schemas.openxmlformats.org/officeDocument/2006/relationships/hyperlink" Target="http://www.viwc.be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ilieuinfo.be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lieubeleidsplan.be/" TargetMode="External"/><Relationship Id="rId2" Type="http://schemas.openxmlformats.org/officeDocument/2006/relationships/hyperlink" Target="http://www.ruimtelijkeordening.be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vam.b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lm.be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mm.be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720" y="15998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Environmental Information Management</a:t>
            </a:r>
            <a:br>
              <a:rPr sz="4000"/>
            </a:br>
            <a:r>
              <a:rPr b="0" i="1" lang="en-US" sz="4000" spc="-1" strike="noStrike">
                <a:solidFill>
                  <a:srgbClr val="636363"/>
                </a:solidFill>
                <a:latin typeface="Tahoma"/>
              </a:rPr>
              <a:t>Flanders region (Belgium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05120" y="31237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lIns="0" rIns="54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ck van Straaten - Lode Nul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dvs@milieuinfo.b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- l.nulens@vmm.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lemish authority of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0600" y="5334120"/>
            <a:ext cx="99072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vernmental scientific institutes Flan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9360" y="1219320"/>
            <a:ext cx="7964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cientific institutes provide specific environmental information, published on their web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stitute of Nature Conservation: biodiversity, state of nature: http://www.instnat.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stitute of Forest and Game Management: Forestry, acidification, fishery, mamals,… http://www.ibw.vlaanderen.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lemish Institute for Technological Research: best available technologies, environmental resaerch (environment and health): http://www.vito.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websites concerning environmental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vironmental law and legislation: special search application: http://milieunavigator.milieuinfo.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vironmental impact assessment in Flanders: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ervlaanderen.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grated Watermanagement in Flanders: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viwc.be,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e-zine on ‘Water’ (quality, quantity, use, research, databases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stainable use of water resources (target groups: agriculture, enterprises and citizens): www.waterloketvlaanderen.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arhus website: www.mina.be/aarh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loods prediction: www.overstromingsvoorspeller.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tc, etc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al-site Environmental information 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ilieuinfo.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Goal: bringing all the available information together, using meta-information, a comprehensive and easy navigation system (principle of a clearing ho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Question-based navigation: FAQ’s linked to lifeline moments (citizans and enterprises), thematic, target-group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 content, only direct links to the appropiate websites with environmental information - specific taxonomy/categorisation to structure meta-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ique site for internet application (front-office e-government): environmental licensing, emission reports enterprises, environmental ta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MS linked to CMS’s (websites) of the different governmental organis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rtal-site: www.milieuinfo.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0200" y="1290600"/>
            <a:ext cx="63244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-making and public participation by the use of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2002: preparation of the formal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Environmental Policy Pla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to be approved officially by government and parliament). Public enquiry was included and the draft Environmental policy plan was available through the internet. A special internet-application was set up to guide the public through the content of the plan. There was a possibility to give your own opinion about the plan through the internet. Also the follow-up of the plan can be followed through the internet-site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ilieubeleidsplan.b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atial planning in Flanders is arranged by specific execution plans. Changes of these plans inquiry public opinion and participation. All information is published on a website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ruimtelijkeordening.b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nvironmental Impact Assessment (SEA and EIA): new legislation in Flanders (end 2003), public participation at the scoping phase, all information, including summaries will be published on a website: http://www.mervlaanderen.be. Public inquiry will also be possible through the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llenges: front-off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roving front-office to a more question-based navigation system focused to the public, enterprises and organisations - clearing ho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ing different channels to disseminate environmental information: internet, digital television, sms, telephone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gal base for public inquiry through the internet, unique identification of citizens and enterp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tent the availability of information through the internet such as environmental licenses (enterprises), emissions, flooding previsions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lleng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government backoffice -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ranet between all (governmental)  organisations concerning the environment: information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information systems to support environmental policy and to link different dossiers: centralized database on enterprises, environmental licences and emission activities (important for EPER, IPPC, greenhouse gasses,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ing different administration processes (follow-up of dossiers) between organisation: improving efficiency, service and dissemination of environmenta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anders: environmental 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964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of the environmental issues and policy is the competence of the three regions (Flanders, Walloon and Brussels) in Belg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anders has its own Environmental Policy Plan 2003-2007: formal planning process with public involvement/partici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al Policy Plan is approved by the Flemish government and Parlia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semination of environmental information and public involvement in decision-making is explicit part of the Environmental Policy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on force: Environmental Management Information System: linking all existing environmental information in one logical database easily accessible to all (governmental) organisations, policy-makers (management system) and the publi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nels of dissemination environmental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 the internet: different websites of existing (governmental) organisations. This information is scattered and not integrated. Environmental information is available service-minded (what is available) , not really question-based (what is nee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task force on e-government during the last 3 years, supported by the Flemish government, for all the different policy domains: one portal site for the Flemish governmental organisations and an integrated backoffice. Organised through the different policy domains such as Environ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hannels: paper, telephone, the old-fashioned desk, digital television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 access to environmental information through the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ifferent governmental organisations concerning the environment (on the level the the Flemish region) have internet-sites that supplies specific environmental information on their activities and tasks: air, water, soil, waste management, nature conservation, biodiversity, land management, 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is scattered 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ste and soil managemen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ovam.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802656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d management, land consolidation and manure managemen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vlm.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38080" y="1189080"/>
            <a:ext cx="81536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ater and air quality, pollution, emission/immision, water purification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vmm.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845820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ographical maps on internet: integrating environmental spatia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e website covering and integrating or combining relevant environmental information: thematic maps (biological valuation map, forestry maps,..) policy maps (Nature 2000, Flemish Ecological Network,…) integrated maps (watercourses with water quality/quantity, biological data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ww.gisvlaanderen.be/geovlaand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6"/>
            </a:gs>
            <a:gs pos="100000">
              <a:srgbClr val="a4ff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64064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gisvlaanderen.be/geovlaand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64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71625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4:39:15Z</dcterms:created>
  <dc:creator>Dick van Straaten</dc:creator>
  <dc:description/>
  <dc:language>en-US</dc:language>
  <cp:lastModifiedBy>stancic</cp:lastModifiedBy>
  <dcterms:modified xsi:type="dcterms:W3CDTF">2004-02-24T08:42:46Z</dcterms:modified>
  <cp:revision>38</cp:revision>
  <dc:subject/>
  <dc:title>Flanders region (Belgium)</dc:title>
</cp:coreProperties>
</file>