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E6EE-B192-4177-91C1-5179CD6D4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360" y="384624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4E83-0B68-4629-9CAF-1067EE798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168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CFE7-53C6-4272-8F1A-890374862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31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759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3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31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759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9574-E275-432B-B6C0-36BC17E48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95280" y="152280"/>
            <a:ext cx="7640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21A0-CD01-4DB2-BDA4-7EEA573D3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168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90360" y="384624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7168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831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59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903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831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59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7CB5-0F04-4425-8F9D-04421A010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2461-11E9-4420-9BF0-8FE526C1E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8811-F77E-4407-808D-FBEC5B1E3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152280"/>
            <a:ext cx="7640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BF7D-5E90-41C7-B508-DB515762B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EFE6-AB31-48CC-866C-D2F4A2994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168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E2EEC-2158-4648-A6A9-4CEEC5BB3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F24E-80E1-44F9-A40B-32439AD81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4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c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64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5280" y="6477120"/>
            <a:ext cx="5639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771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F79A-45B9-4179-9684-27AD83DFC8AD}" type="slidenum">
              <a:rPr b="0" lang="nl-N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VG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490680" cy="6098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58920" y="8920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30320" y="663480"/>
            <a:ext cx="555480" cy="555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3488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09480" y="380880"/>
            <a:ext cx="555840" cy="555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5420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1980720" y="5943240"/>
            <a:ext cx="403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logoVG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490680" cy="60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1981080" y="640080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44480" y="5105520"/>
            <a:ext cx="32040" cy="16192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97000" y="27208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2514600"/>
            <a:ext cx="555480" cy="555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2940120"/>
            <a:ext cx="75801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447920" y="2209680"/>
            <a:ext cx="555480" cy="55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44480" y="158760"/>
            <a:ext cx="32040" cy="49482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8c78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96ff"/>
              </a:buClr>
              <a:buSzPct val="60000"/>
              <a:buFont typeface="Wingding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6400"/>
              </a:buClr>
              <a:buSzPct val="55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vs@milieuinfo.b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rvlaanderen.be/" TargetMode="External"/><Relationship Id="rId2" Type="http://schemas.openxmlformats.org/officeDocument/2006/relationships/hyperlink" Target="http://www.viwc.be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ilieuinfo.be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lieubeleidsplan.be/" TargetMode="External"/><Relationship Id="rId2" Type="http://schemas.openxmlformats.org/officeDocument/2006/relationships/hyperlink" Target="http://www.ruimtelijkeordening.be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vam.b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lm.be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mm.be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Environmental Information Management</a:t>
            </a:r>
            <a:br>
              <a:rPr sz="4000"/>
            </a:br>
            <a:r>
              <a:rPr b="0" i="1" lang="en-US" sz="4000" spc="-1" strike="noStrike">
                <a:solidFill>
                  <a:srgbClr val="636363"/>
                </a:solidFill>
                <a:latin typeface="Tahoma"/>
              </a:rPr>
              <a:t>Flanders region (Belgiu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05120" y="31237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lIns="0" rIns="54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ck van Straaten - Lode Nul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vs@milieuinfo.b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- l.nulens@vmm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lemish authority of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5334120"/>
            <a:ext cx="9907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vernmental scientific institutes Flan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9360" y="1219320"/>
            <a:ext cx="7964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cientific institutes provide specific environmental information, published on their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titute of Nature Conservation: biodiversity, state of nature: http://www.instnat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titute of Forest and Game Management: Forestry, acidification, fishery, mamals,… http://www.ibw.vlaanderen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emish Institute for Technological Research: best available technologies, environmental resaerch (environment and health): http://www.vito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websites concerning environmental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vironmental law and legislation: special search application: http://milieunavigator.milieuinfo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vironmental impact assessment in Flanders: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ervlaanderen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grated Watermanagement in Flanders: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viwc.be,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e-zine on ‘Water’ (quality, quantity, use, research, databases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stainable use of water resources (target groups: agriculture, enterprises and citizens): www.waterloketvlaanderen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rhus website: www.mina.be/aarh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oods prediction: www.overstromingsvoorspeller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c, etc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al-site Environmental information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ilieuinfo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oal: bringing all the available information together, using meta-information, a comprehensive and easy navigation system (principle of a clearing 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stion-based navigation: FAQ’s linked to lifeline moments (citizans and enterprises), thematic, target-grou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content, only direct links to the appropiate websites with environmental information - specific taxonomy/categorisation to structure meta-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ique site for internet application (front-office e-government): environmental licensing, emission reports enterprises, environmental ta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MS linked to CMS’s (websites) of the different governmental organis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rtal-site: www.milieuinfo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1290600"/>
            <a:ext cx="63244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-making and public participation by the use of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2002: preparation of the formal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Environmental Policy Pla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to be approved officially by government and parliament). Public enquiry was included and the draft Environmental policy plan was available through the internet. A special internet-application was set up to guide the public through the content of the plan. There was a possibility to give your own opinion about the plan through the internet. Also the follow-up of the plan can be followed through the internet-site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ilieubeleidsplan.b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tial planning in Flanders is arranged by specific execution plans. Changes of these plans inquiry public opinion and participation. All information is published on a website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ruimtelijkeordening.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vironmental Impact Assessment (SEA and EIA): new legislation in Flanders (end 2003), public participation at the scoping phase, all information, including summaries will be published on a website: http://www.mervlaanderen.be. Public inquiry will also be possible through the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: front-off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roving front-office to a more question-based navigation system focused to the public, enterprises and organisations - clearing 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different channels to disseminate environmental information: internet, digital television, sms, telephone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gal base for public inquiry through the internet, unique identification of citizens and enterp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ent the availability of information through the internet such as environmental licenses (enterprises), emissions, flooding previsions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government backoffice -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net between all (governmental)  organisations concerning the environment: information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information systems to support environmental policy and to link different dossiers: centralized database on enterprises, environmental licences and emission activities (important for EPER, IPPC, greenhouse gasses,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ing different administration processes (follow-up of dossiers) between organisation: improving efficiency, service and dissemination of environmenta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anders: environmental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964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of the environmental issues and policy is the competence of the three regions (Flanders, Walloon and Brussels) in Belg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nders has its own Environmental Policy Plan 2003-2007: formal planning process with public involvement/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Policy Plan is approved by the Flemish government and Parlia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semination of environmental information and public involvement in decision-making is explicit part of the Environmental Policy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force: Environmental Management Information System: linking all existing environmental information in one logical database easily accessible to all (governmental) organisations, policy-makers (management system) and the publ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nels of dissemination environmental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 the internet: different websites of existing (governmental) organisations. This information is scattered and not integrated. Environmental information is available service-minded (what is available) , not really question-based (what is nee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task force on e-government during the last 3 years, supported by the Flemish government, for all the different policy domains: one portal site for the Flemish governmental organisations and an integrated backoffice. Organised through the different policy domains such as Environ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hannels: paper, telephone, the old-fashioned desk, digital television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access to environmental information through the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fferent governmental organisations concerning the environment (on the level the the Flemish region) have internet-sites that supplies specific environmental information on their activities and tasks: air, water, soil, waste management, nature conservation, biodiversity, land management, 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is scattered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te and soil manageme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ovam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0265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d management, land consolidation and manure manageme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vlm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8080" y="1189080"/>
            <a:ext cx="81536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ater and air quality, pollution, emission/immision, water purification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vmm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84582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ographical maps on internet: integrating environmental spatia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e website covering and integrating or combining relevant environmental information: thematic maps (biological valuation map, forestry maps,..) policy maps (Nature 2000, Flemish Ecological Network,…) integrated maps (watercourses with water quality/quantity, biological data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ww.gisvlaanderen.be/geovlaand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gisvlaanderen.be/geovlaand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71625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4:39:15Z</dcterms:created>
  <dc:creator>Dick van Straaten</dc:creator>
  <dc:description/>
  <dc:language>en-US</dc:language>
  <cp:lastModifiedBy>stancic</cp:lastModifiedBy>
  <dcterms:modified xsi:type="dcterms:W3CDTF">2004-02-24T08:42:46Z</dcterms:modified>
  <cp:revision>38</cp:revision>
  <dc:subject/>
  <dc:title>Flanders region (Belgium)</dc:title>
</cp:coreProperties>
</file>