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B0295-60A3-4BFA-9A6D-BE1076AF7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28F641-27FE-4AC5-9109-E4603FE1D9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8D0B318-AB0B-468B-A551-EB1912E713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92DBBDC-6F37-48B8-9320-1B1D1E7D4F4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AF68418-545D-4134-8D89-849F5017DE5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080BA9-08C9-402E-A2B6-04BEE31976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2CF9320-6E23-47E9-88C3-E7247D99B0E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8738E9-7151-41B0-98D3-CA41C920FD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B1A14A-4A6F-4991-AB3F-D0FD660690F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50E37E3-24D4-45CD-9DC3-290B5833B88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19BC207-AF2D-4597-81F6-962EBA923F2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9472826-239F-49A4-8FD3-D5BCDED52B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2AA8F5D-B60C-427C-9D53-A1429DC72C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90879FA-2AD2-44DF-A7D1-DF6BBE45610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D5855D8-5E38-44BC-8204-3D4A16489C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E65D17A-3BE3-42F2-BE11-46D37F8EA0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5A141C7-F4EB-48B9-AB94-4536B70CDA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B70F01F-0ABC-466B-B701-EC759E4666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71520E4-9344-447F-A35A-2974052720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3D71BAF-1272-4F81-9095-9BBC04F1FB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6976E5-72EC-4A41-A61B-00A8202E2A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69D531-BFE9-4736-AF05-CE53D43FCD9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D4050F4-BE3A-48FD-A3D2-F5C435ACBBE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D1B52C4-AFF1-46CA-BAC8-63B9CD8AA6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B08DB15-26AA-41CA-A587-4586AC264E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EC4C54F-9718-497D-92A2-62F958B85D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FF77C0-6583-4102-9D46-61F633D1C0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6E587F-C032-48BA-82E4-BB94D110F2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D373643-8069-45C6-96A5-BFCE22D10C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9D5B193-1736-4B6A-A1CC-CF5887F620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67389FE-D162-4A41-BC58-A4F37B27D8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4ECAE27-5C4D-4957-9F7E-B6A973CBB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5A3BCBE-30F3-40F6-BB39-4454E85F15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7C238B8-1C3D-4D34-9351-56572E7E8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6F9F9E-119C-41FA-AB79-C7805CEACE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5392B7A-2B98-4F33-8F0F-F5FFB1D56D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36EA04B-F72C-4D65-B2C8-5F5F8828A3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E5CE39D-085D-42D8-9C7D-26A96034DE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E0E170-443F-4F6B-BEB9-701C92EB9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5A72B1-E293-48DB-BE3A-2A11587B9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7D2533-C91F-405F-982B-CA486E864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89AEE6-89C9-4CC1-85BC-640C23796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5F180D-AC0C-484F-960E-7AA23EEF9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CDA6F3-3570-475B-87D2-034C37D86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8E254C-A1A3-42F2-8A58-DD821DAB5F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CD0D54-7DF3-448E-98AC-80D2F0DD5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AFCA93-DA37-4D44-B871-9976C9F7D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466F84-B78E-4D27-80FF-2B51A888E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FF05A5-445E-4369-B148-D8D303A6C9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4B803B1-B72D-481C-8722-18BA94955E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B7AB59C-1FD3-49E7-BE18-5DE71F64F5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22F30F-BEF7-4183-AECF-DA59C7E0D9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F505DD-D6B5-4C4B-9534-F79408D868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A26692F-8C9D-43CC-8340-1DA7AEAD6A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B220DB-0581-4A4D-B267-6DEFF15DA0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A785661-621F-4633-BEC5-9D89DCC266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AB9C54-EF52-4579-ADE1-549CB3D27F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B6F9D5-6C05-4ADE-A86B-06E68DCAA9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5CEBFA-012B-4F94-98A6-4CADB90D0B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3B26C7-67D0-44C9-AFBC-D5333DF8F2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DA0F87-ECE7-4EBF-BD73-865BDF7CD4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55F33E7-FDCF-4511-A92B-092BE01D66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C1645B1-C5FD-402B-89F2-31B5136DA5E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039BA59-F5CA-4E53-9654-131ECA9F95E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D6FDBD4-AF0A-4671-981E-99CB7D8B42F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0FB939-CCD3-4EA2-A514-32890F89416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B2EA79B-8E36-4281-B98D-DF11C3965B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9A50578-8E03-4C15-803D-10E2548E7C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27D1A1-65B4-4AFA-8E6A-054B02D76C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5A278F-1AE3-48A8-917F-98C4865F17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F94D35-198D-44C4-8C0F-8081C6DB17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65362E-AAF3-4197-86EC-ECB16E4301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5D2D065-EB90-4E7F-899E-A33634039A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BF2A3D-81A2-4D1B-A702-F093BF77903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BA53296-521B-4CB2-AF19-2A71296FBA9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3D1B836-04AA-43C3-8DB3-E9FFBC63F2C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A7B5BBA-CCB0-4283-86B4-14ED8B848AA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C27A115-7B4D-44EE-B3C4-DC85AEBD039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3365F94-5E0F-4DDC-BA5C-10CE56D7C6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6492CD-33DA-4804-ADF1-D660A8F22C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DA2790-440C-4F45-81FC-41A7EB0CE1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5187A1-4B98-4974-AA3C-46C683A027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281863-69A6-47BA-B871-F75C87C5C0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A484B8-D01A-44C7-9ED2-3722057CA4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16DFCD-A787-41D3-8787-A5724EE2BE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B0E8EB-8E3E-4031-B5DF-3BBA2A8649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544F7C9-0676-43EB-9B37-90844AA8E9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6131620-7B0D-45C1-8D90-B5AB44E8C1C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89C5BF-92CF-4DC3-A5E2-3B59ABB908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8EE4B1A-7E0E-42E0-B1F1-93242D4796F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6AA3FE3-4A54-4B61-9BDE-B2346E1E063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87B3477-0AF9-43A1-83F6-D75A944864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E261AD5-DFA1-42D4-86EF-81D7BB10A0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AE56FD3-1D84-4C23-876F-81EE2379A3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22D01D0-AE62-4EFC-A9A0-438D8C01E7C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0C3AFA2-1ACE-4280-9A97-F1C11B68202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08E72A-FF0D-4904-8215-09B926F7E7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BBCED7B-E18E-41AB-B50C-8CF6F37E7D4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425724C-1A89-4CE7-8CC8-C29BD6D901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89C91E-6A38-4F1D-8F93-2779E90BB6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41B8FD4-5F01-4504-964E-84F90852315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EB090BD-13C8-4E94-B622-F39D5F8157C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8972DF2-AB46-49F5-A11A-42EBB8DEF1F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2B19068-CF3C-4C93-A27D-3B7D606EA45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665D9A-8B18-43A0-9FDE-33CA9BCBC9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BB9474E-A50F-4843-9642-DDBE326B2B0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B8161CE-16FC-4D84-9C61-D409D6C189B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DF68845-6CA8-4E9F-88F6-F50B88167A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5AC0E0-1EF1-4308-A4D9-3CDC9D25946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4DFAE5-239D-44C7-8CC1-B531E244D5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2608EA-0C5B-4D43-8562-FCBBE35502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DC9EB9-0C31-4E85-8BDE-55C706AD8B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B2B82A-3473-4EC9-A0CC-DF84357162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E76CD1E-85C2-4E54-9A43-98ECDB5809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4E9115D-9279-4588-A7A7-6102A29F66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6CF3DCD-E971-48B0-B3F0-35B3A48B91E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06887DA-8062-401C-B4DD-945557F7C24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FB62D5A-5F9B-49A6-A279-3D3F6BA2271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081FE43-E3C1-48BC-9025-CD7A223163A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E645CA-66E7-4BD5-ACE6-DF84013FBA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653963-12D8-4A99-A7C6-16C8A24F5A7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77C95F-3080-483A-AF2C-B83206D26C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86EFDC5-F877-4E21-911A-6216BEE79A3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95FB7B-704D-4472-A659-44FCC87E319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B99311-1D1B-4812-85D8-F1C22C7062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05278D-8D35-4054-A545-F3B359B445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7124EA3-70A0-49AD-9A49-2EE9A196D3E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E2E1C00-44C5-460D-85DA-3C9ED1A0738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F5B2823-C2B1-4C5E-A851-39845B2440D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2FBF32E-C3AB-40AC-94D2-B4F06FC5446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4F811E-0427-41A6-BF7C-8763DBD803D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B91AC35-E71F-4365-82A5-15B533BC742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320C-E186-4EDD-90D2-6C904A2BB3FC}"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8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10" descr="cefact_forum"/>
          <p:cNvPicPr/>
          <p:nvPr/>
        </p:nvPicPr>
        <p:blipFill>
          <a:blip r:embed="rId2"/>
          <a:stretch/>
        </p:blipFill>
        <p:spPr>
          <a:xfrm>
            <a:off x="417600" y="147600"/>
            <a:ext cx="8308800" cy="1265400"/>
          </a:xfrm>
          <a:prstGeom prst="rect">
            <a:avLst/>
          </a:prstGeom>
          <a:ln w="0">
            <a:noFill/>
          </a:ln>
        </p:spPr>
      </p:pic>
      <p:sp>
        <p:nvSpPr>
          <p:cNvPr id="3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91"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92"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5DEE-4CF4-4119-9C13-50C9D4DC9DD0}"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3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10" descr="cefact_forum"/>
          <p:cNvPicPr/>
          <p:nvPr/>
        </p:nvPicPr>
        <p:blipFill>
          <a:blip r:embed="rId2"/>
          <a:stretch/>
        </p:blipFill>
        <p:spPr>
          <a:xfrm>
            <a:off x="417600" y="147600"/>
            <a:ext cx="8308800" cy="1265400"/>
          </a:xfrm>
          <a:prstGeom prst="rect">
            <a:avLst/>
          </a:prstGeom>
          <a:ln w="0">
            <a:noFill/>
          </a:ln>
        </p:spPr>
      </p:pic>
      <p:sp>
        <p:nvSpPr>
          <p:cNvPr id="4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3"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34"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35"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0F75-46E9-4344-AAA0-D3850FF8222C}"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028C-0D28-44AE-ADAC-BC9D73469A62}" type="slidenum">
              <a:rPr b="0" lang="de-CH" sz="1100" spc="-1" strike="noStrike">
                <a:solidFill>
                  <a:srgbClr val="000000"/>
                </a:solidFill>
                <a:latin typeface="Times New Roman"/>
                <a:ea typeface="Arial"/>
              </a:rPr>
              <a:t>&lt;number&gt;</a:t>
            </a:fld>
            <a:endParaRPr b="0" lang="en-US" sz="1100" spc="-1" strike="noStrike">
              <a:solidFill>
                <a:srgbClr val="000000"/>
              </a:solidFill>
              <a:latin typeface="Times New Roman"/>
            </a:endParaRPr>
          </a:p>
        </p:txBody>
      </p:sp>
      <p:sp>
        <p:nvSpPr>
          <p:cNvPr id="4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90"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91"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90D3-4E62-427C-9350-CAB9A611D553}"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0" descr="cefact_forum"/>
          <p:cNvPicPr/>
          <p:nvPr/>
        </p:nvPicPr>
        <p:blipFill>
          <a:blip r:embed="rId2"/>
          <a:stretch/>
        </p:blipFill>
        <p:spPr>
          <a:xfrm>
            <a:off x="417600" y="147600"/>
            <a:ext cx="8308800" cy="1265400"/>
          </a:xfrm>
          <a:prstGeom prst="rect">
            <a:avLst/>
          </a:prstGeom>
          <a:ln w="0">
            <a:noFill/>
          </a:ln>
        </p:spPr>
      </p:pic>
      <p:sp>
        <p:nvSpPr>
          <p:cNvPr id="1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33"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34"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8D8C-1603-4FD2-868D-AEA7BA65407C}"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cefact_forum"/>
          <p:cNvPicPr/>
          <p:nvPr/>
        </p:nvPicPr>
        <p:blipFill>
          <a:blip r:embed="rId2"/>
          <a:stretch/>
        </p:blipFill>
        <p:spPr>
          <a:xfrm>
            <a:off x="417600" y="147600"/>
            <a:ext cx="8308800" cy="1265400"/>
          </a:xfrm>
          <a:prstGeom prst="rect">
            <a:avLst/>
          </a:prstGeom>
          <a:ln w="0">
            <a:noFill/>
          </a:ln>
        </p:spPr>
      </p:pic>
      <p:sp>
        <p:nvSpPr>
          <p:cNvPr id="1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76"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7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3F5F-9ADB-4D77-ADC1-9D5D105D3EEE}"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1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0" descr="cefact_forum"/>
          <p:cNvPicPr/>
          <p:nvPr/>
        </p:nvPicPr>
        <p:blipFill>
          <a:blip r:embed="rId2"/>
          <a:stretch/>
        </p:blipFill>
        <p:spPr>
          <a:xfrm>
            <a:off x="417600" y="147600"/>
            <a:ext cx="8308800" cy="1265400"/>
          </a:xfrm>
          <a:prstGeom prst="rect">
            <a:avLst/>
          </a:prstGeom>
          <a:ln w="0">
            <a:noFill/>
          </a:ln>
        </p:spPr>
      </p:pic>
      <p:sp>
        <p:nvSpPr>
          <p:cNvPr id="2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19"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20"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94A7-961C-4E6A-B512-C3278140AFB9}"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5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0" descr="cefact_forum"/>
          <p:cNvPicPr/>
          <p:nvPr/>
        </p:nvPicPr>
        <p:blipFill>
          <a:blip r:embed="rId2"/>
          <a:stretch/>
        </p:blipFill>
        <p:spPr>
          <a:xfrm>
            <a:off x="417600" y="147600"/>
            <a:ext cx="8308800" cy="1265400"/>
          </a:xfrm>
          <a:prstGeom prst="rect">
            <a:avLst/>
          </a:prstGeom>
          <a:ln w="0">
            <a:noFill/>
          </a:ln>
        </p:spPr>
      </p:pic>
      <p:sp>
        <p:nvSpPr>
          <p:cNvPr id="2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788C-F065-4A3E-83DE-A893B1F649DA}"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0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0" descr="cefact_forum"/>
          <p:cNvPicPr/>
          <p:nvPr/>
        </p:nvPicPr>
        <p:blipFill>
          <a:blip r:embed="rId2"/>
          <a:stretch/>
        </p:blipFill>
        <p:spPr>
          <a:xfrm>
            <a:off x="417600" y="147600"/>
            <a:ext cx="8308800" cy="1265400"/>
          </a:xfrm>
          <a:prstGeom prst="rect">
            <a:avLst/>
          </a:prstGeom>
          <a:ln w="0">
            <a:noFill/>
          </a:ln>
        </p:spPr>
      </p:pic>
      <p:sp>
        <p:nvSpPr>
          <p:cNvPr id="3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05"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06"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F345-1FB4-4784-9748-122F79D2B66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4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10" descr="cefact_forum"/>
          <p:cNvPicPr/>
          <p:nvPr/>
        </p:nvPicPr>
        <p:blipFill>
          <a:blip r:embed="rId2"/>
          <a:stretch/>
        </p:blipFill>
        <p:spPr>
          <a:xfrm>
            <a:off x="417600" y="147600"/>
            <a:ext cx="8308800" cy="1265400"/>
          </a:xfrm>
          <a:prstGeom prst="rect">
            <a:avLst/>
          </a:prstGeom>
          <a:ln w="0">
            <a:noFill/>
          </a:ln>
        </p:spPr>
      </p:pic>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48"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49"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BED0-20E2-4C32-8EBF-AF7293ED032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1523520"/>
            <a:ext cx="7772400" cy="83844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endParaRPr b="0" lang="en-US" sz="3600" spc="-1" strike="noStrike">
              <a:solidFill>
                <a:srgbClr val="000000"/>
              </a:solidFill>
              <a:latin typeface="Calibri"/>
            </a:endParaRPr>
          </a:p>
        </p:txBody>
      </p:sp>
      <p:sp>
        <p:nvSpPr>
          <p:cNvPr id="473"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74"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rd  UN/CEFACT FORUM – Geneva</a:t>
            </a:r>
            <a:endParaRPr b="0" lang="en-US" sz="1400" spc="-1" strike="noStrike">
              <a:solidFill>
                <a:srgbClr val="000000"/>
              </a:solidFill>
              <a:latin typeface="Arial"/>
            </a:endParaRPr>
          </a:p>
        </p:txBody>
      </p:sp>
      <p:sp>
        <p:nvSpPr>
          <p:cNvPr id="475" name="PlaceHolder 2"/>
          <p:cNvSpPr>
            <a:spLocks noGrp="1"/>
          </p:cNvSpPr>
          <p:nvPr>
            <p:ph type="subTitle"/>
          </p:nvPr>
        </p:nvSpPr>
        <p:spPr>
          <a:xfrm>
            <a:off x="547560" y="4647960"/>
            <a:ext cx="7910640" cy="1447560"/>
          </a:xfrm>
          <a:prstGeom prst="rect">
            <a:avLst/>
          </a:prstGeom>
          <a:noFill/>
          <a:ln w="0">
            <a:noFill/>
          </a:ln>
        </p:spPr>
        <p:txBody>
          <a:bodyPr tIns="8280" anchor="t">
            <a:noAutofit/>
          </a:bodyPr>
          <a:p>
            <a:pPr marL="343080" indent="-325440" algn="ctr">
              <a:lnSpc>
                <a:spcPct val="95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a:p>
            <a:pPr marL="343080" indent="-325440" algn="ctr">
              <a:lnSpc>
                <a:spcPct val="100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300" spc="-1" strike="noStrike">
                <a:solidFill>
                  <a:srgbClr val="376092"/>
                </a:solidFill>
                <a:latin typeface="Tahoma"/>
              </a:rPr>
              <a:t>Tahseen A. Khan</a:t>
            </a:r>
            <a:endParaRPr b="0" lang="en-US" sz="1300" spc="-1" strike="noStrike">
              <a:solidFill>
                <a:srgbClr val="000000"/>
              </a:solidFill>
              <a:latin typeface="Calibri"/>
            </a:endParaRPr>
          </a:p>
          <a:p>
            <a:pPr marL="343080" indent="-325440" algn="ctr">
              <a:lnSpc>
                <a:spcPct val="91000"/>
              </a:lnSpc>
              <a:spcBef>
                <a:spcPts val="10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p:txBody>
      </p:sp>
      <p:sp>
        <p:nvSpPr>
          <p:cNvPr id="476" name="Text Box 5"/>
          <p:cNvSpPr/>
          <p:nvPr/>
        </p:nvSpPr>
        <p:spPr>
          <a:xfrm>
            <a:off x="380880" y="3124080"/>
            <a:ext cx="8504280" cy="914400"/>
          </a:xfrm>
          <a:prstGeom prst="rect">
            <a:avLst/>
          </a:prstGeom>
          <a:noFill/>
          <a:ln w="0">
            <a:noFill/>
          </a:ln>
        </p:spPr>
        <p:style>
          <a:lnRef idx="0"/>
          <a:fillRef idx="0"/>
          <a:effectRef idx="0"/>
          <a:fontRef idx="minor"/>
        </p:style>
        <p:txBody>
          <a:bodyPr lIns="90000" rIns="90000" tIns="90720" bIns="450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4c1900"/>
                </a:solidFill>
                <a:latin typeface="Arial"/>
              </a:rPr>
              <a:t>Project Proposal : </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4c1900"/>
                </a:solidFill>
                <a:latin typeface="Arial"/>
              </a:rPr>
              <a:t>Trusted Third Party Time-stamping Services</a:t>
            </a:r>
            <a:endParaRPr b="0" lang="en-US" sz="28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7"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8" name="Text Box 4"/>
          <p:cNvSpPr/>
          <p:nvPr/>
        </p:nvSpPr>
        <p:spPr>
          <a:xfrm>
            <a:off x="304920" y="1079640"/>
            <a:ext cx="8783640" cy="532116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800" spc="-1" strike="noStrike">
                <a:solidFill>
                  <a:srgbClr val="800000"/>
                </a:solidFill>
                <a:latin typeface="Arial"/>
                <a:ea typeface="MS PGothic"/>
              </a:rPr>
              <a:t>Scope of the Project:-</a:t>
            </a:r>
            <a:endParaRPr b="0" lang="en-US" sz="2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Identification of principles for determining applications which require Time-stamping and apply them to identify such applications in areas like e-Trade,            e-Banking, Digital Crypto-Currencies, etc.</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Review of current architectures/solutions/protocols for implementing Time-stamping Services and suggest suitable architectures/solutions/protocols matching with level of assurance required by various Applications and propose new ones if required.</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Review of various standards, including those for Time-stamping requests and responses,Trusted Time-stamping Authorities(TSAs), TSA Certificates,etc.</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Building a Repository of Open Source and Proprietary Tools for Time-stamping Applications.</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1800" spc="-1" strike="noStrike">
                <a:solidFill>
                  <a:srgbClr val="800000"/>
                </a:solidFill>
                <a:latin typeface="Arial"/>
              </a:rPr>
              <a:t>Address interoperability concerns across different implementations and Cross-border legal significance of Time-stamps.</a:t>
            </a: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0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42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0"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1" name="Text Box 4"/>
          <p:cNvSpPr/>
          <p:nvPr/>
        </p:nvSpPr>
        <p:spPr>
          <a:xfrm>
            <a:off x="762120" y="1371600"/>
            <a:ext cx="7772400" cy="4343400"/>
          </a:xfrm>
          <a:prstGeom prst="rect">
            <a:avLst/>
          </a:prstGeom>
          <a:noFill/>
          <a:ln w="0">
            <a:noFill/>
          </a:ln>
        </p:spPr>
        <p:style>
          <a:lnRef idx="0"/>
          <a:fillRef idx="0"/>
          <a:effectRef idx="0"/>
          <a:fontRef idx="minor"/>
        </p:style>
        <p:txBody>
          <a:bodyPr lIns="90000" rIns="90000" tIns="64440" bIns="45000" anchor="t">
            <a:noAutofit/>
          </a:bodyPr>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1" lang="fr-FR" sz="2200" spc="-1" strike="noStrike">
                <a:solidFill>
                  <a:srgbClr val="800000"/>
                </a:solidFill>
                <a:latin typeface="Arial"/>
              </a:rPr>
              <a:t>Deliverables</a:t>
            </a:r>
            <a:endParaRPr b="0" lang="en-US" sz="22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 Document containing Recommendations covering the above scope and purpose of the Project including solutions for long-term archival.</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details of available Time-stamping Tools</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case studies of current application using time-stamping</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nexure containing samples illustrating Time-stamping Response and Request, Time-stamping Authority Certificate, etc</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3"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4" name="Text Box 4"/>
          <p:cNvSpPr/>
          <p:nvPr/>
        </p:nvSpPr>
        <p:spPr>
          <a:xfrm>
            <a:off x="762120" y="1371600"/>
            <a:ext cx="7772400" cy="4267080"/>
          </a:xfrm>
          <a:prstGeom prst="rect">
            <a:avLst/>
          </a:prstGeom>
          <a:noFill/>
          <a:ln w="0">
            <a:noFill/>
          </a:ln>
        </p:spPr>
        <p:style>
          <a:lnRef idx="0"/>
          <a:fillRef idx="0"/>
          <a:effectRef idx="0"/>
          <a:fontRef idx="minor"/>
        </p:style>
        <p:txBody>
          <a:bodyPr lIns="90000" rIns="90000" tIns="64440" bIns="45000" anchor="t">
            <a:noAutofit/>
          </a:bodyPr>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1" lang="fr-FR" sz="2200" spc="-1" strike="noStrike">
                <a:solidFill>
                  <a:srgbClr val="800000"/>
                </a:solidFill>
                <a:latin typeface="Arial"/>
              </a:rPr>
              <a:t>Any Suggestions ?</a:t>
            </a:r>
            <a:endParaRPr b="0" lang="en-US" sz="22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 separate Project should be initiated for Timestamping and Long-term Archival ?</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lvl="4" marL="2271600" indent="-42516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ea typeface="MS PGothic"/>
              </a:rPr>
              <a:t>           </a:t>
            </a:r>
            <a:r>
              <a:rPr b="0" lang="fr-FR" sz="2000" spc="-1" strike="noStrike">
                <a:solidFill>
                  <a:srgbClr val="800000"/>
                </a:solidFill>
                <a:latin typeface="Arial"/>
                <a:ea typeface="MS PGothic"/>
              </a:rPr>
              <a:t>OR</a:t>
            </a:r>
            <a:endParaRPr b="0" lang="en-US" sz="2000" spc="-1" strike="noStrike">
              <a:solidFill>
                <a:srgbClr val="000000"/>
              </a:solidFill>
              <a:latin typeface="Arial"/>
            </a:endParaRPr>
          </a:p>
          <a:p>
            <a:pPr lvl="4" marL="2271600" indent="-42516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lgn="just">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 Project can be merged with some other Project like “Recommendation for ensuring legally significant trusted trans-boundary electronic interactions” or Recommendation 14</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buClr>
                <a:srgbClr val="8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r>
              <a:rPr b="0" lang="fr-FR" sz="2000" spc="-1" strike="noStrike">
                <a:solidFill>
                  <a:srgbClr val="800000"/>
                </a:solidFill>
                <a:latin typeface="Arial"/>
              </a:rPr>
              <a:t>Any other suggestions ?</a:t>
            </a: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20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a:p>
            <a:pPr marL="216000" indent="-1983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16"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17" name="Text Box 4"/>
          <p:cNvSpPr/>
          <p:nvPr/>
        </p:nvSpPr>
        <p:spPr>
          <a:xfrm>
            <a:off x="609480" y="1771560"/>
            <a:ext cx="7680600" cy="4095720"/>
          </a:xfrm>
          <a:prstGeom prst="rect">
            <a:avLst/>
          </a:prstGeom>
          <a:noFill/>
          <a:ln w="0">
            <a:noFill/>
          </a:ln>
        </p:spPr>
        <p:style>
          <a:lnRef idx="0"/>
          <a:fillRef idx="0"/>
          <a:effectRef idx="0"/>
          <a:fontRef idx="minor"/>
        </p:style>
        <p:txBody>
          <a:bodyPr lIns="90000" rIns="90000" tIns="110520" bIns="450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4000" spc="-1" strike="noStrike">
                <a:solidFill>
                  <a:srgbClr val="804c19"/>
                </a:solidFill>
                <a:latin typeface="Arial"/>
              </a:rPr>
              <a:t>Thank You !!!</a:t>
            </a:r>
            <a:endParaRPr b="0" lang="en-US" sz="4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804c19"/>
                </a:solidFill>
                <a:latin typeface="Arial"/>
              </a:rPr>
              <a:t>	</a:t>
            </a:r>
            <a:r>
              <a:rPr b="1" lang="fr-FR" sz="3200" spc="-1" strike="noStrike">
                <a:solidFill>
                  <a:srgbClr val="804c19"/>
                </a:solidFill>
                <a:latin typeface="Arial"/>
              </a:rPr>
              <a:t>Questions ?? </a:t>
            </a:r>
            <a:endParaRPr b="0" lang="en-US" sz="32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Controller of Certifying Authorities(CCA)</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Department of Electronics and Information Technology,</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Ministry of Communications &amp; Information Technology,</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800000"/>
                </a:solidFill>
                <a:latin typeface="Tahoma"/>
              </a:rPr>
              <a:t>	</a:t>
            </a:r>
            <a:r>
              <a:rPr b="1" lang="en-US" sz="1200" spc="-1" strike="noStrike">
                <a:solidFill>
                  <a:srgbClr val="800000"/>
                </a:solidFill>
                <a:latin typeface="Tahoma"/>
              </a:rPr>
              <a:t>	</a:t>
            </a:r>
            <a:r>
              <a:rPr b="1" lang="en-US" sz="1200" spc="-1" strike="noStrike">
                <a:solidFill>
                  <a:srgbClr val="800000"/>
                </a:solidFill>
                <a:latin typeface="Tahoma"/>
              </a:rPr>
              <a:t>Government of India</a:t>
            </a:r>
            <a:endParaRPr b="0" lang="en-US" sz="1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80"/>
                </a:solidFill>
                <a:latin typeface="Tahoma"/>
              </a:rPr>
              <a:t>	</a:t>
            </a:r>
            <a:r>
              <a:rPr b="1" lang="en-US" sz="1200" spc="-1" strike="noStrike">
                <a:solidFill>
                  <a:srgbClr val="000080"/>
                </a:solidFill>
                <a:latin typeface="Tahoma"/>
              </a:rPr>
              <a:t>	</a:t>
            </a:r>
            <a:r>
              <a:rPr b="1" lang="en-US" sz="1200" spc="-1" strike="noStrike">
                <a:solidFill>
                  <a:srgbClr val="000080"/>
                </a:solidFill>
                <a:latin typeface="Tahoma"/>
              </a:rPr>
              <a:t>Website:cca.gov.in, E-mail:info@cca.gov.in</a:t>
            </a:r>
            <a:br>
              <a:rPr sz="3600"/>
            </a:b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78"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79" name="Text Box 4"/>
          <p:cNvSpPr/>
          <p:nvPr/>
        </p:nvSpPr>
        <p:spPr>
          <a:xfrm>
            <a:off x="1004760" y="1279440"/>
            <a:ext cx="7148520" cy="854280"/>
          </a:xfrm>
          <a:prstGeom prst="rect">
            <a:avLst/>
          </a:prstGeom>
          <a:noFill/>
          <a:ln w="0">
            <a:noFill/>
          </a:ln>
        </p:spPr>
        <p:style>
          <a:lnRef idx="0"/>
          <a:fillRef idx="0"/>
          <a:effectRef idx="0"/>
          <a:fontRef idx="minor"/>
        </p:style>
        <p:txBody>
          <a:bodyPr wrap="none" lIns="90000" rIns="90000" tIns="680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    </a:t>
            </a:r>
            <a:r>
              <a:rPr b="1" lang="fr-FR" sz="2600" spc="-1" strike="noStrike">
                <a:solidFill>
                  <a:srgbClr val="800000"/>
                </a:solidFill>
                <a:latin typeface="Arial"/>
              </a:rPr>
              <a:t>Areas which need to be addressed within</a:t>
            </a:r>
            <a:endParaRPr b="0" lang="en-US" sz="2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 </a:t>
            </a:r>
            <a:r>
              <a:rPr b="1" lang="fr-FR" sz="2600" spc="-1" strike="noStrike">
                <a:solidFill>
                  <a:srgbClr val="800000"/>
                </a:solidFill>
                <a:latin typeface="Arial"/>
              </a:rPr>
              <a:t>Government and Regulatory Domain  </a:t>
            </a:r>
            <a:endParaRPr b="0" lang="en-US" sz="2600" spc="-1" strike="noStrike">
              <a:solidFill>
                <a:srgbClr val="000000"/>
              </a:solidFill>
              <a:latin typeface="Arial"/>
            </a:endParaRPr>
          </a:p>
        </p:txBody>
      </p:sp>
      <p:sp>
        <p:nvSpPr>
          <p:cNvPr id="480" name="Text Box 5"/>
          <p:cNvSpPr/>
          <p:nvPr/>
        </p:nvSpPr>
        <p:spPr>
          <a:xfrm>
            <a:off x="228600" y="1828800"/>
            <a:ext cx="876312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1. Standards for Mutual Recognition of Foreign Electronic Signatur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2. Standards for Timestamping Servic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3. Standards for Long-term Archival of Authenticated Electronic Documents </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 Area (1) is addressed by two upcoming Project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However, areas (2) and (3) are yet to be addressed by any Project. </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	</a:t>
            </a:r>
            <a:r>
              <a:rPr b="0" lang="fr-FR" sz="2000" spc="-1" strike="noStrike">
                <a:solidFill>
                  <a:srgbClr val="800000"/>
                </a:solidFill>
                <a:latin typeface="Arial"/>
              </a:rPr>
              <a:t>These two areas are interdependent and overlapping and may be addressed by a single project.</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2"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83" name="Text Box 5"/>
          <p:cNvSpPr/>
          <p:nvPr/>
        </p:nvSpPr>
        <p:spPr>
          <a:xfrm>
            <a:off x="482760" y="1314360"/>
            <a:ext cx="8280360" cy="4629240"/>
          </a:xfrm>
          <a:prstGeom prst="rect">
            <a:avLst/>
          </a:prstGeom>
          <a:noFill/>
          <a:ln w="0">
            <a:noFill/>
          </a:ln>
        </p:spPr>
        <p:style>
          <a:lnRef idx="0"/>
          <a:fillRef idx="0"/>
          <a:effectRef idx="0"/>
          <a:fontRef idx="minor"/>
        </p:style>
        <p:txBody>
          <a:bodyPr lIns="90000" rIns="90000" tIns="74520" bIns="45000" anchor="t">
            <a:noAutofit/>
          </a:bodyPr>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Arial Black"/>
              </a:rPr>
              <a:t>	</a:t>
            </a:r>
            <a:r>
              <a:rPr b="0" lang="en-US" sz="1800" spc="-1" strike="noStrike">
                <a:solidFill>
                  <a:srgbClr val="800000"/>
                </a:solidFill>
                <a:latin typeface="Arial Black"/>
              </a:rPr>
              <a:t>Mr “Good-Trader” in a country “Utopia” has a Digital Signature Certificate issued by “SecureCA”,a recognized Certifying Authority in “Utopia” and wants to sign a document and send it to Mr “Good-Customer” in another country “Heaven”.</a:t>
            </a:r>
            <a:endParaRPr b="0" lang="en-US" sz="1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Arial Black"/>
              </a:rPr>
              <a:t>	</a:t>
            </a:r>
            <a:r>
              <a:rPr b="0" lang="en-US" sz="1800" spc="-1" strike="noStrike">
                <a:solidFill>
                  <a:srgbClr val="800000"/>
                </a:solidFill>
                <a:latin typeface="Arial Black"/>
              </a:rPr>
              <a:t>However, “SecureCA” is not a recognized Certifying Authority “Heaven”, and hence the digitally signed document lacks legal validity in “Heaven” . To increase  Mr. Good-Trader's traders problems , no recognized Certifying Authority of “Heaven” is having local presence in “Utopia”.</a:t>
            </a:r>
            <a:endParaRPr b="0" lang="en-US" sz="1800" spc="-1" strike="noStrike">
              <a:solidFill>
                <a:srgbClr val="000000"/>
              </a:solidFill>
              <a:latin typeface="Arial"/>
            </a:endParaRPr>
          </a:p>
          <a:p>
            <a:pPr marL="212760" indent="-198360" algn="just">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800" spc="-1" strike="noStrike">
              <a:solidFill>
                <a:srgbClr val="000000"/>
              </a:solidFill>
              <a:latin typeface="Arial"/>
            </a:endParaRPr>
          </a:p>
          <a:p>
            <a:pPr marL="212760" indent="-198360" algn="just">
              <a:lnSpc>
                <a:spcPct val="100000"/>
              </a:lnSpc>
              <a:spcBef>
                <a:spcPts val="7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en-US" sz="1800" spc="-1" strike="noStrike">
                <a:solidFill>
                  <a:srgbClr val="800000"/>
                </a:solidFill>
                <a:latin typeface="Verdana"/>
              </a:rPr>
              <a:t>	</a:t>
            </a:r>
            <a:r>
              <a:rPr b="0" lang="en-US" sz="1800" spc="-1" strike="noStrike">
                <a:solidFill>
                  <a:srgbClr val="800000"/>
                </a:solidFill>
                <a:latin typeface="Verdana"/>
              </a:rPr>
              <a:t>The two countries “Utopia” and “Heaven” can have an arrangement through which Recognized , Licensed Certifying Authorities in both the countries are mutually recognized and Digital Signatures Certificates issued by them are accepted.</a:t>
            </a: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5"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86" name="Text Box 5"/>
          <p:cNvSpPr/>
          <p:nvPr/>
        </p:nvSpPr>
        <p:spPr>
          <a:xfrm>
            <a:off x="1800360" y="1419120"/>
            <a:ext cx="848340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100000"/>
              </a:lnSpc>
              <a:spcBef>
                <a:spcPts val="15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100000"/>
              </a:lnSpc>
              <a:spcBef>
                <a:spcPts val="700"/>
              </a:spcBef>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
        <p:nvSpPr>
          <p:cNvPr id="487" name="Text Box 7"/>
          <p:cNvSpPr/>
          <p:nvPr/>
        </p:nvSpPr>
        <p:spPr>
          <a:xfrm>
            <a:off x="695160" y="2414520"/>
            <a:ext cx="7991640" cy="2638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800000"/>
                </a:solidFill>
                <a:latin typeface="Arial"/>
                <a:ea typeface="DejaVu Sans"/>
              </a:rPr>
              <a:t>Recommendation for ensuring legally significant trusted trans-boundary electronic interaction.</a:t>
            </a:r>
            <a:endParaRPr b="0" lang="en-US" sz="26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buClr>
                <a:srgbClr val="80000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800000"/>
                </a:solidFill>
                <a:latin typeface="Arial"/>
                <a:ea typeface="DejaVu Sans"/>
              </a:rPr>
              <a:t>Management of e-Identity.</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89"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90" name="Text Box 4"/>
          <p:cNvSpPr/>
          <p:nvPr/>
        </p:nvSpPr>
        <p:spPr>
          <a:xfrm>
            <a:off x="1004760" y="1279440"/>
            <a:ext cx="7488360" cy="459000"/>
          </a:xfrm>
          <a:prstGeom prst="rect">
            <a:avLst/>
          </a:prstGeom>
          <a:noFill/>
          <a:ln w="0">
            <a:noFill/>
          </a:ln>
        </p:spPr>
        <p:style>
          <a:lnRef idx="0"/>
          <a:fillRef idx="0"/>
          <a:effectRef idx="0"/>
          <a:fontRef idx="minor"/>
        </p:style>
        <p:txBody>
          <a:bodyPr wrap="none" lIns="90000" rIns="90000" tIns="680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Need for Trusted Timestamping Services</a:t>
            </a:r>
            <a:endParaRPr b="0" lang="en-US" sz="2600" spc="-1" strike="noStrike">
              <a:solidFill>
                <a:srgbClr val="000000"/>
              </a:solidFill>
              <a:latin typeface="Arial"/>
            </a:endParaRPr>
          </a:p>
        </p:txBody>
      </p:sp>
      <p:sp>
        <p:nvSpPr>
          <p:cNvPr id="491" name="Text Box 5"/>
          <p:cNvSpPr/>
          <p:nvPr/>
        </p:nvSpPr>
        <p:spPr>
          <a:xfrm>
            <a:off x="457200" y="1828800"/>
            <a:ext cx="7391520" cy="4629240"/>
          </a:xfrm>
          <a:prstGeom prst="rect">
            <a:avLst/>
          </a:prstGeom>
          <a:noFill/>
          <a:ln w="0">
            <a:noFill/>
          </a:ln>
        </p:spPr>
        <p:style>
          <a:lnRef idx="0"/>
          <a:fillRef idx="0"/>
          <a:effectRef idx="0"/>
          <a:fontRef idx="minor"/>
        </p:style>
        <p:txBody>
          <a:bodyPr lIns="90000" rIns="90000" tIns="74520" bIns="45000" anchor="t">
            <a:noAutofit/>
          </a:bodyPr>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Exponential increase in number of G2C,G2B,B2B and B2G transactions being carried out electronically.</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Lack irrefutable evidence regarding the existence of transaction/document at a particular time instance in past even though such evidence may be required from legal and technical perspectives (for example a design to be patented).</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Increase in number of documents being authenticated using various forms of Electronic Signatures.</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2000" spc="-1" strike="noStrike">
              <a:solidFill>
                <a:srgbClr val="000000"/>
              </a:solidFill>
              <a:latin typeface="Arial"/>
            </a:endParaRPr>
          </a:p>
          <a:p>
            <a:pPr marL="212760" indent="-198360" algn="just">
              <a:lnSpc>
                <a:spcPct val="87000"/>
              </a:lnSpc>
              <a:buClr>
                <a:srgbClr val="800000"/>
              </a:buClr>
              <a:buSzPct val="45000"/>
              <a:buFont typeface="Wingdings" charset="2"/>
              <a:buChar char=""/>
              <a:tabLst>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2000" spc="-1" strike="noStrike">
                <a:solidFill>
                  <a:srgbClr val="800000"/>
                </a:solidFill>
                <a:latin typeface="Arial"/>
              </a:rPr>
              <a:t>However assurance of Authenticity,Integrity and Non-Repudiation provided by such mechanisms is short lived due to revocation/expiry/suspension of associated Signature Certificate.</a:t>
            </a:r>
            <a:endParaRPr b="0" lang="en-US" sz="20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endParaRPr b="0" lang="en-US" sz="1800" spc="-1" strike="noStrike">
              <a:solidFill>
                <a:srgbClr val="000000"/>
              </a:solidFill>
              <a:latin typeface="Arial"/>
            </a:endParaRPr>
          </a:p>
          <a:p>
            <a:pPr marL="212760" indent="-198360">
              <a:lnSpc>
                <a:spcPct val="87000"/>
              </a:lnSpc>
              <a:tabLst>
                <a:tab algn="l" pos="0"/>
                <a:tab algn="l" pos="212760"/>
                <a:tab algn="l" pos="660240"/>
                <a:tab algn="l" pos="1109520"/>
                <a:tab algn="l" pos="1558800"/>
                <a:tab algn="l" pos="2008080"/>
                <a:tab algn="l" pos="2457360"/>
                <a:tab algn="l" pos="2906640"/>
                <a:tab algn="l" pos="3355920"/>
                <a:tab algn="l" pos="3805200"/>
                <a:tab algn="l" pos="4254480"/>
                <a:tab algn="l" pos="4703760"/>
                <a:tab algn="l" pos="5153040"/>
                <a:tab algn="l" pos="5602320"/>
                <a:tab algn="l" pos="6051600"/>
                <a:tab algn="l" pos="6500880"/>
                <a:tab algn="l" pos="6950160"/>
                <a:tab algn="l" pos="7399440"/>
                <a:tab algn="l" pos="7848720"/>
                <a:tab algn="l" pos="8298000"/>
                <a:tab algn="l" pos="8747280"/>
                <a:tab algn="l" pos="91965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93"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494" name="Text Box 4"/>
          <p:cNvSpPr/>
          <p:nvPr/>
        </p:nvSpPr>
        <p:spPr>
          <a:xfrm>
            <a:off x="852480" y="1279440"/>
            <a:ext cx="7488360" cy="459000"/>
          </a:xfrm>
          <a:prstGeom prst="rect">
            <a:avLst/>
          </a:prstGeom>
          <a:noFill/>
          <a:ln w="0">
            <a:noFill/>
          </a:ln>
        </p:spPr>
        <p:style>
          <a:lnRef idx="0"/>
          <a:fillRef idx="0"/>
          <a:effectRef idx="0"/>
          <a:fontRef idx="minor"/>
        </p:style>
        <p:txBody>
          <a:bodyPr wrap="none" lIns="90000" rIns="90000" tIns="680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600" spc="-1" strike="noStrike">
                <a:solidFill>
                  <a:srgbClr val="800000"/>
                </a:solidFill>
                <a:latin typeface="Arial"/>
              </a:rPr>
              <a:t>Need for Trusted Timestamping Services</a:t>
            </a:r>
            <a:endParaRPr b="0" lang="en-US" sz="2600" spc="-1" strike="noStrike">
              <a:solidFill>
                <a:srgbClr val="000000"/>
              </a:solidFill>
              <a:latin typeface="Arial"/>
            </a:endParaRPr>
          </a:p>
        </p:txBody>
      </p:sp>
      <p:sp>
        <p:nvSpPr>
          <p:cNvPr id="495" name="Text Box 5"/>
          <p:cNvSpPr/>
          <p:nvPr/>
        </p:nvSpPr>
        <p:spPr>
          <a:xfrm>
            <a:off x="304920" y="1828800"/>
            <a:ext cx="8483400" cy="4267080"/>
          </a:xfrm>
          <a:prstGeom prst="rect">
            <a:avLst/>
          </a:prstGeom>
          <a:noFill/>
          <a:ln w="0">
            <a:noFill/>
          </a:ln>
        </p:spPr>
        <p:style>
          <a:lnRef idx="0"/>
          <a:fillRef idx="0"/>
          <a:effectRef idx="0"/>
          <a:fontRef idx="minor"/>
        </p:style>
        <p:txBody>
          <a:bodyPr lIns="90000" rIns="90000" tIns="74520" bIns="45000" anchor="t">
            <a:noAutofit/>
          </a:bodyPr>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20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Consider the following case:-</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Alice signs a Contract with Bob using Digital Signature. After two days Alice lost her private keys used for signing the Contract and got her Signature Certificate revoked.</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Bob can legally enforce the contract if he can prove that the Contract Document was signed when the Signature Certificate was valid as Alice could claim that the Contract was signed after she lost private keys and the associated Certificate was revoked and Alice is not liable for signatures made after revocation of the Certificate.</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gn="just">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r>
              <a:rPr b="0" lang="fr-FR" sz="1800" spc="-1" strike="noStrike">
                <a:solidFill>
                  <a:srgbClr val="800000"/>
                </a:solidFill>
                <a:latin typeface="Arial"/>
              </a:rPr>
              <a:t>In such scenario, if the signed document was Timestamped by a Trusted Third Party then the Timestamp could be used to prove that the Certificate was valid at the time of signing.</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endParaRPr b="0" lang="en-US" sz="1800" spc="-1" strike="noStrike">
              <a:solidFill>
                <a:srgbClr val="000000"/>
              </a:solidFill>
              <a:latin typeface="Arial"/>
            </a:endParaRPr>
          </a:p>
          <a:p>
            <a:pPr marL="210960" indent="-198360">
              <a:lnSpc>
                <a:spcPct val="87000"/>
              </a:lnSpc>
              <a:tabLst>
                <a:tab algn="l" pos="0"/>
                <a:tab algn="l" pos="210960"/>
                <a:tab algn="l" pos="658800"/>
                <a:tab algn="l" pos="1108080"/>
                <a:tab algn="l" pos="1557360"/>
                <a:tab algn="l" pos="2006640"/>
                <a:tab algn="l" pos="2455920"/>
                <a:tab algn="l" pos="2905200"/>
                <a:tab algn="l" pos="3354480"/>
                <a:tab algn="l" pos="3803760"/>
                <a:tab algn="l" pos="4253040"/>
                <a:tab algn="l" pos="4702320"/>
                <a:tab algn="l" pos="5151600"/>
                <a:tab algn="l" pos="5600880"/>
                <a:tab algn="l" pos="6049800"/>
                <a:tab algn="l" pos="6499080"/>
                <a:tab algn="l" pos="6948360"/>
                <a:tab algn="l" pos="7397640"/>
                <a:tab algn="l" pos="7846920"/>
                <a:tab algn="l" pos="8296200"/>
                <a:tab algn="l" pos="8745480"/>
                <a:tab algn="l" pos="9194760"/>
                <a:tab algn="l" pos="10058400"/>
              </a:tabLst>
            </a:pPr>
            <a:r>
              <a:rPr b="0" lang="fr-FR" sz="1800" spc="-1" strike="noStrike">
                <a:solidFill>
                  <a:srgbClr val="8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497"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pic>
        <p:nvPicPr>
          <p:cNvPr id="498" name="Picture 5" descr=""/>
          <p:cNvPicPr/>
          <p:nvPr/>
        </p:nvPicPr>
        <p:blipFill>
          <a:blip r:embed="rId1"/>
          <a:stretch/>
        </p:blipFill>
        <p:spPr>
          <a:xfrm>
            <a:off x="331920" y="1295280"/>
            <a:ext cx="8367480" cy="3743280"/>
          </a:xfrm>
          <a:prstGeom prst="rect">
            <a:avLst/>
          </a:prstGeom>
          <a:ln w="0">
            <a:noFill/>
          </a:ln>
        </p:spPr>
      </p:pic>
      <p:sp>
        <p:nvSpPr>
          <p:cNvPr id="499" name="Text Box 6"/>
          <p:cNvSpPr/>
          <p:nvPr/>
        </p:nvSpPr>
        <p:spPr>
          <a:xfrm>
            <a:off x="203040" y="5183280"/>
            <a:ext cx="8560080" cy="1143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Legally valid proof of existence of a document at a particular tim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User submits hash of the document, TSA adds a Timestamp and signs i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800000"/>
                </a:solidFill>
                <a:latin typeface="Arial"/>
              </a:rPr>
              <a:t>Privacy is maintained as only hash of the document is made available to TSA(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1"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2" name="Text Box 4"/>
          <p:cNvSpPr/>
          <p:nvPr/>
        </p:nvSpPr>
        <p:spPr>
          <a:xfrm>
            <a:off x="533520" y="1244520"/>
            <a:ext cx="8067600" cy="509292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400" spc="-1" strike="noStrike">
                <a:solidFill>
                  <a:srgbClr val="800000"/>
                </a:solidFill>
                <a:latin typeface="Arial"/>
                <a:ea typeface="MS PGothic"/>
              </a:rPr>
              <a:t>          </a:t>
            </a:r>
            <a:r>
              <a:rPr b="1" lang="fr-FR" sz="2400" spc="-1" strike="noStrike">
                <a:solidFill>
                  <a:srgbClr val="800000"/>
                </a:solidFill>
                <a:latin typeface="Arial"/>
                <a:ea typeface="MS PGothic"/>
              </a:rPr>
              <a:t>Why a Project on Timestamping ?</a:t>
            </a:r>
            <a:endParaRPr b="0" lang="en-US" sz="24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4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Although Timestamping is useful for secure long-term Archival of documents, yet the service has limited penetration.</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awareness about potential benefits it offers.</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Guidance regarding applications which should utilize Timestamping.</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200" spc="-1" strike="noStrike">
                <a:solidFill>
                  <a:srgbClr val="800000"/>
                </a:solidFill>
                <a:latin typeface="Arial"/>
              </a:rPr>
              <a:t>Lack of Guidance regarding different Timestamping Architectures/mechanisms/Protocols suitable for various Applications (e.g. when to use Mutiple Timestamps,              re-stamping, etc).</a:t>
            </a: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504"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05" name="Text Box 4"/>
          <p:cNvSpPr/>
          <p:nvPr/>
        </p:nvSpPr>
        <p:spPr>
          <a:xfrm>
            <a:off x="466560" y="1523880"/>
            <a:ext cx="8448840" cy="3733920"/>
          </a:xfrm>
          <a:prstGeom prst="rect">
            <a:avLst/>
          </a:prstGeom>
          <a:noFill/>
          <a:ln w="0">
            <a:noFill/>
          </a:ln>
        </p:spPr>
        <p:style>
          <a:lnRef idx="0"/>
          <a:fillRef idx="0"/>
          <a:effectRef idx="0"/>
          <a:fontRef idx="minor"/>
        </p:style>
        <p:txBody>
          <a:bodyPr lIns="90000" rIns="90000" tIns="66240" bIns="45000" anchor="t">
            <a:noAutofit/>
          </a:bodyPr>
          <a:p>
            <a:pPr lvl="1" marL="957240" indent="-482400">
              <a:lnSpc>
                <a:spcPct val="100000"/>
              </a:lnSpc>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1" lang="fr-FR" sz="2800" spc="-1" strike="noStrike">
                <a:solidFill>
                  <a:srgbClr val="800000"/>
                </a:solidFill>
                <a:latin typeface="Arial"/>
                <a:ea typeface="MS PGothic"/>
              </a:rPr>
              <a:t>Purpose of the Project:-</a:t>
            </a:r>
            <a:endParaRPr b="0" lang="en-US" sz="2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400" spc="-1" strike="noStrike">
              <a:solidFill>
                <a:srgbClr val="000000"/>
              </a:solidFill>
              <a:latin typeface="Arial"/>
            </a:endParaRPr>
          </a:p>
          <a:p>
            <a:pPr marL="216000" indent="-198360" algn="just">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600" spc="-1" strike="noStrike">
                <a:solidFill>
                  <a:srgbClr val="800000"/>
                </a:solidFill>
                <a:latin typeface="Arial"/>
              </a:rPr>
              <a:t>To identify trade related and other application areas which could potentially benefit from Time-stamping Services.</a:t>
            </a:r>
            <a:endParaRPr b="0" lang="en-US" sz="26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600" spc="-1" strike="noStrike">
              <a:solidFill>
                <a:srgbClr val="000000"/>
              </a:solidFill>
              <a:latin typeface="Arial"/>
            </a:endParaRPr>
          </a:p>
          <a:p>
            <a:pPr marL="216000" indent="-198360">
              <a:buClr>
                <a:srgbClr val="800000"/>
              </a:buClr>
              <a:buSzPct val="45000"/>
              <a:buFont typeface="Wingdings" charset="2"/>
              <a:buChar char=""/>
              <a:tabLst>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r>
              <a:rPr b="0" lang="fr-FR" sz="2600" spc="-1" strike="noStrike">
                <a:solidFill>
                  <a:srgbClr val="800000"/>
                </a:solidFill>
                <a:latin typeface="Arial"/>
              </a:rPr>
              <a:t>To provide guidance and suggestions for implementing Time-stamping services for such applications.</a:t>
            </a:r>
            <a:endParaRPr b="0" lang="en-US" sz="26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22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a:p>
            <a:pPr marL="216000" indent="-198360">
              <a:tabLst>
                <a:tab algn="l" pos="0"/>
                <a:tab algn="l" pos="957240"/>
                <a:tab algn="l" pos="1405080"/>
                <a:tab algn="l" pos="1854360"/>
                <a:tab algn="l" pos="2303640"/>
                <a:tab algn="l" pos="2752560"/>
                <a:tab algn="l" pos="3201840"/>
                <a:tab algn="l" pos="3651120"/>
                <a:tab algn="l" pos="4100400"/>
                <a:tab algn="l" pos="4549680"/>
                <a:tab algn="l" pos="4998960"/>
                <a:tab algn="l" pos="5448240"/>
                <a:tab algn="l" pos="5897520"/>
                <a:tab algn="l" pos="6346800"/>
                <a:tab algn="l" pos="6796080"/>
                <a:tab algn="l" pos="7245360"/>
                <a:tab algn="l" pos="7694640"/>
                <a:tab algn="l" pos="8143920"/>
                <a:tab algn="l" pos="8593200"/>
                <a:tab algn="l" pos="9042480"/>
                <a:tab algn="l" pos="9491760"/>
                <a:tab algn="l" pos="994104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RAM</cp:lastModifiedBy>
  <dcterms:modified xsi:type="dcterms:W3CDTF">2014-04-09T07:14:31Z</dcterms:modified>
  <cp:revision>348</cp:revision>
  <dc:subject>PPT Template</dc:subject>
  <dc:title>United Nations Economic Commssion for Europe</dc:title>
</cp:coreProperties>
</file>