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D81-E661-43B9-9F0F-29A93ACBF7D8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6159-11EE-461C-82A9-8A5C3BE126AD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267-EDCF-4DC3-8642-19376BFCBAE0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96D2-2A23-49D7-9A86-E6BD5B09A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EC30-2D01-4066-8BB5-FCA67D0F3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0C6E-F08A-4681-9BAD-99C558F09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CBD8-E6E3-40E6-A5CA-0281D1319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9A00-34DB-40DA-8C89-F886769ED7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69AA-1051-48F0-BA20-6930C325CE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456D-7256-4633-B330-48D68609A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F981-8962-4066-88E1-80B64E9DCD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D6E2-696C-413D-A607-CC1A866A74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DFD5-217C-4BE3-ADCA-DC5EF485F8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6291-8CA5-4C25-AF6F-6AC302AA3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8120-5EF0-4C7E-9F19-9445592E5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C114-1917-4DCA-8289-8BA2071040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017F-CB25-4526-A027-E3A4A00E85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DF2E-164C-48C1-8643-87A5E4FB1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5AF1-680B-4346-A1B9-45B100EED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100E-7E38-44D8-A453-79EDFB04A0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EF91-9529-4F45-9A37-FFF37457AF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BA81-42EA-4CC7-A075-EBF12647A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23A3-009C-4683-9C3F-474A3A96C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B6AF-5D5E-4DE9-BB05-FF2900ECD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8E6B-2A8B-49E4-A0A6-7CF051AF5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9E83-4F14-4683-975F-3E6A5B74B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FFFB-4152-4F43-8E98-8FF01E8E8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4398-C35F-4A64-9E1D-0CA999D6CCB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24E2-95C2-47D0-8B22-416C2FACC2C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44560" y="2971800"/>
            <a:ext cx="7748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Agenda Item 9</a:t>
            </a:r>
            <a:br>
              <a:rPr sz="4000"/>
            </a:b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Programme of Work and 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4500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89548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D63D-B144-4224-A1D9-9588113783C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457200" y="22096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peak the same core language, to foster seman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operability with other eco-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 partnerships – liais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xploit strengths, don’t reinvent the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 a key-word</a:t>
            </a:r>
            <a:r>
              <a:rPr b="1" lang="sv-SE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vide UN/CEFACT-framework to allow area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7913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put Panel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gold-letter-B"/>
          <p:cNvPicPr/>
          <p:nvPr/>
        </p:nvPicPr>
        <p:blipFill>
          <a:blip r:embed="rId1"/>
          <a:stretch/>
        </p:blipFill>
        <p:spPr>
          <a:xfrm>
            <a:off x="7234200" y="2895480"/>
            <a:ext cx="16653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587C-D5CA-4B37-AE00-9938353FAB5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gold-letter-c"/>
          <p:cNvPicPr/>
          <p:nvPr/>
        </p:nvPicPr>
        <p:blipFill>
          <a:blip r:embed="rId1"/>
          <a:stretch/>
        </p:blipFill>
        <p:spPr>
          <a:xfrm>
            <a:off x="7391520" y="2590920"/>
            <a:ext cx="16873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304920" y="1447920"/>
            <a:ext cx="853416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pacity building needed for uptake in primary targe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lobal shift from message standard to proces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products requested by end-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to exploit its unique remit and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position/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ity in technology, core semantics and processe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dentify and help bridg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ecrease throughput time – perfection not asked f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8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rdination between SDO’s: focus on strategy and work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rogrammes / busines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7913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put Panel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8253-1085-4296-816B-703E30AD9EF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28600" y="167652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/CEFACT has a role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que remit/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utr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port  for governmental 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e with other SDO‘s, avoid duplic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nhance the role of being a unique centr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inging together communities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spository-creation for implement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gregated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ggregation-of-Supply"/>
          <p:cNvPicPr/>
          <p:nvPr/>
        </p:nvPicPr>
        <p:blipFill>
          <a:blip r:embed="rId1"/>
          <a:stretch/>
        </p:blipFill>
        <p:spPr>
          <a:xfrm>
            <a:off x="6705720" y="156204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1523880" y="600408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enghten strength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zlatan_823511c"/>
          <p:cNvPicPr/>
          <p:nvPr/>
        </p:nvPicPr>
        <p:blipFill>
          <a:blip r:embed="rId2"/>
          <a:stretch/>
        </p:blipFill>
        <p:spPr>
          <a:xfrm>
            <a:off x="838080" y="2057400"/>
            <a:ext cx="559908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2F31-8A78-4D22-B009-2E1E85BE7CE8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533412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w to proc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It's+Up+To+All+Of+Us"/>
          <p:cNvPicPr/>
          <p:nvPr/>
        </p:nvPicPr>
        <p:blipFill>
          <a:blip r:embed="rId1"/>
          <a:stretch/>
        </p:blipFill>
        <p:spPr>
          <a:xfrm>
            <a:off x="2819520" y="1600200"/>
            <a:ext cx="397188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D2D5-D2CD-44AE-8E9A-CB0CDC0D450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304920" y="16002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ocus on Part Two of the Po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..except for two area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us.cdn1.123rf.com/168nwm/orson/orson1103/orson110300003/8996031-digital-number-two--check-my-portfolio-for-other-numbers-from-the-set.jpg"/>
          <p:cNvPicPr/>
          <p:nvPr/>
        </p:nvPicPr>
        <p:blipFill>
          <a:blip r:embed="rId1"/>
          <a:stretch/>
        </p:blipFill>
        <p:spPr>
          <a:xfrm>
            <a:off x="342900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B7DF-9C16-41AB-9BDA-83672301125B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304920" y="190512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PoW is NOT a Bureau docu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ent is based on input from the stakehold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re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ec.europa.eu/enterprise/policies/sustainable-business/media/photos/corporate-social-responsibility_multi-stakeholder-forum.jpg"/>
          <p:cNvPicPr/>
          <p:nvPr/>
        </p:nvPicPr>
        <p:blipFill>
          <a:blip r:embed="rId1"/>
          <a:stretch/>
        </p:blipFill>
        <p:spPr>
          <a:xfrm>
            <a:off x="3048120" y="4343400"/>
            <a:ext cx="33368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BA66-A429-42CA-A7E7-9AC3FAFF660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80880" y="17524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PoW, based on members‘ needs,  cannot be executed without resourc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re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pennyturko.com/wp-content/uploads/2011/02/Resources.jpg"/>
          <p:cNvPicPr/>
          <p:nvPr/>
        </p:nvPicPr>
        <p:blipFill>
          <a:blip r:embed="rId1"/>
          <a:srcRect l="0" t="13333" r="0" b="0"/>
          <a:stretch/>
        </p:blipFill>
        <p:spPr>
          <a:xfrm>
            <a:off x="1905120" y="3124080"/>
            <a:ext cx="5510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Elephant_256x256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541008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alistic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932F-B99C-4F58-BBBB-045D83CCF33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52280" y="16002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rt Two of the PoW prioritize 3 are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ingle Windo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peration and Outr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791320" y="762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ar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3.bp.blogspot.com/-ELQPR4dylzg/TpDlwjObpUI/AAAAAAAAAeg/ALnzIT0XYbs/s1600/priorities.jpg"/>
          <p:cNvPicPr/>
          <p:nvPr/>
        </p:nvPicPr>
        <p:blipFill>
          <a:blip r:embed="rId1"/>
          <a:stretch/>
        </p:blipFill>
        <p:spPr>
          <a:xfrm>
            <a:off x="2895480" y="4038480"/>
            <a:ext cx="39052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E95-909C-4717-A267-D49617123753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28600" y="1600200"/>
            <a:ext cx="8686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ctical success fac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implification, harmoniz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ization of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overnance of recommend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ndards and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orking with other TF-organ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nd other Standard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utreach in order to suppor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334120" y="762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rit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website-design-factors"/>
          <p:cNvPicPr/>
          <p:nvPr/>
        </p:nvPicPr>
        <p:blipFill>
          <a:blip r:embed="rId1"/>
          <a:stretch/>
        </p:blipFill>
        <p:spPr>
          <a:xfrm>
            <a:off x="6867360" y="2286000"/>
            <a:ext cx="227664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526A-0C0A-4861-A987-3C404EFFB53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533520" y="1447920"/>
            <a:ext cx="838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reate a solid fou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laboration with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rease uptake through high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se the unique remit to fill the g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257800" y="762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rategic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http://www.newdirectionsconsulting.com/wp-content/uploads/2011/07/bridgingthegap.jpg"/>
          <p:cNvPicPr/>
          <p:nvPr/>
        </p:nvPicPr>
        <p:blipFill>
          <a:blip r:embed="rId1"/>
          <a:stretch/>
        </p:blipFill>
        <p:spPr>
          <a:xfrm>
            <a:off x="2819520" y="3962520"/>
            <a:ext cx="3647880" cy="28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0888-F7E9-493F-BE88-6981A3ECF7D1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80880" y="175248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w update are UN/CEFACT-”showstoppers”, i.e. Single Window Recommenda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operability on the agenda, more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tablishment of hubs beyond Single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talization:  What is not worked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ublic-Private Partnership on the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put Pane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a1"/>
          <p:cNvPicPr/>
          <p:nvPr/>
        </p:nvPicPr>
        <p:blipFill>
          <a:blip r:embed="rId1"/>
          <a:stretch/>
        </p:blipFill>
        <p:spPr>
          <a:xfrm>
            <a:off x="7155000" y="2438280"/>
            <a:ext cx="1850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Datoranvändare</cp:lastModifiedBy>
  <dcterms:modified xsi:type="dcterms:W3CDTF">2012-02-17T09:01:08Z</dcterms:modified>
  <cp:revision>236</cp:revision>
  <dc:subject>PPT Template</dc:subject>
  <dc:title>United Nations Economic Commssion for Europe</dc:title>
</cp:coreProperties>
</file>