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932-0C84-442C-9A91-71EFAF07DD0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55E-1D2D-4D71-B113-E1C3741B881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92C4-A5E4-409F-BE2F-A6661ED2F543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C09C-F110-4579-B4A7-A7DCF3AD3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0418-E4AA-4F20-8048-855E10357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0537-AF22-4773-83D2-DCEEFC250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0784-9BD1-47C3-B939-E97AA3301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BC0B-6F56-4CAB-A61B-FEDF6EF8D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994A-55D8-4225-8F20-8233F316EE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CDD6-12DE-4922-8F6E-F8DA03FF1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E414-3F68-49AD-A02C-5BC9151D43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96F1-671E-4922-8F17-7532781FC7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8B78-1B59-4054-BAA6-EA4860036F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7B72-431C-4BDD-A09F-5437CE656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EEE9-6DC8-47C3-BF6C-8DA7D9024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2A62-3A22-4E59-ABA1-57F60C1F35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77FE-DC68-43B8-BCE0-96FF73965A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7DF5-79DC-4272-93D2-CCF2009DA7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0E23-D3F6-4D5A-B6DC-83364F8FA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7A9D-F627-45B7-A635-DD60745F73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A5D5-867C-4060-BA72-679AAEA7F9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BF36-DE43-42B7-BD49-8E5FB7249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F46-7A9C-4D80-BA1D-38D266714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BCC5-4AE9-4D4D-8C5D-540852DB2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A0B6-47FB-4741-BC10-976663A25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C9B3-DF5F-4E6B-B078-46EFA396F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6E8C-9DA4-4953-9ACD-FB2607D6D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4A6-21A1-4402-84FB-F7BAD5E093B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486A-BB07-4072-89B1-002DEB8B888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4560" y="2971800"/>
            <a:ext cx="7748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Agenda Item 9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Programme of Work and 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89548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B6CA-EC73-48C8-BC36-EB5211155BB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57200" y="22096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peak the same core language, to foster seman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operability with other eco-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partnerships – liais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xploit strengths, don’t reinvent the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 a key-word</a:t>
            </a:r>
            <a:r>
              <a:rPr b="1" lang="sv-SE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vide UN/CEFACT-framework to allow area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7913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put Panel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gold-letter-B"/>
          <p:cNvPicPr/>
          <p:nvPr/>
        </p:nvPicPr>
        <p:blipFill>
          <a:blip r:embed="rId1"/>
          <a:stretch/>
        </p:blipFill>
        <p:spPr>
          <a:xfrm>
            <a:off x="7234200" y="2895480"/>
            <a:ext cx="16653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5AC4-111E-48DC-9474-476BC4D6F30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gold-letter-c"/>
          <p:cNvPicPr/>
          <p:nvPr/>
        </p:nvPicPr>
        <p:blipFill>
          <a:blip r:embed="rId1"/>
          <a:stretch/>
        </p:blipFill>
        <p:spPr>
          <a:xfrm>
            <a:off x="7391520" y="2590920"/>
            <a:ext cx="16873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304920" y="1447920"/>
            <a:ext cx="853416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pacity building needed for uptake in primary targe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lobal shift from message standard to proces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products requested by end-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to exploit its unique remit and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position/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ity in technology, core semantics and process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dentify and help bridg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ecrease throughput time – perfection not asked f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rdination between SDO’s: focus on strategy and work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s / busines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7913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put Panel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8DCE-066F-4F7C-8978-56EB79EA864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28600" y="167652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has a role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que remit/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port  for governmental 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e with other SDO‘s, avoid duplic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nhance the role of being a unique centr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inging together communities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spository-creation for implement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gregated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ggregation-of-Supply"/>
          <p:cNvPicPr/>
          <p:nvPr/>
        </p:nvPicPr>
        <p:blipFill>
          <a:blip r:embed="rId1"/>
          <a:stretch/>
        </p:blipFill>
        <p:spPr>
          <a:xfrm>
            <a:off x="6705720" y="156204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523880" y="600408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enghten strength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zlatan_823511c"/>
          <p:cNvPicPr/>
          <p:nvPr/>
        </p:nvPicPr>
        <p:blipFill>
          <a:blip r:embed="rId2"/>
          <a:stretch/>
        </p:blipFill>
        <p:spPr>
          <a:xfrm>
            <a:off x="838080" y="2057400"/>
            <a:ext cx="559908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D67-612A-4CEA-A8A9-FCEBFF1E5FB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 to proc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It's+Up+To+All+Of+Us"/>
          <p:cNvPicPr/>
          <p:nvPr/>
        </p:nvPicPr>
        <p:blipFill>
          <a:blip r:embed="rId1"/>
          <a:stretch/>
        </p:blipFill>
        <p:spPr>
          <a:xfrm>
            <a:off x="2819520" y="1600200"/>
            <a:ext cx="397188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C71-1626-401A-B6A7-F39649A25F6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304920" y="16002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cus on Part Two of the P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..except for two area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us.cdn1.123rf.com/168nwm/orson/orson1103/orson110300003/8996031-digital-number-two--check-my-portfolio-for-other-numbers-from-the-set.jpg"/>
          <p:cNvPicPr/>
          <p:nvPr/>
        </p:nvPicPr>
        <p:blipFill>
          <a:blip r:embed="rId1"/>
          <a:stretch/>
        </p:blipFill>
        <p:spPr>
          <a:xfrm>
            <a:off x="342900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54E7-78B1-4E04-8D45-AD893515F43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304920" y="190512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PoW is NOT a Bureau docu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ent is based on input from the stakehold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re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ec.europa.eu/enterprise/policies/sustainable-business/media/photos/corporate-social-responsibility_multi-stakeholder-forum.jpg"/>
          <p:cNvPicPr/>
          <p:nvPr/>
        </p:nvPicPr>
        <p:blipFill>
          <a:blip r:embed="rId1"/>
          <a:stretch/>
        </p:blipFill>
        <p:spPr>
          <a:xfrm>
            <a:off x="3048120" y="4343400"/>
            <a:ext cx="33368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E4E3-2754-4838-8FDB-B84C72F044A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80880" y="1752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PoW, based on members‘ needs,  cannot be executed without resourc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re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pennyturko.com/wp-content/uploads/2011/02/Resources.jpg"/>
          <p:cNvPicPr/>
          <p:nvPr/>
        </p:nvPicPr>
        <p:blipFill>
          <a:blip r:embed="rId1"/>
          <a:srcRect l="0" t="13333" r="0" b="0"/>
          <a:stretch/>
        </p:blipFill>
        <p:spPr>
          <a:xfrm>
            <a:off x="1905120" y="3124080"/>
            <a:ext cx="5510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Elephant_256x256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54100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alistic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ED4-7AB3-4651-861A-704A150CFD6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52280" y="16002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rt Two of the PoW prioritize 3 are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ingle Windo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peration and Outr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ar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3.bp.blogspot.com/-ELQPR4dylzg/TpDlwjObpUI/AAAAAAAAAeg/ALnzIT0XYbs/s1600/priorities.jpg"/>
          <p:cNvPicPr/>
          <p:nvPr/>
        </p:nvPicPr>
        <p:blipFill>
          <a:blip r:embed="rId1"/>
          <a:stretch/>
        </p:blipFill>
        <p:spPr>
          <a:xfrm>
            <a:off x="2895480" y="4038480"/>
            <a:ext cx="39052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AB7-7084-49A6-A801-58691A5E5BB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28600" y="160020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ctical success fac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implification, harmoniz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ization of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overnance of recommend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s and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king with other TF-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nd other Standard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utreach in order to suppor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334120" y="762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rit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website-design-factors"/>
          <p:cNvPicPr/>
          <p:nvPr/>
        </p:nvPicPr>
        <p:blipFill>
          <a:blip r:embed="rId1"/>
          <a:stretch/>
        </p:blipFill>
        <p:spPr>
          <a:xfrm>
            <a:off x="6867360" y="2286000"/>
            <a:ext cx="227664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AA98-170A-4378-975B-22A9082C799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533520" y="144792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reate a solid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 with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 uptake through high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se the unique remit to fill the g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257800" y="762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rategic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http://www.newdirectionsconsulting.com/wp-content/uploads/2011/07/bridgingthegap.jpg"/>
          <p:cNvPicPr/>
          <p:nvPr/>
        </p:nvPicPr>
        <p:blipFill>
          <a:blip r:embed="rId1"/>
          <a:stretch/>
        </p:blipFill>
        <p:spPr>
          <a:xfrm>
            <a:off x="2819520" y="3962520"/>
            <a:ext cx="3647880" cy="28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CC43-D5F1-4F94-BF91-B8462D96A3D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80880" y="175248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w update are UN/CEFACT-”showstoppers”, i.e. Single Window Recommenda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operability on the agenda, more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tablishment of hubs beyond Singl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talization:  What is not worke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ublic-Private Partnership on the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put Pane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a1"/>
          <p:cNvPicPr/>
          <p:nvPr/>
        </p:nvPicPr>
        <p:blipFill>
          <a:blip r:embed="rId1"/>
          <a:stretch/>
        </p:blipFill>
        <p:spPr>
          <a:xfrm>
            <a:off x="7155000" y="2438280"/>
            <a:ext cx="1850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Datoranvändare</cp:lastModifiedBy>
  <dcterms:modified xsi:type="dcterms:W3CDTF">2012-02-17T09:01:08Z</dcterms:modified>
  <cp:revision>236</cp:revision>
  <dc:subject>PPT Template</dc:subject>
  <dc:title>United Nations Economic Commssion for Europe</dc:title>
</cp:coreProperties>
</file>