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d624"/>
                </a:solidFill>
                <a:latin typeface="Verdana"/>
              </a:rPr>
              <a:t>Click to move the slide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D0BD51-4230-462D-A1FE-A5662774EC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C55DD0-7E13-498F-83D9-B643E74C7E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5240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03400"/>
            <a:ext cx="543744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85FBC0-3EDD-4E0B-B806-F2CBFED083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03400"/>
            <a:ext cx="543744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7EA-80BC-4FF4-993A-5D415108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029-E32C-4CF1-A7F2-C3056DF7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45B-AC78-492C-A961-CEBFBCCC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313-DA4A-4B56-A3C7-F03BFBCE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9C9D-3676-4064-B185-FA6739D7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F065-DC77-42DF-8306-D21E8101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CC87-C6FF-43C9-A7D6-82E212DD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5D75-05E6-4456-9DA1-893265C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FF4E-95B0-4DE6-9CC9-3E43DB5F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A9D9-DFF2-432E-9B7C-3505D3C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09EC-A746-4B26-8520-BF18EBAC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B4D-8CE3-4605-9028-2BFBAA9F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A9E0-CF4D-4108-BE0E-12BD1624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CCAA-9660-4AD3-AE1C-3301A801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022F-CC2D-4205-AB7F-164024D6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D4AA-DF41-4B2E-9FCE-083F599F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BA58-3F27-417E-95A9-55EE656F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008-8731-49D0-AE99-F3D13830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5F2-1C0A-4069-8BF6-BDD86E01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326-B90D-42CC-AD09-1CB4DB72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939-63EF-4CCB-882E-D6C01899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0AB-AE20-43DF-A223-F6E7C139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A41-5722-4910-8949-85383F24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9D1-DF3C-42C2-A744-D783CC92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d624"/>
                </a:solidFill>
                <a:latin typeface="Verdana"/>
              </a:rPr>
              <a:t>Click to edit the title text format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BF15-29F2-4A22-BF38-B20EB925FDE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nterprise/policies/european-standards/standardisation-policy/index_en.htm" TargetMode="External"/><Relationship Id="rId2" Type="http://schemas.openxmlformats.org/officeDocument/2006/relationships/hyperlink" Target="http://ec.europa.eu/enterprise/sectors/ict/standards/index_en.htm" TargetMode="External"/><Relationship Id="rId3" Type="http://schemas.openxmlformats.org/officeDocument/2006/relationships/hyperlink" Target="mailto:entr-ict-for-comp-and-innovation@ec.europa.eu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uropean Initiatives in the Standardisation and e-Business Domains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36536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ntonio Conte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ffffff"/>
                </a:solidFill>
                <a:latin typeface="Arial"/>
              </a:rPr>
              <a:t>European Commission – DG Enterprise and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Unit D3 “ICT for Competitiveness and Industrial Innovation”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/CEFACT 18th Session - Geneva, 16 February 2012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posal for Regulation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roposal to be adopted by EP and Council, following advice of EESC and national Parliaments (</a:t>
            </a: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ordinary legislative procedure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ntry into force on </a:t>
            </a: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1st January 2013</a:t>
            </a:r>
            <a:r>
              <a:rPr b="0" i="1" lang="en-US" sz="2400" spc="-1" strike="noStrike">
                <a:solidFill>
                  <a:srgbClr val="669900"/>
                </a:solidFill>
                <a:latin typeface="Verdana"/>
              </a:rPr>
              <a:t>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munication on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-Invoic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[COM(2010) 712 final]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ropean Multi-stakeholder Forum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on e-Invoicing</a:t>
            </a: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 </a:t>
            </a:r>
            <a:br>
              <a:rPr sz="2800"/>
            </a:b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[Commission Decision 2010/C 326/07]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The Communication on 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-Invoic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Mass adoption of e-invoicing within the EU would lead to significant economic benefits BUT most of e-invoicing’s potential is still untapp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5 priority domains for ac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Invitation addressed to UN/CEFAC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N/CEFACT is invited to pursue the fast development of e-business messages that are complementary to the e-invoice, and will improve the ability of businesses, trade and administrative organisations to exchange products and relevant services effectively.”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uropean Multi-stakeholder Forum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on e-Invoicing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137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o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Address remaining barriers which prevent the exchange of e-invoices across EU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hare experiences and good practice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Monitor e-invoicing adoption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stablished for a three-years period, 2 meetings per year (chaired by the Commission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omposition (63 member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2 representatives per National Forum (54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European associations from the “user side”: SMEs, large corporate, and users (6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European organisations and associations : CEN, ECB, Article 29 Working Party (3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Kick-off meeting: 13 September 2011 in Brussel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Activities of the Forum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onitoring the e-invoicing uptake at Member States and EU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ader: P. Breyne (B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xchange of experiences and good practi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aders: C. Bryant and M. Schizas (UK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opose solutions for cross-border barri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ader: S. Engel-Flechsig (D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igration towards a single e-invoice data mod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ader: P. Potgieser (CEN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National Multi-stakeholder Fora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on e-Invoicing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f5494"/>
                </a:solidFill>
                <a:latin typeface="Verdana"/>
              </a:rPr>
              <a:t>Rol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Raising acceptance of e-invo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Coordinate initiatives (legal, technical, etc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f5494"/>
                </a:solidFill>
                <a:latin typeface="Verdana"/>
              </a:rPr>
              <a:t>Composition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Balanced representation of stakeholders (e.g. public administrations, enterprises, financial organisations, service providers, standardisation bodies, consumer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ational fora have been formally set up in AT, BE, CZ, DE, DK, EE, ES, FR, HU, IE, IT, LU, LV, NL, PT, SE, SK, U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Digital Supply Chain Projects</a:t>
            </a: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Digital Supply Chain Project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dustry led projects that aim at facilitating the integration of SMEs in global digital supply chain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vered sectors: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ash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(textile, clothing and footwear - pilot completed),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utomotiv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["Autogration" project], and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ransport - logistic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(pilots to be completed in March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ouris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, and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od supply chai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(underway)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publicly available results of the demonstration actions and the reference models proposed render the implementation of е-business solutions easier and more affordable and interoperable with benefits for both SMEs and large players alik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Standardisation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Information and Contact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8208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Web site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enterprise/policies/european-standards/standardisation-policy/index_en.ht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enterprise/sectors/ict/standards/index_en.ht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-Mail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entr-ict-for-comp-and-innovation@ec.europa.eu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5013360"/>
            <a:ext cx="504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50920" y="4941720"/>
            <a:ext cx="649440" cy="64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050920" y="5877000"/>
            <a:ext cx="649440" cy="649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771640" y="407664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youtube.com/eu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 rot="10800000">
            <a:off x="2771640" y="500580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EU_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 rot="10800000">
            <a:off x="2771640" y="609264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6360" y="2852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.europa.eu/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9200" y="126828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DG Enterprise and Industry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Information and Contributions Online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1079280" cy="100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08000" y="3933720"/>
            <a:ext cx="863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979640" y="3933720"/>
            <a:ext cx="792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Key Poi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ndards are voluntary documents that define technical or quality requiremen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European standards and standardisation are very effective policy tools (Single Market, interoperability, consumer and environmental protection, …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Evolution from product standards to process and production standard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Coordination among the various standard development organisations is ke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3961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80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lobal ICT Standardisation scene</a:t>
            </a:r>
            <a:r>
              <a:rPr b="1" lang="en-US" sz="19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8142120" y="1355760"/>
            <a:ext cx="928800" cy="3635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7040" y="1355760"/>
            <a:ext cx="401400" cy="3635280"/>
          </a:xfrm>
          <a:prstGeom prst="rect">
            <a:avLst/>
          </a:prstGeom>
          <a:solidFill>
            <a:srgbClr val="99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7400" y="1355760"/>
            <a:ext cx="401760" cy="363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35520" y="1355760"/>
            <a:ext cx="401760" cy="3635280"/>
          </a:xfrm>
          <a:prstGeom prst="rect">
            <a:avLst/>
          </a:prstGeom>
          <a:solidFill>
            <a:srgbClr val="23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91280" y="1355760"/>
            <a:ext cx="401760" cy="363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02440" y="1355760"/>
            <a:ext cx="401760" cy="36352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4320" y="1355760"/>
            <a:ext cx="1542960" cy="3635280"/>
          </a:xfrm>
          <a:prstGeom prst="rect">
            <a:avLst/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4320" y="1365120"/>
            <a:ext cx="1603080" cy="363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41400" y="1355760"/>
            <a:ext cx="1543320" cy="36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47960" y="1760400"/>
            <a:ext cx="11271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28880" y="2498760"/>
            <a:ext cx="1125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t">
            <a:spAutoFit/>
          </a:bodyPr>
          <a:p>
            <a:pPr>
              <a:lnSpc>
                <a:spcPct val="93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66960" y="1644480"/>
            <a:ext cx="1517760" cy="4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e6e64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66960" y="2459160"/>
            <a:ext cx="1517760" cy="372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e6e64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1714680"/>
            <a:ext cx="71928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54320" y="2600280"/>
            <a:ext cx="73332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C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4320" y="1644480"/>
            <a:ext cx="722160" cy="432000"/>
          </a:xfrm>
          <a:prstGeom prst="rect">
            <a:avLst/>
          </a:prstGeom>
          <a:gradFill rotWithShape="0">
            <a:gsLst>
              <a:gs pos="0">
                <a:srgbClr val="23ff23"/>
              </a:gs>
              <a:gs pos="100000">
                <a:srgbClr val="94bd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2891520" y="2913840"/>
            <a:ext cx="3299040" cy="789120"/>
          </a:xfrm>
          <a:prstGeom prst="rect">
            <a:avLst/>
          </a:prstGeom>
          <a:gradFill rotWithShape="0">
            <a:gsLst>
              <a:gs pos="0">
                <a:srgbClr val="23ff23"/>
              </a:gs>
              <a:gs pos="100000">
                <a:srgbClr val="94bd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1a1a1a"/>
                </a:solidFill>
                <a:latin typeface="FreeSans"/>
                <a:ea typeface="ＭＳ Ｐゴシック"/>
              </a:rPr>
              <a:t>                    </a:t>
            </a:r>
            <a:r>
              <a:rPr b="1" lang="en-US" sz="1800" spc="-1" strike="noStrike">
                <a:solidFill>
                  <a:srgbClr val="1a1a1a"/>
                </a:solidFill>
                <a:latin typeface="FreeSans"/>
                <a:ea typeface="ＭＳ Ｐゴシック"/>
              </a:rPr>
              <a:t>ET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51320" y="1760400"/>
            <a:ext cx="6951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616040"/>
            <a:ext cx="1578240" cy="46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560" y="1704960"/>
            <a:ext cx="112572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760" y="2557440"/>
            <a:ext cx="1601640" cy="26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CENEL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1680" y="2878200"/>
            <a:ext cx="971640" cy="1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9160" y="2891880"/>
            <a:ext cx="1206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303120">
              <a:lnSpc>
                <a:spcPct val="108000"/>
              </a:lnSpc>
              <a:spcAft>
                <a:spcPts val="201"/>
              </a:spcAft>
              <a:tabLst>
                <a:tab algn="l" pos="0"/>
                <a:tab algn="l" pos="303120"/>
                <a:tab algn="l" pos="1133640"/>
                <a:tab algn="l" pos="1962000"/>
                <a:tab algn="l" pos="2792520"/>
                <a:tab algn="l" pos="3621240"/>
                <a:tab algn="l" pos="4451400"/>
                <a:tab algn="l" pos="5280120"/>
                <a:tab algn="l" pos="6110280"/>
                <a:tab algn="l" pos="6939000"/>
                <a:tab algn="l" pos="7769160"/>
                <a:tab algn="l" pos="8597880"/>
                <a:tab algn="l" pos="942804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CT Foru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60440" y="1932120"/>
            <a:ext cx="13399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22600" y="1978200"/>
            <a:ext cx="9730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03120">
              <a:lnSpc>
                <a:spcPct val="108000"/>
              </a:lnSpc>
              <a:spcAft>
                <a:spcPts val="201"/>
              </a:spcAft>
              <a:tabLst>
                <a:tab algn="l" pos="0"/>
                <a:tab algn="l" pos="303120"/>
                <a:tab algn="l" pos="1133640"/>
                <a:tab algn="l" pos="1962000"/>
                <a:tab algn="l" pos="2792520"/>
                <a:tab algn="l" pos="3621240"/>
                <a:tab algn="l" pos="4451400"/>
                <a:tab algn="l" pos="5280120"/>
                <a:tab algn="l" pos="6110280"/>
                <a:tab algn="l" pos="6939000"/>
                <a:tab algn="l" pos="7769160"/>
                <a:tab algn="l" pos="8597880"/>
                <a:tab algn="l" pos="942804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J T C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5172840" y="2827800"/>
            <a:ext cx="8031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W 3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437080" y="2987280"/>
            <a:ext cx="11365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O A S I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016680" y="2867040"/>
            <a:ext cx="868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 E T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47040" y="1355760"/>
            <a:ext cx="401400" cy="3635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990480" y="2905560"/>
            <a:ext cx="792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O G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270920" y="2970000"/>
            <a:ext cx="10904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Other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6473520" y="2895480"/>
            <a:ext cx="889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 E 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72360" y="144288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15280" y="165888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3280" y="187488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72360" y="2306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15280" y="2522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23280" y="2738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72360" y="3206880"/>
            <a:ext cx="608040" cy="285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15280" y="3422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23280" y="3638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72360" y="410688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15280" y="4322880"/>
            <a:ext cx="608040" cy="285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23280" y="4538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7299360" y="2747880"/>
            <a:ext cx="2795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Small “private/ closed” fora and consor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69400" y="1211400"/>
            <a:ext cx="1440" cy="3960720"/>
          </a:xfrm>
          <a:prstGeom prst="line">
            <a:avLst/>
          </a:prstGeom>
          <a:ln w="72000">
            <a:solidFill>
              <a:srgbClr val="ff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3249720"/>
            <a:ext cx="1608120" cy="178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US" sz="1800" spc="-1" strike="noStrike">
                <a:solidFill>
                  <a:srgbClr val="1a1a1a"/>
                </a:solidFill>
                <a:latin typeface="FreeSans"/>
                <a:ea typeface="ＭＳ Ｐゴシック"/>
              </a:rPr>
              <a:t>National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46440" y="3249720"/>
            <a:ext cx="1504800" cy="1780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e6e64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US" sz="1800" spc="-1" strike="noStrike">
                <a:solidFill>
                  <a:srgbClr val="1a1a1a"/>
                </a:solidFill>
                <a:latin typeface="FreeSans"/>
                <a:ea typeface="ＭＳ Ｐゴシック"/>
              </a:rPr>
              <a:t>National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3442320" y="3586680"/>
            <a:ext cx="1658880" cy="1079640"/>
          </a:xfrm>
          <a:prstGeom prst="rect">
            <a:avLst/>
          </a:prstGeom>
          <a:gradFill rotWithShape="0">
            <a:gsLst>
              <a:gs pos="0">
                <a:srgbClr val="23ff23"/>
              </a:gs>
              <a:gs pos="100000">
                <a:srgbClr val="94bd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US" sz="1800" spc="-1" strike="noStrike">
                <a:solidFill>
                  <a:srgbClr val="1a1a1a"/>
                </a:solidFill>
                <a:latin typeface="FreeSans"/>
                <a:ea typeface="ＭＳ Ｐゴシック"/>
              </a:rPr>
              <a:t>(National Committe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30720" y="1244520"/>
            <a:ext cx="1800" cy="3960720"/>
          </a:xfrm>
          <a:prstGeom prst="line">
            <a:avLst/>
          </a:prstGeom>
          <a:ln w="72000">
            <a:solidFill>
              <a:srgbClr val="ff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2523960" y="3058920"/>
            <a:ext cx="169920" cy="4643640"/>
          </a:xfrm>
          <a:custGeom>
            <a:avLst/>
            <a:gdLst>
              <a:gd name="textAreaLeft" fmla="*/ 108720 w 169920"/>
              <a:gd name="textAreaRight" fmla="*/ 170280 w 169920"/>
              <a:gd name="textAreaTop" fmla="*/ 120600 h 4643640"/>
              <a:gd name="textAreaBottom" fmla="*/ 4523040 h 46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8978"/>
                </a:lnTo>
                <a:cubicBezTo>
                  <a:pt x="10800" y="9875"/>
                  <a:pt x="5400" y="10771"/>
                  <a:pt x="0" y="10771"/>
                </a:cubicBezTo>
                <a:cubicBezTo>
                  <a:pt x="5400" y="10771"/>
                  <a:pt x="10800" y="11668"/>
                  <a:pt x="10800" y="12564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6539760" y="3937680"/>
            <a:ext cx="169920" cy="2882880"/>
          </a:xfrm>
          <a:custGeom>
            <a:avLst/>
            <a:gdLst>
              <a:gd name="textAreaLeft" fmla="*/ 108720 w 169920"/>
              <a:gd name="textAreaRight" fmla="*/ 170280 w 169920"/>
              <a:gd name="textAreaTop" fmla="*/ 74880 h 2882880"/>
              <a:gd name="textAreaBottom" fmla="*/ 2808000 h 288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8978"/>
                </a:lnTo>
                <a:cubicBezTo>
                  <a:pt x="10800" y="9875"/>
                  <a:pt x="5400" y="10771"/>
                  <a:pt x="0" y="10771"/>
                </a:cubicBezTo>
                <a:cubicBezTo>
                  <a:pt x="5400" y="10771"/>
                  <a:pt x="10800" y="11668"/>
                  <a:pt x="10800" y="12564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360" y="5578560"/>
            <a:ext cx="37321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vered by the European standardisation system of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4960" y="5578560"/>
            <a:ext cx="307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Outside of the scope of European standardisation – therefore not available for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Jochen Friedr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D74-3BC5-4A82-B613-E22E2B483D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3, 200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816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80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f5494"/>
                </a:solidFill>
                <a:latin typeface="Verdana"/>
              </a:rPr>
              <a:t>Our typical daily dose of global ICT standards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6880" y="2060640"/>
          <a:ext cx="8426520" cy="3135240"/>
        </p:xfrm>
        <a:graphic>
          <a:graphicData uri="http://schemas.openxmlformats.org/drawingml/2006/table">
            <a:tbl>
              <a:tblPr/>
              <a:tblGrid>
                <a:gridCol w="2203560"/>
                <a:gridCol w="2073240"/>
                <a:gridCol w="2075040"/>
                <a:gridCol w="2074680"/>
              </a:tblGrid>
              <a:tr h="419040">
                <a:tc gridSpan="4">
                  <a:txBody>
                    <a:bodyPr lIns="32760" rIns="32760" tIns="50400" bIns="327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Browsing the w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32760" rIns="32760" tIns="48600" bIns="327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32760" rIns="32760" tIns="48600" bIns="327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rgan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32760" rIns="32760" tIns="48600" bIns="327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32760" rIns="32760" tIns="48600" bIns="327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rgan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8736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E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BG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E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E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E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3C / 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M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SO/I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D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CP/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E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S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A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24000" y="5734080"/>
            <a:ext cx="8294400" cy="719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marL="343080" indent="-319320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343080"/>
                <a:tab algn="l" pos="83988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novative ICT technologies combine different standards and specifications from all kind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Issu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 major part of ICT standardisation is done in global fora &amp; consortia, outside the scope of the European standardisation system  CEN/CENELEC/ETSI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se specifications are not directly available for referencing in public procurem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However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Digital Agenda underlines the need for interoperability. Fora &amp; consortia specifications are expected to contribut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Fora and consortia specifications need to be available for Europ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Proposed Regulation </a:t>
            </a:r>
            <a:br>
              <a:rPr sz="2400"/>
            </a:b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on European Standardisation</a:t>
            </a:r>
            <a:br>
              <a:rPr sz="2400"/>
            </a:b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[COM(2011) 315 final]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posal for Regulation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84358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Consolidated legal basi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for European standardisation which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eplaces Decisions 1673/2006/EC and 87/95/EC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d part of Directive 98/34/EC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005fa9"/>
                </a:solidFill>
                <a:latin typeface="Verdana"/>
              </a:rPr>
              <a:t>Amend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several Directives (objections to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harmonised standard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posal for Regulation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xtends definitions and scope to </a:t>
            </a: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servi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nsures cooperation between </a:t>
            </a: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NSB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on draft standards and work programmes (Arts. 3-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Increases stakeholder participation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n obligation for ESOs (Article 5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keholder organisations criteria in Annex III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posal for Regulation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Recognition of ICT standard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for public procurement (+ policies and legislation?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(Articles 9 and 1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5fa9"/>
                </a:solidFill>
                <a:latin typeface="Verdana"/>
              </a:rPr>
              <a:t>Suggestions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from Member States or Commissio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5fa9"/>
                </a:solidFill>
                <a:latin typeface="Verdana"/>
              </a:rPr>
              <a:t>Stakeholder platform will give advice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: expert working group with MS, industry, ESOs, Fora &amp; Consortia, SMEs, societal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5fa9"/>
                </a:solidFill>
                <a:latin typeface="Verdana"/>
              </a:rPr>
              <a:t>Criteria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: Annex II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/>
  <dc:description/>
  <dc:language>en-US</dc:language>
  <cp:lastModifiedBy>contean</cp:lastModifiedBy>
  <dcterms:modified xsi:type="dcterms:W3CDTF">2012-02-13T18:05:43Z</dcterms:modified>
  <cp:revision>98</cp:revision>
  <dc:subject/>
  <dc:title>European Initiatives in the Standardisation and e-Business Domains</dc:title>
</cp:coreProperties>
</file>