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d624"/>
                </a:solidFill>
                <a:latin typeface="Verdana"/>
              </a:rPr>
              <a:t>Click to move the slide</a:t>
            </a: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54C4F9-0A6D-4D88-9E91-63EBB68CCC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0C6C61-81D1-4385-A4BB-5079A5BCF0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0880" y="75240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03400"/>
            <a:ext cx="543744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494D67-B990-48D2-9942-EA612CBDAD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03400"/>
            <a:ext cx="543744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988-BCEC-4420-AFD3-6EFDF379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6CE-2875-4BCE-83D6-07683C98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A6A-11C0-4F7F-B56D-A89FD781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F51-291A-48D4-9A3B-F169D6E5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6FAF-80DB-4952-BC13-8F9C4B1F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CB92-8039-4E3C-824E-70327D1F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68C4-5DDE-4004-8224-E6D019FE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8DEA-05F8-4ED6-888A-17657AFF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97F0-1023-4B48-91A1-C6042117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9496-66C7-4B2B-80FF-5CBE8DA8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0AAB-175E-4221-A7B3-033B73D0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DF9-0FE4-460E-9594-92664052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D9E8-00C1-4EC2-AD04-EFE98F40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553A-2A96-43A4-9B11-D4E236E6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04FF-5AEB-4CF4-B337-2C465C95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E7B8-4E2B-46E1-A815-AB49732F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6024-F435-4E2A-9A09-F6C8307F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439-9DBC-4198-86D9-77C41C29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AED-0F2E-45EC-B325-841F91FE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A9C-58B8-4E82-8B5B-46F9CC95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5BE-C5A3-41A7-9E18-F2DDC9F3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86D-6456-4FD5-BFE8-076590F6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5DE-E7B6-4276-8BE6-BD78C175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ABF-4CAB-4CCD-8CF8-A445299A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d624"/>
                </a:solidFill>
                <a:latin typeface="Verdana"/>
              </a:rPr>
              <a:t>Click to edit the title text format</a:t>
            </a: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6E7C-7AE6-4E03-81A7-20ED7DD3AAC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nterprise/policies/european-standards/standardisation-policy/index_en.htm" TargetMode="External"/><Relationship Id="rId2" Type="http://schemas.openxmlformats.org/officeDocument/2006/relationships/hyperlink" Target="http://ec.europa.eu/enterprise/sectors/ict/standards/index_en.htm" TargetMode="External"/><Relationship Id="rId3" Type="http://schemas.openxmlformats.org/officeDocument/2006/relationships/hyperlink" Target="mailto:entr-ict-for-comp-and-innovation@ec.europa.eu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uropean Initiatives in the Standardisation and e-Business Domains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36536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Antonio Conte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ffffff"/>
                </a:solidFill>
                <a:latin typeface="Arial"/>
              </a:rPr>
              <a:t>European Commission – DG Enterprise and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Unit D3 “ICT for Competitiveness and Industrial Innovation”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/CEFACT 18th Session - Geneva, 16 February 2012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posal for Regulation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roposal to be adopted by EP and Council, following advice of EESC and national Parliaments (</a:t>
            </a: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ordinary legislative procedure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Entry into force on </a:t>
            </a: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1st January 2013</a:t>
            </a:r>
            <a:r>
              <a:rPr b="0" i="1" lang="en-US" sz="2400" spc="-1" strike="noStrike">
                <a:solidFill>
                  <a:srgbClr val="669900"/>
                </a:solidFill>
                <a:latin typeface="Verdana"/>
              </a:rPr>
              <a:t>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munication on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-Invoic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[COM(2010) 712 final]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uropean Multi-stakeholder Forum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on e-Invoicing</a:t>
            </a: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 </a:t>
            </a:r>
            <a:br>
              <a:rPr sz="2800"/>
            </a:b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[Commission Decision 2010/C 326/07]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The Communication on 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-Invoic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Mass adoption of e-invoicing within the EU would lead to significant economic benefits BUT most of e-invoicing’s potential is still untapp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5 priority domains for ac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Invitation addressed to UN/CEFAC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UN/CEFACT is invited to pursue the fast development of e-business messages that are complementary to the e-invoice, and will improve the ability of businesses, trade and administrative organisations to exchange products and relevant services effectively.”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European Multi-stakeholder Forum</a:t>
            </a:r>
            <a:br>
              <a:rPr sz="2600"/>
            </a:b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on e-Invoicing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137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Ro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Address remaining barriers which prevent the exchange of e-invoices across EU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hare experiences and good practice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Monitor e-invoicing adoption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Established for a three-years period, 2 meetings per year (chaired by the Commission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omposition (63 member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2 representatives per National Forum (54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European associations from the “user side”: SMEs, large corporate, and users (6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European organisations and associations : CEN, ECB, Article 29 Working Party (3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Kick-off meeting: 13 September 2011 in Brussel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Activities of the Forum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onitoring the e-invoicing uptake at Member States and EU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eader: P. Breyne (B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xchange of experiences and good practi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eaders: C. Bryant and M. Schizas (UK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opose solutions for cross-border barrie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eader: S. Engel-Flechsig (D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igration towards a single e-invoice data mod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eader: P. Potgieser (CEN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National Multi-stakeholder Fora</a:t>
            </a:r>
            <a:br>
              <a:rPr sz="2600"/>
            </a:b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on e-Invoicing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f5494"/>
                </a:solidFill>
                <a:latin typeface="Verdana"/>
              </a:rPr>
              <a:t>Rol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Raising acceptance of e-invo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Coordinate initiatives (legal, technical, etc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f5494"/>
                </a:solidFill>
                <a:latin typeface="Verdana"/>
              </a:rPr>
              <a:t>Composition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Balanced representation of stakeholders (e.g. public administrations, enterprises, financial organisations, service providers, standardisation bodies, consumer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ational fora have been formally set up in AT, BE, CZ, DE, DK, EE, ES, FR, HU, IE, IT, LU, LV, NL, PT, SE, SK, U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Digital Supply Chain Projects</a:t>
            </a: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Digital Supply Chain Project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dustry led projects that aim at facilitating the integration of SMEs in global digital supply chain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vered sectors: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ash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(textile, clothing and footwear - pilot completed),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utomotiv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["Autogration" project], and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transport - logistic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(pilots to be completed in March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touris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, and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od supply chai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(underway)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e publicly available results of the demonstration actions and the reference models proposed render the implementation of е-business solutions easier and more affordable and interoperable with benefits for both SMEs and large players alik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Standardisation</a:t>
            </a:r>
            <a:br>
              <a:rPr sz="2600"/>
            </a:b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Information and Contact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8208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Web site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enterprise/policies/european-standards/standardisation-policy/index_en.ht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enterprise/sectors/ict/standards/index_en.ht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-Mail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entr-ict-for-comp-and-innovation@ec.europa.eu</a:t>
            </a: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1908000" y="5013360"/>
            <a:ext cx="504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50920" y="4941720"/>
            <a:ext cx="649440" cy="64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050920" y="5877000"/>
            <a:ext cx="649440" cy="649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771640" y="407664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youtube.com/eu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 rot="10800000">
            <a:off x="2771640" y="500580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EU_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 rot="10800000">
            <a:off x="2771640" y="609264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6360" y="2852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.europa.eu/enter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9200" y="126828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DG Enterprise and Industry</a:t>
            </a:r>
            <a:br>
              <a:rPr sz="2600"/>
            </a:b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Information and Contributions Online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835280" y="2637000"/>
            <a:ext cx="1079280" cy="100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08000" y="3933720"/>
            <a:ext cx="863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1979640" y="3933720"/>
            <a:ext cx="792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Key Poi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ndards are voluntary documents that define technical or quality requiremen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European standards and standardisation are very effective policy tools (Single Market, interoperability, consumer and environmental protection, …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Evolution from product standards to process and production standard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Coordination among the various standard development organisations is key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39610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80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Global ICT Standardisation scene</a:t>
            </a:r>
            <a:r>
              <a:rPr b="1" lang="en-US" sz="19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8142120" y="1355760"/>
            <a:ext cx="928800" cy="3635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7040" y="1355760"/>
            <a:ext cx="401400" cy="3635280"/>
          </a:xfrm>
          <a:prstGeom prst="rect">
            <a:avLst/>
          </a:prstGeom>
          <a:solidFill>
            <a:srgbClr val="99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7400" y="1355760"/>
            <a:ext cx="401760" cy="363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35520" y="1355760"/>
            <a:ext cx="401760" cy="3635280"/>
          </a:xfrm>
          <a:prstGeom prst="rect">
            <a:avLst/>
          </a:prstGeom>
          <a:solidFill>
            <a:srgbClr val="23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91280" y="1355760"/>
            <a:ext cx="401760" cy="363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02440" y="1355760"/>
            <a:ext cx="401760" cy="36352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4320" y="1355760"/>
            <a:ext cx="1542960" cy="3635280"/>
          </a:xfrm>
          <a:prstGeom prst="rect">
            <a:avLst/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4320" y="1365120"/>
            <a:ext cx="1603080" cy="363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41400" y="1355760"/>
            <a:ext cx="1543320" cy="36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47960" y="1760400"/>
            <a:ext cx="11271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28880" y="2498760"/>
            <a:ext cx="1125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t">
            <a:spAutoFit/>
          </a:bodyPr>
          <a:p>
            <a:pPr>
              <a:lnSpc>
                <a:spcPct val="93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66960" y="1644480"/>
            <a:ext cx="1517760" cy="432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e6e64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66960" y="2459160"/>
            <a:ext cx="1517760" cy="372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e6e64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1714680"/>
            <a:ext cx="71928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54320" y="2600280"/>
            <a:ext cx="73332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C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4320" y="1644480"/>
            <a:ext cx="722160" cy="432000"/>
          </a:xfrm>
          <a:prstGeom prst="rect">
            <a:avLst/>
          </a:prstGeom>
          <a:gradFill rotWithShape="0">
            <a:gsLst>
              <a:gs pos="0">
                <a:srgbClr val="23ff23"/>
              </a:gs>
              <a:gs pos="100000">
                <a:srgbClr val="94bd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2891520" y="2913840"/>
            <a:ext cx="3299040" cy="789120"/>
          </a:xfrm>
          <a:prstGeom prst="rect">
            <a:avLst/>
          </a:prstGeom>
          <a:gradFill rotWithShape="0">
            <a:gsLst>
              <a:gs pos="0">
                <a:srgbClr val="23ff23"/>
              </a:gs>
              <a:gs pos="100000">
                <a:srgbClr val="94bd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r"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1a1a1a"/>
                </a:solidFill>
                <a:latin typeface="FreeSans"/>
                <a:ea typeface="ＭＳ Ｐゴシック"/>
              </a:rPr>
              <a:t>                    </a:t>
            </a:r>
            <a:r>
              <a:rPr b="1" lang="en-US" sz="1800" spc="-1" strike="noStrike">
                <a:solidFill>
                  <a:srgbClr val="1a1a1a"/>
                </a:solidFill>
                <a:latin typeface="FreeSans"/>
                <a:ea typeface="ＭＳ Ｐゴシック"/>
              </a:rPr>
              <a:t>ET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51320" y="1760400"/>
            <a:ext cx="69516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8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616040"/>
            <a:ext cx="1578240" cy="46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560" y="1704960"/>
            <a:ext cx="112572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5760" y="2557440"/>
            <a:ext cx="1601640" cy="26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8000"/>
              </a:lnSpc>
              <a:spcAft>
                <a:spcPts val="550"/>
              </a:spcAft>
              <a:tabLst>
                <a:tab algn="l" pos="0"/>
                <a:tab algn="l" pos="152280"/>
                <a:tab algn="l" pos="982800"/>
                <a:tab algn="l" pos="1811160"/>
                <a:tab algn="l" pos="2641680"/>
                <a:tab algn="l" pos="3470400"/>
                <a:tab algn="l" pos="4300560"/>
                <a:tab algn="l" pos="5129280"/>
                <a:tab algn="l" pos="5959440"/>
                <a:tab algn="l" pos="6788160"/>
                <a:tab algn="l" pos="7618320"/>
                <a:tab algn="l" pos="8447040"/>
                <a:tab algn="l" pos="927720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CENEL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1680" y="2878200"/>
            <a:ext cx="971640" cy="1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9160" y="2891880"/>
            <a:ext cx="1206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303120">
              <a:lnSpc>
                <a:spcPct val="108000"/>
              </a:lnSpc>
              <a:spcAft>
                <a:spcPts val="201"/>
              </a:spcAft>
              <a:tabLst>
                <a:tab algn="l" pos="0"/>
                <a:tab algn="l" pos="303120"/>
                <a:tab algn="l" pos="1133640"/>
                <a:tab algn="l" pos="1962000"/>
                <a:tab algn="l" pos="2792520"/>
                <a:tab algn="l" pos="3621240"/>
                <a:tab algn="l" pos="4451400"/>
                <a:tab algn="l" pos="5280120"/>
                <a:tab algn="l" pos="6110280"/>
                <a:tab algn="l" pos="6939000"/>
                <a:tab algn="l" pos="7769160"/>
                <a:tab algn="l" pos="8597880"/>
                <a:tab algn="l" pos="942804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CT Foru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60440" y="1932120"/>
            <a:ext cx="13399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22600" y="1978200"/>
            <a:ext cx="9730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03120">
              <a:lnSpc>
                <a:spcPct val="108000"/>
              </a:lnSpc>
              <a:spcAft>
                <a:spcPts val="201"/>
              </a:spcAft>
              <a:tabLst>
                <a:tab algn="l" pos="0"/>
                <a:tab algn="l" pos="303120"/>
                <a:tab algn="l" pos="1133640"/>
                <a:tab algn="l" pos="1962000"/>
                <a:tab algn="l" pos="2792520"/>
                <a:tab algn="l" pos="3621240"/>
                <a:tab algn="l" pos="4451400"/>
                <a:tab algn="l" pos="5280120"/>
                <a:tab algn="l" pos="6110280"/>
                <a:tab algn="l" pos="6939000"/>
                <a:tab algn="l" pos="7769160"/>
                <a:tab algn="l" pos="8597880"/>
                <a:tab algn="l" pos="942804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J T C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5172840" y="2827800"/>
            <a:ext cx="8031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W 3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5437080" y="2987280"/>
            <a:ext cx="11365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O A S I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016680" y="2867040"/>
            <a:ext cx="868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 E T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47040" y="1355760"/>
            <a:ext cx="401400" cy="3635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990480" y="2905560"/>
            <a:ext cx="792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O G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270920" y="2970000"/>
            <a:ext cx="10904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Other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6473520" y="2895480"/>
            <a:ext cx="8892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I E 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72360" y="144288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15280" y="165888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23280" y="187488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72360" y="230652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15280" y="252252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23280" y="273852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72360" y="3206880"/>
            <a:ext cx="608040" cy="285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15280" y="342252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23280" y="363852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72360" y="410688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15280" y="4322880"/>
            <a:ext cx="608040" cy="285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423280" y="4538520"/>
            <a:ext cx="608040" cy="285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7299360" y="2747880"/>
            <a:ext cx="27957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eeSans"/>
                <a:ea typeface="ＭＳ Ｐゴシック"/>
              </a:rPr>
              <a:t>Small “private/ closed” fora and consor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69400" y="1211400"/>
            <a:ext cx="1440" cy="3960720"/>
          </a:xfrm>
          <a:prstGeom prst="line">
            <a:avLst/>
          </a:prstGeom>
          <a:ln w="72000">
            <a:solidFill>
              <a:srgbClr val="ff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3249720"/>
            <a:ext cx="1608120" cy="178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US" sz="1800" spc="-1" strike="noStrike">
                <a:solidFill>
                  <a:srgbClr val="1a1a1a"/>
                </a:solidFill>
                <a:latin typeface="FreeSans"/>
                <a:ea typeface="ＭＳ Ｐゴシック"/>
              </a:rPr>
              <a:t>National 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46440" y="3249720"/>
            <a:ext cx="1504800" cy="1780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e6e64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US" sz="1800" spc="-1" strike="noStrike">
                <a:solidFill>
                  <a:srgbClr val="1a1a1a"/>
                </a:solidFill>
                <a:latin typeface="FreeSans"/>
                <a:ea typeface="ＭＳ Ｐゴシック"/>
              </a:rPr>
              <a:t>National 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3442320" y="3586680"/>
            <a:ext cx="1658880" cy="1079640"/>
          </a:xfrm>
          <a:prstGeom prst="rect">
            <a:avLst/>
          </a:prstGeom>
          <a:gradFill rotWithShape="0">
            <a:gsLst>
              <a:gs pos="0">
                <a:srgbClr val="23ff23"/>
              </a:gs>
              <a:gs pos="100000">
                <a:srgbClr val="94bd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US" sz="1800" spc="-1" strike="noStrike">
                <a:solidFill>
                  <a:srgbClr val="1a1a1a"/>
                </a:solidFill>
                <a:latin typeface="FreeSans"/>
                <a:ea typeface="ＭＳ Ｐゴシック"/>
              </a:rPr>
              <a:t>(National Committe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30720" y="1244520"/>
            <a:ext cx="1800" cy="3960720"/>
          </a:xfrm>
          <a:prstGeom prst="line">
            <a:avLst/>
          </a:prstGeom>
          <a:ln w="72000">
            <a:solidFill>
              <a:srgbClr val="ff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2523960" y="3058920"/>
            <a:ext cx="169920" cy="4643640"/>
          </a:xfrm>
          <a:custGeom>
            <a:avLst/>
            <a:gdLst>
              <a:gd name="textAreaLeft" fmla="*/ 108720 w 169920"/>
              <a:gd name="textAreaRight" fmla="*/ 170280 w 169920"/>
              <a:gd name="textAreaTop" fmla="*/ 120600 h 4643640"/>
              <a:gd name="textAreaBottom" fmla="*/ 4523040 h 46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8978"/>
                </a:lnTo>
                <a:cubicBezTo>
                  <a:pt x="10800" y="9875"/>
                  <a:pt x="5400" y="10771"/>
                  <a:pt x="0" y="10771"/>
                </a:cubicBezTo>
                <a:cubicBezTo>
                  <a:pt x="5400" y="10771"/>
                  <a:pt x="10800" y="11668"/>
                  <a:pt x="10800" y="12564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6539760" y="3937680"/>
            <a:ext cx="169920" cy="2882880"/>
          </a:xfrm>
          <a:custGeom>
            <a:avLst/>
            <a:gdLst>
              <a:gd name="textAreaLeft" fmla="*/ 108720 w 169920"/>
              <a:gd name="textAreaRight" fmla="*/ 170280 w 169920"/>
              <a:gd name="textAreaTop" fmla="*/ 74880 h 2882880"/>
              <a:gd name="textAreaBottom" fmla="*/ 2808000 h 288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8978"/>
                </a:lnTo>
                <a:cubicBezTo>
                  <a:pt x="10800" y="9875"/>
                  <a:pt x="5400" y="10771"/>
                  <a:pt x="0" y="10771"/>
                </a:cubicBezTo>
                <a:cubicBezTo>
                  <a:pt x="5400" y="10771"/>
                  <a:pt x="10800" y="11668"/>
                  <a:pt x="10800" y="12564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360" y="5578560"/>
            <a:ext cx="37321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50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vered by the European standardisation system of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4960" y="5578560"/>
            <a:ext cx="3079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50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Outside of the scope of European standardisation – therefore not available for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Jochen Friedr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E3F-39E0-4B34-8CCC-54FA3E93DED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3, 200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816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80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f5494"/>
                </a:solidFill>
                <a:latin typeface="Verdana"/>
              </a:rPr>
              <a:t>Our typical daily dose of global ICT standards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6880" y="2060640"/>
          <a:ext cx="8426520" cy="3135240"/>
        </p:xfrm>
        <a:graphic>
          <a:graphicData uri="http://schemas.openxmlformats.org/drawingml/2006/table">
            <a:tbl>
              <a:tblPr/>
              <a:tblGrid>
                <a:gridCol w="2203560"/>
                <a:gridCol w="2073240"/>
                <a:gridCol w="2075040"/>
                <a:gridCol w="2074680"/>
              </a:tblGrid>
              <a:tr h="419040">
                <a:tc gridSpan="4">
                  <a:txBody>
                    <a:bodyPr lIns="32760" rIns="32760" tIns="50400" bIns="327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Browsing the w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32760" rIns="32760" tIns="48600" bIns="327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32760" rIns="32760" tIns="48600" bIns="327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Organ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32760" rIns="32760" tIns="48600" bIns="327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32760" rIns="32760" tIns="48600" bIns="327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Organ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87360"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8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E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BG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E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E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HT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E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C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3C / 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M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SO/I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X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DS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CP/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E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1800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S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1800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58320" bIns="424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OA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720" marR="81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324000" y="5734080"/>
            <a:ext cx="8294400" cy="719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marL="343080" indent="-319320"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343080"/>
                <a:tab algn="l" pos="83988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novative ICT technologies combine different standards and specifications from all kinds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Issu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 major part of ICT standardisation is done in global fora &amp; consortia, outside the scope of the European standardisation system  CEN/CENELEC/ETSI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se specifications are not directly available for referencing in public procurem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However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 Digital Agenda underlines the need for interoperability. Fora &amp; consortia specifications are expected to contribut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Fora and consortia specifications need to be available for Europ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Proposed Regulation </a:t>
            </a:r>
            <a:br>
              <a:rPr sz="2400"/>
            </a:b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on European Standardisation</a:t>
            </a:r>
            <a:br>
              <a:rPr sz="2400"/>
            </a:b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[COM(2011) 315 final]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posal for Regulation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84358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Consolidated legal basis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for European standardisation which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Replaces Decisions 1673/2006/EC and 87/95/EC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d part of Directive 98/34/EC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005fa9"/>
                </a:solidFill>
                <a:latin typeface="Verdana"/>
              </a:rPr>
              <a:t>Amends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several Directives (objections to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harmonised standard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posal for Regulation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Extends definitions and scope to </a:t>
            </a: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servi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Ensures cooperation between </a:t>
            </a: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NSB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on draft standards and work programmes (Arts. 3-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Increases stakeholder participation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n obligation for ESOs (Article 5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keholder organisations criteria in Annex III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posal for Regulation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Verdana"/>
              </a:rPr>
              <a:t>Recognition of ICT standards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for public procurement (+ policies and legislation?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(Articles 9 and 10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5fa9"/>
                </a:solidFill>
                <a:latin typeface="Verdana"/>
              </a:rPr>
              <a:t>Suggestions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from Member States or Commissio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5fa9"/>
                </a:solidFill>
                <a:latin typeface="Verdana"/>
              </a:rPr>
              <a:t>Stakeholder platform will give advice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: expert working group with MS, industry, ESOs, Fora &amp; Consortia, SMEs, societal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5fa9"/>
                </a:solidFill>
                <a:latin typeface="Verdana"/>
              </a:rPr>
              <a:t>Criteria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: Annex II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/>
  <dc:description/>
  <dc:language>en-US</dc:language>
  <cp:lastModifiedBy>contean</cp:lastModifiedBy>
  <dcterms:modified xsi:type="dcterms:W3CDTF">2012-02-13T18:05:43Z</dcterms:modified>
  <cp:revision>98</cp:revision>
  <dc:subject/>
  <dc:title>European Initiatives in the Standardisation and e-Business Domains</dc:title>
</cp:coreProperties>
</file>