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1AAD-9A7E-4199-8BF3-C3C6F141EDF3}" type="slidenum">
              <a:rPr b="0" lang="de-CH"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28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FCB6-54C5-4BB4-9781-F4B442D6F507}"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2F38-2C78-41B3-B8D0-70A49905637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C5EC-AD41-418B-ADAE-289E18B22755}"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780E-98A8-4C3F-A1DB-3EE304ED5CDF}"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7CBC-CD7B-43A3-A5C5-F63F708C2B21}"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E738-95C0-4545-A338-307916A0280A}"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608A-C6B2-4A14-8E77-3157288587F3}"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AD6B-B2FC-426E-9108-78451C6EE278}"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1D98-A1EF-4A0A-8678-F1ECAE5F4813}"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20AD-8EB9-4C67-9BFD-A5EDF6D83DE3}"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41F3-4729-4AD1-A8D3-3990CBC208DE}"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F2A1-4E35-48F1-B352-C64DDFBE3B0C}"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F7EC-DAB5-4DE4-98F8-29DB8576D490}"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94DA-F01A-4000-BE6D-B758CDDB9475}" type="slidenum">
              <a:rPr b="0" lang="de-CH"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A5F1E-2AC8-49AE-9949-B5E390BB62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EFA6618-664E-4681-BC79-F06187D687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BC964B5-7C97-4DE0-A61E-90A77AF6B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013413A-263E-4F98-A83F-3206E1D571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83A10-669D-45BE-8755-CD7CFF639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D7D802-BBC9-4926-9DB4-76F8510799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6D090B-D429-4563-9E95-5C6FA0A140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C533802-AA63-4C30-9120-8D94DEFF0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B9A7010-1594-4873-9AAF-E06627F7DE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7BA2144-10FA-4890-AFE0-BB6C3234DC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653F15-EDCA-4F29-99EE-A88B945DE0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35C073-CE3A-4DD1-81DC-3F560417D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4E6826-1A1E-4A93-B0E7-776675FD6D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57EFBE-E310-4939-907E-EB26BA8749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5832B6-E97A-4D37-9889-338F577D4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ADA1C98-E362-4970-9B4A-470D3B077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9C47B6D-4E67-4F10-B2A2-A2A9C534708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0F7A70-4975-4A86-A3C0-550C3AD87D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C4FC53A-923D-4E71-87B4-8DCA52B59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C19A19F-94B5-412D-A799-DC1C599FB7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88F3248-84E9-4C22-856C-AEDBD9BBF1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C0E994-BB81-471D-AA4F-3FBF7FCCA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27C5ED-59DC-4532-B567-C5DCDFB39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F05B95-4F4B-401F-8B27-F8065B676E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D7E7-886E-4DAE-B3B2-3D58814846B1}"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42" name="TextBox 8"/>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0" descr="cefact_forum"/>
          <p:cNvPicPr/>
          <p:nvPr/>
        </p:nvPicPr>
        <p:blipFill>
          <a:blip r:embed="rId2"/>
          <a:stretch/>
        </p:blipFill>
        <p:spPr>
          <a:xfrm>
            <a:off x="0" y="0"/>
            <a:ext cx="9144000" cy="114300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3FEE-14CB-47BF-B6AD-5414312EF8E4}" type="slidenum">
              <a:rPr b="0" lang="de-CH"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7"/>
          <p:cNvSpPr/>
          <p:nvPr/>
        </p:nvSpPr>
        <p:spPr>
          <a:xfrm>
            <a:off x="1446120" y="744480"/>
            <a:ext cx="3278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Arial"/>
                <a:ea typeface="MS PGothic"/>
              </a:rPr>
              <a:t>UN Economic Commission for Europe</a:t>
            </a:r>
            <a:endParaRPr b="0" lang="en-US" sz="1000" spc="-1" strike="noStrike">
              <a:solidFill>
                <a:srgbClr val="000000"/>
              </a:solidFill>
              <a:latin typeface="Arial"/>
            </a:endParaRPr>
          </a:p>
        </p:txBody>
      </p:sp>
      <p:sp>
        <p:nvSpPr>
          <p:cNvPr id="83" name="TextBox 10"/>
          <p:cNvSpPr/>
          <p:nvPr/>
        </p:nvSpPr>
        <p:spPr>
          <a:xfrm>
            <a:off x="5105520" y="925560"/>
            <a:ext cx="35049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0" descr="cefact_forum"/>
          <p:cNvPicPr/>
          <p:nvPr/>
        </p:nvPicPr>
        <p:blipFill>
          <a:blip r:embed="rId2"/>
          <a:stretch/>
        </p:blipFill>
        <p:spPr>
          <a:xfrm>
            <a:off x="417600" y="147600"/>
            <a:ext cx="8308800" cy="1265400"/>
          </a:xfrm>
          <a:prstGeom prst="rect">
            <a:avLst/>
          </a:prstGeom>
          <a:ln w="0">
            <a:noFill/>
          </a:ln>
        </p:spPr>
      </p:pic>
      <p:sp>
        <p:nvSpPr>
          <p:cNvPr id="8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218960"/>
            <a:ext cx="8763120" cy="3508200"/>
          </a:xfrm>
          <a:prstGeom prst="rect">
            <a:avLst/>
          </a:prstGeom>
          <a:noFill/>
          <a:ln w="0">
            <a:noFill/>
          </a:ln>
        </p:spPr>
        <p:txBody>
          <a:bodyPr lIns="90000" rIns="90000" tIns="46800" bIns="46800" anchor="t">
            <a:noAutofit/>
          </a:bodyPr>
          <a:p>
            <a:pPr indent="0" algn="ctr">
              <a:lnSpc>
                <a:spcPct val="150000"/>
              </a:lnSpc>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1f497d"/>
                </a:solidFill>
                <a:latin typeface="Calibri"/>
                <a:ea typeface="Arial"/>
              </a:rPr>
              <a:t>18</a:t>
            </a:r>
            <a:r>
              <a:rPr b="1" lang="de-CH" sz="4400" spc="-1" strike="noStrike" baseline="30000">
                <a:solidFill>
                  <a:srgbClr val="1f497d"/>
                </a:solidFill>
                <a:latin typeface="Calibri"/>
                <a:ea typeface="Arial"/>
              </a:rPr>
              <a:t>th</a:t>
            </a:r>
            <a:r>
              <a:rPr b="1" lang="de-CH" sz="4400" spc="-1" strike="noStrike">
                <a:solidFill>
                  <a:srgbClr val="1f497d"/>
                </a:solidFill>
                <a:latin typeface="Calibri"/>
                <a:ea typeface="Arial"/>
              </a:rPr>
              <a:t> UN/CEFACT SESSION</a:t>
            </a:r>
            <a:br>
              <a:rPr sz="4400"/>
            </a:br>
            <a:r>
              <a:rPr b="1" lang="de-CH" sz="2400" spc="-1" strike="noStrike">
                <a:solidFill>
                  <a:srgbClr val="1f497d"/>
                </a:solidFill>
                <a:latin typeface="Calibri"/>
                <a:ea typeface="Arial"/>
              </a:rPr>
              <a:t>Item8. Challenges for trade facilitation and electronic business: visions and realities for public-private sector collaboration</a:t>
            </a:r>
            <a:br>
              <a:rPr sz="4000"/>
            </a:br>
            <a:r>
              <a:rPr b="1" lang="de-CH" sz="2800" spc="-1" strike="noStrike">
                <a:solidFill>
                  <a:srgbClr val="1f497d"/>
                </a:solidFill>
                <a:latin typeface="Calibri"/>
                <a:ea typeface="Arial"/>
              </a:rPr>
              <a:t>Panel C: Perspectives from governments and national, regional and international institutions</a:t>
            </a:r>
            <a:endParaRPr b="0" lang="en-US" sz="2800" spc="-1" strike="noStrike">
              <a:solidFill>
                <a:srgbClr val="000000"/>
              </a:solidFill>
              <a:latin typeface="Calibri"/>
            </a:endParaRPr>
          </a:p>
        </p:txBody>
      </p:sp>
      <p:sp>
        <p:nvSpPr>
          <p:cNvPr id="130" name="TextBox 4"/>
          <p:cNvSpPr/>
          <p:nvPr/>
        </p:nvSpPr>
        <p:spPr>
          <a:xfrm>
            <a:off x="1752480" y="4800600"/>
            <a:ext cx="57913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000" spc="-1" strike="noStrike">
                <a:solidFill>
                  <a:srgbClr val="1f497d"/>
                </a:solidFill>
                <a:latin typeface="Arial"/>
              </a:rPr>
              <a:t>Ajin Jirachiefpatta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Arial"/>
              </a:rPr>
              <a:t>15-17 February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Geneva International Conference Cent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Geneva, Switzer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0B4A-7499-4FF7-840D-99C364DFB1C5}"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6" name="TextBox 2"/>
          <p:cNvSpPr/>
          <p:nvPr/>
        </p:nvSpPr>
        <p:spPr>
          <a:xfrm>
            <a:off x="457200" y="1447920"/>
            <a:ext cx="8381880" cy="5214600"/>
          </a:xfrm>
          <a:prstGeom prst="rect">
            <a:avLst/>
          </a:prstGeom>
          <a:noFill/>
          <a:ln w="0">
            <a:noFill/>
          </a:ln>
        </p:spPr>
        <p:style>
          <a:lnRef idx="0"/>
          <a:fillRef idx="0"/>
          <a:effectRef idx="0"/>
          <a:fontRef idx="minor"/>
        </p:style>
        <p:txBody>
          <a:bodyPr lIns="90000" rIns="90000" tIns="46800" bIns="46800" anchor="t">
            <a:spAutoFit/>
          </a:bodyPr>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The survey of needs for training/consultancy in eBusiness and trade facilitation, and of resources to provide in the AFACT community</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The Survey of Status on eCOO Implementation in the AFACT Community</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ingle Window Survey in AFACT Economies</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urvey on SOA/Interoperability status in AFACT members</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Utilizing CCL in Asian region</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ingle Window Interoperable Framework</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Realization of Interoperability Practical Implementation Support (IPIS) Application in e-Business Interoperability among the Countries of AFACT  Members</a:t>
            </a:r>
            <a:endParaRPr b="0" lang="en-US" sz="24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SLHs (Small scaled Lodging Houses) reservation information project</a:t>
            </a:r>
            <a:endParaRPr b="0" lang="en-US" sz="2400" spc="-1" strike="noStrike">
              <a:solidFill>
                <a:srgbClr val="000000"/>
              </a:solidFill>
              <a:latin typeface="Arial"/>
            </a:endParaRPr>
          </a:p>
        </p:txBody>
      </p:sp>
      <p:sp>
        <p:nvSpPr>
          <p:cNvPr id="157" name="TextBox 3"/>
          <p:cNvSpPr/>
          <p:nvPr/>
        </p:nvSpPr>
        <p:spPr>
          <a:xfrm>
            <a:off x="5181480" y="838080"/>
            <a:ext cx="396252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Calibri"/>
                <a:ea typeface="MS PGothic"/>
              </a:rPr>
              <a:t>AFACT – Action/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7850-9117-4289-BCD3-FA6D0935CA9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9" name="TextBox 2"/>
          <p:cNvSpPr/>
          <p:nvPr/>
        </p:nvSpPr>
        <p:spPr>
          <a:xfrm>
            <a:off x="380880" y="1600200"/>
            <a:ext cx="8382240" cy="39344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To promote and provide secure, trusted, reliable and value-adding IT infrastructure and facilities to enhance seamless trade globally. Combined membership of the parties now exceeds 150,000 organizations, representing almost all active trading enterprises in the Asian market.</a:t>
            </a:r>
            <a:endParaRPr b="0" lang="en-US" sz="3600" spc="-1" strike="noStrike">
              <a:solidFill>
                <a:srgbClr val="000000"/>
              </a:solidFill>
              <a:latin typeface="Arial"/>
            </a:endParaRPr>
          </a:p>
        </p:txBody>
      </p:sp>
      <p:sp>
        <p:nvSpPr>
          <p:cNvPr id="160"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PAA -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9258-FE40-4943-B920-5184BD06812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2" name="TextBox 2"/>
          <p:cNvSpPr/>
          <p:nvPr/>
        </p:nvSpPr>
        <p:spPr>
          <a:xfrm>
            <a:off x="457200" y="1676520"/>
            <a:ext cx="8534520" cy="393444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B2B Projects: Commercial Documents Exchange</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B2B2G Projects: Automated Manifest / Declaration Service</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ECO Project</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ea typeface="MS PGothic"/>
              </a:rPr>
              <a:t>Global Visibility Project: cross border container tracking between Asia and Europe.</a:t>
            </a:r>
            <a:endParaRPr b="0" lang="en-US" sz="3600" spc="-1" strike="noStrike">
              <a:solidFill>
                <a:srgbClr val="000000"/>
              </a:solidFill>
              <a:latin typeface="Arial"/>
            </a:endParaRPr>
          </a:p>
        </p:txBody>
      </p:sp>
      <p:sp>
        <p:nvSpPr>
          <p:cNvPr id="163" name="TextBox 3"/>
          <p:cNvSpPr/>
          <p:nvPr/>
        </p:nvSpPr>
        <p:spPr>
          <a:xfrm>
            <a:off x="5029200" y="838080"/>
            <a:ext cx="396252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Calibri"/>
                <a:ea typeface="MS PGothic"/>
              </a:rPr>
              <a:t>PAA – Action/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0239-921B-4F82-AEFE-8EE56B36BCE4}"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5" name="TextBox 2"/>
          <p:cNvSpPr/>
          <p:nvPr/>
        </p:nvSpPr>
        <p:spPr>
          <a:xfrm>
            <a:off x="228600" y="1447920"/>
            <a:ext cx="8686800" cy="4968360"/>
          </a:xfrm>
          <a:prstGeom prst="rect">
            <a:avLst/>
          </a:prstGeom>
          <a:noFill/>
          <a:ln w="0">
            <a:noFill/>
          </a:ln>
        </p:spPr>
        <p:style>
          <a:lnRef idx="0"/>
          <a:fillRef idx="0"/>
          <a:effectRef idx="0"/>
          <a:fontRef idx="minor"/>
        </p:style>
        <p:txBody>
          <a:bodyPr lIns="90000" rIns="90000" tIns="46800" bIns="46800" anchor="t">
            <a:spAutoFit/>
          </a:bodyPr>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There are 48 countries in Asia.</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Very few are transition countries.</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So many are developing countries. </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Besides building infrastructure, these developing countries strongly need for technical assistance in capacity building issues on ICT, e-commerce, UN/CEFACT recommendations and standards.</a:t>
            </a:r>
            <a:endParaRPr b="0" lang="en-US" sz="3200" spc="-1" strike="noStrike">
              <a:solidFill>
                <a:srgbClr val="000000"/>
              </a:solidFill>
              <a:latin typeface="Arial"/>
            </a:endParaRPr>
          </a:p>
          <a:p>
            <a:pPr lvl="1" indent="291960" algn="ctr">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MS PGothic"/>
              </a:rPr>
              <a:t>Potential exists for cross border projects in Asia pacific using  UN/CEFACT tools. This may be taken up in various PDAs.</a:t>
            </a:r>
            <a:endParaRPr b="0" lang="en-US" sz="3200" spc="-1" strike="noStrike">
              <a:solidFill>
                <a:srgbClr val="000000"/>
              </a:solidFill>
              <a:latin typeface="Arial"/>
            </a:endParaRPr>
          </a:p>
        </p:txBody>
      </p:sp>
      <p:sp>
        <p:nvSpPr>
          <p:cNvPr id="166" name="TextBox 3"/>
          <p:cNvSpPr/>
          <p:nvPr/>
        </p:nvSpPr>
        <p:spPr>
          <a:xfrm>
            <a:off x="5181480" y="685800"/>
            <a:ext cx="3962520" cy="703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ffffff"/>
                </a:solidFill>
                <a:latin typeface="Calibri"/>
                <a:ea typeface="MS PGothic"/>
              </a:rPr>
              <a:t>Conclu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CCCB-A5B2-4F94-B372-DACBC39448F2}"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8" name="Rectangle 2"/>
          <p:cNvSpPr/>
          <p:nvPr/>
        </p:nvSpPr>
        <p:spPr>
          <a:xfrm>
            <a:off x="1371600" y="2971800"/>
            <a:ext cx="67816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0506-D842-45C4-90FB-062D432C0961}"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2" name="TextBox 2"/>
          <p:cNvSpPr/>
          <p:nvPr/>
        </p:nvSpPr>
        <p:spPr>
          <a:xfrm>
            <a:off x="457200" y="1595520"/>
            <a:ext cx="8305920" cy="387216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MS PGothic"/>
              </a:rPr>
              <a:t>ASEAN</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Association of SouthEast Asian Nations)</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MS PGothic"/>
              </a:rPr>
              <a:t>AFACT</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Asia Pacific Council for Trade Facilitation and Electronic Business)</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1f497d"/>
                </a:solidFill>
                <a:latin typeface="Calibri"/>
                <a:ea typeface="MS PGothic"/>
              </a:rPr>
              <a:t>PAA</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Pan Asian e-Commerce Alliance)</a:t>
            </a:r>
            <a:endParaRPr b="0" lang="en-US" sz="3200" spc="-1" strike="noStrike">
              <a:solidFill>
                <a:srgbClr val="000000"/>
              </a:solidFill>
              <a:latin typeface="Arial"/>
            </a:endParaRPr>
          </a:p>
        </p:txBody>
      </p:sp>
      <p:sp>
        <p:nvSpPr>
          <p:cNvPr id="133" name="TextBox 3"/>
          <p:cNvSpPr/>
          <p:nvPr/>
        </p:nvSpPr>
        <p:spPr>
          <a:xfrm>
            <a:off x="5334120" y="762120"/>
            <a:ext cx="3962160" cy="703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Calibri"/>
                <a:ea typeface="MS PGothic"/>
              </a:rPr>
              <a:t>Regional/International Instit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FA54-4FF3-4AF2-832D-B92916E8E71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5" name="TextBox 2"/>
          <p:cNvSpPr/>
          <p:nvPr/>
        </p:nvSpPr>
        <p:spPr>
          <a:xfrm>
            <a:off x="838080" y="1523880"/>
            <a:ext cx="7620120" cy="3567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1f497d"/>
                </a:solidFill>
                <a:latin typeface="Calibri"/>
                <a:ea typeface="MS PGothic"/>
              </a:rPr>
              <a:t>ASEAN ICT Masterplan 2015 - Vision</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Empowering</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Transformational</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clusive</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Vibra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tegrated</a:t>
            </a:r>
            <a:endParaRPr b="0" lang="en-US" sz="3200" spc="-1" strike="noStrike">
              <a:solidFill>
                <a:srgbClr val="000000"/>
              </a:solidFill>
              <a:latin typeface="Arial"/>
            </a:endParaRPr>
          </a:p>
        </p:txBody>
      </p:sp>
      <p:sp>
        <p:nvSpPr>
          <p:cNvPr id="136"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5B59-51CB-4A17-8721-DA54DBA772F1}"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8" name="TextBox 2"/>
          <p:cNvSpPr/>
          <p:nvPr/>
        </p:nvSpPr>
        <p:spPr>
          <a:xfrm>
            <a:off x="380880" y="1523880"/>
            <a:ext cx="8382240" cy="4480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ea typeface="MS PGothic"/>
              </a:rPr>
              <a:t>ASEAN ICT Masterplan 2015 – Strategic Thrusts</a:t>
            </a:r>
            <a:endParaRPr b="0"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Economic transformation</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People empowerment and engageme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novation</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nfrastructure developme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Human capital development</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Bridging the digital divide</a:t>
            </a:r>
            <a:endParaRPr b="0" lang="en-US" sz="3200" spc="-1" strike="noStrike">
              <a:solidFill>
                <a:srgbClr val="000000"/>
              </a:solidFill>
              <a:latin typeface="Arial"/>
            </a:endParaRPr>
          </a:p>
        </p:txBody>
      </p:sp>
      <p:sp>
        <p:nvSpPr>
          <p:cNvPr id="139"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4FC3-099F-40BC-9545-673514880DAD}"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1" name="TextBox 2"/>
          <p:cNvSpPr/>
          <p:nvPr/>
        </p:nvSpPr>
        <p:spPr>
          <a:xfrm>
            <a:off x="228600" y="1371600"/>
            <a:ext cx="8915400" cy="55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1f497d"/>
                </a:solidFill>
                <a:latin typeface="Calibri"/>
                <a:ea typeface="MS PGothic"/>
              </a:rPr>
              <a:t>ASEAN ICT Masterplan 2015 – Projects</a:t>
            </a:r>
            <a:endParaRPr b="0" lang="en-US" sz="36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ICT e-Mall (online Trading Center for ASEAN)</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ea typeface="MS PGothic"/>
              </a:rPr>
              <a:t>CA-CA Interoperability Project</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ea typeface="MS PGothic"/>
              </a:rPr>
              <a:t>CA-CA Interoperability Framework in ASEAN </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Develop ASEAN Technical Architecture Framework For E-Commerce Interoperability (ASEAN – TAFECI)</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ICT Skills Standard Development</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Empowering Homeworkers in ASEAN  countries through the usage of ICT</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1f497d"/>
                </a:solidFill>
                <a:latin typeface="Calibri"/>
                <a:ea typeface="MS PGothic"/>
              </a:rPr>
              <a:t>ASEAN CyberKids Camp</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Proposal to Develop ASEAN Technical Architecture Framework for E-Government Interoperability </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 EU Training for Law Enforcement, Judges and Prosecutors on Cybercrime</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ASEAN e-Government Development Plan </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Workshop on Enhancing ICT Adoption of Small and Medium Enterprises</a:t>
            </a:r>
            <a:endParaRPr b="0" lang="en-US" sz="20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MS PGothic"/>
              </a:rPr>
              <a:t>Open Source Software (OSS) 3D Animation Skill Improvement Training for ASEAN Universities (OTIS)  </a:t>
            </a:r>
            <a:endParaRPr b="0" lang="en-US" sz="2000" spc="-1" strike="noStrike">
              <a:solidFill>
                <a:srgbClr val="000000"/>
              </a:solidFill>
              <a:latin typeface="Arial"/>
            </a:endParaRPr>
          </a:p>
        </p:txBody>
      </p:sp>
      <p:sp>
        <p:nvSpPr>
          <p:cNvPr id="142"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684F-C6EC-4E4E-91F2-B5D97778809B}"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4" name="TextBox 2"/>
          <p:cNvSpPr/>
          <p:nvPr/>
        </p:nvSpPr>
        <p:spPr>
          <a:xfrm>
            <a:off x="380880" y="1523880"/>
            <a:ext cx="8382240" cy="399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1f497d"/>
                </a:solidFill>
                <a:latin typeface="Calibri"/>
                <a:ea typeface="MS PGothic"/>
              </a:rPr>
              <a:t>ASEAN ICT Ministerial Meeting 2011 –Dialogue Partners (China, Japan, Korea and India)</a:t>
            </a:r>
            <a:endParaRPr b="0"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T Infrastructure</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T Training</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IT Security</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E-Commerce</a:t>
            </a:r>
            <a:endParaRPr b="0" lang="en-US" sz="32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Disaster Management</a:t>
            </a:r>
            <a:endParaRPr b="0" lang="en-US" sz="3200" spc="-1" strike="noStrike">
              <a:solidFill>
                <a:srgbClr val="000000"/>
              </a:solidFill>
              <a:latin typeface="Arial"/>
            </a:endParaRPr>
          </a:p>
        </p:txBody>
      </p:sp>
      <p:sp>
        <p:nvSpPr>
          <p:cNvPr id="145"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S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9AFC-E480-4FAC-B740-287F84A55C80}"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7" name="TextBox 2"/>
          <p:cNvSpPr/>
          <p:nvPr/>
        </p:nvSpPr>
        <p:spPr>
          <a:xfrm>
            <a:off x="380880" y="1523880"/>
            <a:ext cx="8382240" cy="496836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f497d"/>
                </a:solidFill>
                <a:latin typeface="Calibri"/>
                <a:ea typeface="MS PGothic"/>
              </a:rPr>
              <a:t>To support in the Asia Pacific region and its adjacent countries and economies policies and activities, especially those promoted by UN/CEFACT, dedicated to stimulate, improve and promote the ability of business, trade and administrative organizations, to exchange products and relevant services effectively through the simplification and harmonization of processes, procedures and information flows in a non-political environment.</a:t>
            </a:r>
            <a:endParaRPr b="0" lang="en-US" sz="3200" spc="-1" strike="noStrike">
              <a:solidFill>
                <a:srgbClr val="000000"/>
              </a:solidFill>
              <a:latin typeface="Arial"/>
            </a:endParaRPr>
          </a:p>
        </p:txBody>
      </p:sp>
      <p:sp>
        <p:nvSpPr>
          <p:cNvPr id="148"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FACT -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CA84-A59B-4116-8214-791F8FA56B0C}"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0" name="TextBox 2"/>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6th Generation interbank EDI system (Japan)</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Implementation of e-CERT by Animal Quarantine Service (AQS) (Japan)</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Realization of Green Cloud Computing – Green EDI Collaboration with Financial EDI</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The cooperation between Vietnam and Japanese customs</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e-Commerce and e-Tailing in India</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Indian Customs EDI Gateway (ICEGATE)</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Port Community System (PCS) (India)</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Peanut.net - Traceability System for Peanut Products (India)</a:t>
            </a:r>
            <a:endParaRPr b="0" lang="en-US" sz="24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MS PGothic"/>
              </a:rPr>
              <a:t>Government eProcurement System of National Informatics Centre (GePNIC) (India)</a:t>
            </a:r>
            <a:endParaRPr b="0" lang="en-US" sz="2400" spc="-1" strike="noStrike">
              <a:solidFill>
                <a:srgbClr val="000000"/>
              </a:solidFill>
              <a:latin typeface="Arial"/>
            </a:endParaRPr>
          </a:p>
        </p:txBody>
      </p:sp>
      <p:sp>
        <p:nvSpPr>
          <p:cNvPr id="151"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FACT -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B2A9-1A6E-4BF6-93B2-59B32598ACFA}" type="slidenum">
              <a:rPr b="0" lang="de-CH"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3" name="TextBox 2"/>
          <p:cNvSpPr/>
          <p:nvPr/>
        </p:nvSpPr>
        <p:spPr>
          <a:xfrm>
            <a:off x="380880" y="1752480"/>
            <a:ext cx="8382240" cy="3933360"/>
          </a:xfrm>
          <a:prstGeom prst="rect">
            <a:avLst/>
          </a:prstGeom>
          <a:noFill/>
          <a:ln w="0">
            <a:noFill/>
          </a:ln>
        </p:spPr>
        <p:style>
          <a:lnRef idx="0"/>
          <a:fillRef idx="0"/>
          <a:effectRef idx="0"/>
          <a:fontRef idx="minor"/>
        </p:style>
        <p:txBody>
          <a:bodyPr lIns="90000" rIns="90000" tIns="46800" bIns="46800" anchor="t">
            <a:spAutoFit/>
          </a:bodyPr>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The Standardization Project of Technology and Information for Efficient Logistics Transport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Government electronic document distribution support center (GDOC)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e-Government SOA services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Electronic Tax Bill (Korea)</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The Project for Providing Assistance of Digital Opportunity Center in Northern Taiwan</a:t>
            </a:r>
            <a:endParaRPr b="0" lang="en-US" sz="2800" spc="-1" strike="noStrike">
              <a:solidFill>
                <a:srgbClr val="000000"/>
              </a:solidFill>
              <a:latin typeface="Arial"/>
            </a:endParaRPr>
          </a:p>
          <a:p>
            <a:pPr lvl="1" indent="2919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MS PGothic"/>
              </a:rPr>
              <a:t>The Government Cloud (G-Cloud) (Singapore)</a:t>
            </a:r>
            <a:endParaRPr b="0" lang="en-US" sz="2800" spc="-1" strike="noStrike">
              <a:solidFill>
                <a:srgbClr val="000000"/>
              </a:solidFill>
              <a:latin typeface="Arial"/>
            </a:endParaRPr>
          </a:p>
        </p:txBody>
      </p:sp>
      <p:sp>
        <p:nvSpPr>
          <p:cNvPr id="154" name="TextBox 3"/>
          <p:cNvSpPr/>
          <p:nvPr/>
        </p:nvSpPr>
        <p:spPr>
          <a:xfrm>
            <a:off x="5181480" y="711360"/>
            <a:ext cx="3962520" cy="581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alibri"/>
                <a:ea typeface="MS PGothic"/>
              </a:rPr>
              <a:t>AFACT -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26:57Z</dcterms:created>
  <dc:creator>UNECE</dc:creator>
  <dc:description/>
  <dc:language>en-US</dc:language>
  <cp:lastModifiedBy>csd</cp:lastModifiedBy>
  <dcterms:modified xsi:type="dcterms:W3CDTF">2012-02-15T14:41:18Z</dcterms:modified>
  <cp:revision>453</cp:revision>
  <dc:subject>PPT Template</dc:subject>
  <dc:title>United Nations Economic Commssion for Europe</dc:title>
</cp:coreProperties>
</file>