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FBFF-F34E-4450-BB86-41C5C47ACC0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7CE2D5-61A0-4D3E-BC48-BBAA300EC7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0E77D6-889E-4657-BDB3-9BFA0896DC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083BBC-A956-4D77-B81D-FD2F01E6C1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706E48-2526-4360-99F1-5AF7A60C6B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16B06C-B6EC-4B6A-B47A-677778A808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BFDBC9-22DC-48B6-92F4-DD52DC262C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656BD3-717E-4CEC-9155-9395796707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11E334-1216-448C-ACDC-51D311758B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4BB6A8-8193-48F6-AFC8-1AE86BC7FB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8C7C5B-8863-44E4-83D6-D28BD0BD44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3DFBCE-6B5C-4126-A7CA-92D7702AD1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363479-1B18-4CA5-A3FD-549D7D10B5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6BAD40-7F97-4465-98C2-6014E215FF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CF5A22-C63D-40BC-B18C-257A8A8113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15028920" y="-11798280"/>
            <a:ext cx="18253080" cy="1249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62776F-3693-4B51-BC06-CC3324D6A0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3A178B-C1ED-4E74-8FE6-470F64AE1D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4C6DE1-19AE-425D-AE18-29BA4A7A41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3E57-A275-4112-BD6E-D329734B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AFD9-7E45-4697-9B46-44F47D19E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5E68-060F-4215-924C-567D48115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86D5-ECE4-4FC3-BCD5-1C87E5421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2B1-E019-40E6-902C-633C68784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357-0B02-4F49-B962-F8F083E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E54-1387-4985-AD31-19DD63FB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FCE-AF81-4442-932E-0C8C62ED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467-6753-4746-8983-B5BDFE16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38D-5E33-446E-BBB0-58797BC0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837-1099-456D-B9E0-205A26B8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8FAA-31C1-4F46-A3E8-5D2FFB853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536-2487-4F4D-92AE-60B33B1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29A-9AC6-46A3-AFFC-4FF9CA3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512-A14D-4761-818E-DFBAD9E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24E-8E4B-4DC1-BA88-77FAE97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820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956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820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956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DDE-BA4F-43F3-A1E3-9BAD9AC26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48701-1765-4809-8A07-7FB70126E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0724F-A99C-45E4-93DE-954A4556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FD23-8050-4B72-B80D-B7EFFC1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AF034-F281-4DB3-A7D7-A08EE9A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2387-57B5-4E48-8FAB-5DD0A22B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FDFE-B4B6-448F-826C-C10E205C06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596A2-614D-4607-B1AE-11E93E7E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52DDE-7FBE-4148-B43E-2A693FCB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21FF-6B7B-4B7D-BC2F-93A3DFF6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285BE-EB99-468F-8C3A-41EA13C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7BBCC-E03F-447E-8E02-318B3ED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43FAC-9D29-4E15-BD7A-F214891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820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9560" y="7790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684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820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9560" y="31413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A7EF-24C8-40EB-8C61-4A12A8659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0B8B-E063-42C0-82EF-E2879C266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6763-EC94-4E49-9CBA-FDB556F2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DF40-A0FD-4892-B96D-B1B668125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0D8F-F28D-43F7-B775-BD7532CD2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1413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B5E5-34F4-4ABF-B9C4-B44AA41C2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7790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1413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B562-33F2-46FA-8C90-639367B3A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63C7E3-0ACC-4B60-A60A-F5A95D5DEAA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404640"/>
            <a:ext cx="914400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b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44000" y="115920"/>
            <a:ext cx="239400" cy="1369800"/>
            <a:chOff x="8244000" y="115920"/>
            <a:chExt cx="239400" cy="1369800"/>
          </a:xfrm>
        </p:grpSpPr>
        <p:sp>
          <p:nvSpPr>
            <p:cNvPr id="4" name=""/>
            <p:cNvSpPr/>
            <p:nvPr/>
          </p:nvSpPr>
          <p:spPr>
            <a:xfrm>
              <a:off x="8244000" y="115920"/>
              <a:ext cx="230400" cy="102960"/>
            </a:xfrm>
            <a:prstGeom prst="rect">
              <a:avLst/>
            </a:prstGeom>
            <a:solidFill>
              <a:srgbClr val="61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0800000">
              <a:off x="8253000" y="1382760"/>
              <a:ext cx="230400" cy="102960"/>
            </a:xfrm>
            <a:prstGeom prst="rect">
              <a:avLst/>
            </a:prstGeom>
            <a:solidFill>
              <a:srgbClr val="61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76120" y="115920"/>
              <a:ext cx="97920" cy="1352520"/>
            </a:xfrm>
            <a:prstGeom prst="rect">
              <a:avLst/>
            </a:prstGeom>
            <a:solidFill>
              <a:srgbClr val="61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755640" y="318960"/>
            <a:ext cx="213480" cy="1306080"/>
            <a:chOff x="755640" y="318960"/>
            <a:chExt cx="213480" cy="1306080"/>
          </a:xfrm>
        </p:grpSpPr>
        <p:sp>
          <p:nvSpPr>
            <p:cNvPr id="8" name=""/>
            <p:cNvSpPr/>
            <p:nvPr/>
          </p:nvSpPr>
          <p:spPr>
            <a:xfrm>
              <a:off x="755640" y="318960"/>
              <a:ext cx="20448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0800000">
              <a:off x="764280" y="1525320"/>
              <a:ext cx="204840" cy="9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5640" y="318960"/>
              <a:ext cx="84960" cy="129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569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1552680" cy="6458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554200" y="-4138560"/>
            <a:ext cx="11320200" cy="1058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23880" cy="857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7790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2"/>
          </p:nvPr>
        </p:nvSpPr>
        <p:spPr>
          <a:xfrm>
            <a:off x="5500440" y="6286680"/>
            <a:ext cx="9968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/02/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72200" y="6286680"/>
            <a:ext cx="1589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00880" y="6286680"/>
            <a:ext cx="5680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7555F-5816-42AB-9641-70B5FD4B563C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fld id="{31630938-512F-4F6F-B646-07C05FED65B3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2920" y="6000840"/>
            <a:ext cx="152388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29040" y="2801880"/>
            <a:ext cx="4175280" cy="3905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5500440" y="6286680"/>
            <a:ext cx="9968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/02/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9960" y="6286680"/>
            <a:ext cx="1589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5"/>
          </p:nvPr>
        </p:nvSpPr>
        <p:spPr>
          <a:xfrm>
            <a:off x="6500880" y="6286680"/>
            <a:ext cx="5680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A02DB-8EB3-4D4F-87CF-F58AD718595B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fld id="{12579BCD-33EC-4B30-9118-65DF2B94BCCC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0480" y="6480"/>
            <a:ext cx="7769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88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9680" y="1916280"/>
            <a:ext cx="8194680" cy="417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1320" y="6078600"/>
            <a:ext cx="464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éphane ARCHE – Ministry of Agriculture / Directorate for food / FRANC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runo PREPIN – AGRO EDI Eur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500800" y="628668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600" spc="-1" strike="noStrike">
                <a:solidFill>
                  <a:srgbClr val="f79646"/>
                </a:solidFill>
                <a:latin typeface="Franklin Gothic Book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Nowadays, many kind of networks are doing crop observations in order to provide wider view advices about crop pests and diseases to the farm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Dealing with the complexity of the crop production, these reports are generating a huge amount of data in many formats which could be standardiz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he European regulation requires to members States to set up a network of epidemiological monitoring of crops, in order to improve the advice to the farmers and to prevent the massive use of pestic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he aims ar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558ed5"/>
                </a:solidFill>
                <a:latin typeface="Arial"/>
                <a:ea typeface="MS Gothic"/>
              </a:rPr>
              <a:t>To monitor the crops in place in order to detect early insects, pests and/or diseases that may have negative impact on harvested produ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558ed5"/>
                </a:solidFill>
                <a:latin typeface="Arial"/>
                <a:ea typeface="MS Gothic"/>
              </a:rPr>
              <a:t>To provide more accurate advice to the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558ed5"/>
                </a:solidFill>
                <a:latin typeface="Arial"/>
                <a:ea typeface="MS Gothic"/>
              </a:rPr>
              <a:t>To reduce chemical crop inputs (to cut costs and to reduce environmental pri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The message « agronomical observation report » will be used to transfer raw datas from the field to any kind of parties (Ministry of agriculture, Private companies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500800" y="6286680"/>
            <a:ext cx="99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500800" y="6286680"/>
            <a:ext cx="13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b0f0"/>
                </a:solidFill>
                <a:latin typeface="Arial"/>
                <a:ea typeface="Lucida Sans Unicode"/>
              </a:rPr>
              <a:t>AgroObs Message was included in UN/CEFACT CCL1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</a:rPr>
              <a:t>AEE WEB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500800" y="6286680"/>
            <a:ext cx="13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www.agroedieurope.f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Arial"/>
                <a:ea typeface="Lucida Sans Unicode"/>
              </a:rPr>
              <a:t>Agro EDI Europe Référent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All up to date and online referential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Downloadable in Excel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Or in xml format via the direct connection system with AP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Arial"/>
                <a:ea typeface="Lucida Sans Unicode"/>
              </a:rPr>
              <a:t>XML UN/CEFACT message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Impartial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17375e"/>
                </a:solidFill>
                <a:latin typeface="Arial"/>
                <a:ea typeface="Lucida Sans Unicode"/>
              </a:rPr>
              <a:t>Binary answer : Valid or Non-val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17375e"/>
                </a:solidFill>
                <a:latin typeface="Arial"/>
                <a:ea typeface="Lucida Sans Unicode"/>
              </a:rPr>
              <a:t>Used as a refer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558ed5"/>
                </a:solidFill>
                <a:latin typeface="Arial"/>
                <a:ea typeface="Lucida Sans Unicode"/>
              </a:rPr>
              <a:t>Education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17375e"/>
                </a:solidFill>
                <a:latin typeface="Arial"/>
                <a:ea typeface="Lucida Sans Unicode"/>
              </a:rPr>
              <a:t>Support for developp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716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lains err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716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mited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500800" y="6286680"/>
            <a:ext cx="13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96840"/>
            <a:ext cx="82296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Codes dictionnary</a:t>
            </a:r>
            <a:br>
              <a:rPr sz="4400"/>
            </a:b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through the extra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341280" indent="-3398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Arial"/>
                <a:ea typeface="Lucida Sans Unicode"/>
              </a:rPr>
              <a:t>Through our member page on 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  <a:ea typeface="Lucida Sans Unicode"/>
              </a:rPr>
              <a:t>www.agroedieurope.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500880" cy="2857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788364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</a:rPr>
              <a:t>API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Application Programming Interface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500800" y="6172200"/>
            <a:ext cx="13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3/0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  <a:ea typeface="Lucida Sans Unicode"/>
              </a:rPr>
              <a:t>L’API Agro EDI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1590840"/>
            <a:ext cx="8228160" cy="4563720"/>
            <a:chOff x="457200" y="1590840"/>
            <a:chExt cx="8228160" cy="45637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457200" y="1590840"/>
              <a:ext cx="8228160" cy="45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1590840"/>
              <a:ext cx="8228160" cy="45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786200" y="351468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quête </a:t>
            </a:r>
            <a:br>
              <a:rPr sz="24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 donne moi la dernière version des codes maladies »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API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21520" y="3643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é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28592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r http://api.agroedieurope.f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56000" y="404640"/>
            <a:ext cx="5903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800360"/>
            <a:ext cx="88203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 measure was launched in 2008 and was intergrated in the « Ecophyto 2012 » government plan : the aim is to reduce pesticides use by 50% within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mplemented by the Ministry for Agriculture in collaboration with business partners, within the framework of observation networks that covers the whole territory and its farming indust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im : biological and epidemiological monitoring of the territory with publication of the vegetal health Bullet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re than 8000 observed pl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re than 2700 observers on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ore than 1500 published vegetal health Bullet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739880"/>
            <a:ext cx="86598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mplementation of a national database aiming to collect observation data on harmful organism and parasi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his database aggregates all observations made within the framework of the epidemiological surveillance by observation networks, no matters which information system is used for the observation cap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different SI to this day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Vigiculture / VgObs / Latitude / Afidol / Gaïa / Epicure / Agriobs / Campanet /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il CA 8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ytozér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98720" y="4190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PIPHY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I in epidemiological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676520"/>
            <a:ext cx="883944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interoperability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operability between SI is provided by an exchange message of observation data (AgroObs) and a basis of referentials shared by all system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and referentials are done by the « Observation » workgroup hosted by Agro EDI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ain referential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rming/qualifier/destination/organ/vegetative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organisms/category/sub-category/stage of develo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CH stage of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s of 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4078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PIPHY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I in epidemiological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6000" y="409680"/>
            <a:ext cx="59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PIPHYT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 en épidémiosurveil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843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63604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02280" y="2459160"/>
            <a:ext cx="297648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05440" y="2362320"/>
            <a:ext cx="2970000" cy="41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619280"/>
            <a:ext cx="882036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DI system is based 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tandardized AgroObs message (implementation of XS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tials shared by 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  A dedicated EDI platform on which can be fou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he whole technical documen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ownloading of shared referenti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est of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n adapted governance allowing to always let the system evoluates with all actors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3891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PIPHY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 compon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99" t="14402" r="26999" b="14402"/>
          <a:stretch/>
        </p:blipFill>
        <p:spPr>
          <a:xfrm>
            <a:off x="1563840" y="1440000"/>
            <a:ext cx="5456160" cy="52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57440" y="6984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La plate-form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26547" t="16198" r="27449" b="5003"/>
          <a:stretch/>
        </p:blipFill>
        <p:spPr>
          <a:xfrm>
            <a:off x="1716120" y="1440000"/>
            <a:ext cx="5568840" cy="538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6000" y="69840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La plate-form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785880"/>
            <a:ext cx="77724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f79646"/>
                </a:solidFill>
                <a:latin typeface="Franklin Gothic Book"/>
              </a:rPr>
              <a:t>AgroOb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7840" y="2786040"/>
            <a:ext cx="3571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ronomical Observation Re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4:15:08Z</dcterms:created>
  <dc:creator>J. JULLIEN - SDQPV</dc:creator>
  <dc:description/>
  <dc:language>en-US</dc:language>
  <cp:lastModifiedBy>Kangur</cp:lastModifiedBy>
  <cp:lastPrinted>2012-02-13T09:37:23Z</cp:lastPrinted>
  <dcterms:modified xsi:type="dcterms:W3CDTF">2012-02-15T07:53:59Z</dcterms:modified>
  <cp:revision>915</cp:revision>
  <dc:subject/>
  <dc:title>SBT en ZNA</dc:title>
</cp:coreProperties>
</file>