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B0E29-7404-4761-82DB-050F2BAD8F9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1A5202-3B42-48A5-8728-1F37D24338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951D4C-8DDC-4FA4-9BA7-F34E433FCE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8A04DD-93AC-4241-BA8D-DB789A60E8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0FC9DC-3532-4A92-9A2B-6434383A41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248CA4-6430-4690-B54D-5620739006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BA34D4-5990-4F84-83CD-97980B4725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DCBF74-BEF8-4402-9CB9-7F5B823210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9AE348-67CA-4BF7-98F2-9C92F090F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7A379B-4A90-4868-969F-F3473E0C2B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AFD15C-C0FC-439D-A7A1-8E7A0376B1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EE62E2-8FD5-41B4-BB3E-7072D02CA6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7FD8DF-E9B4-443E-8735-E46DCD5C2E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434E98-20AF-4872-A592-AA361FC540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8C81D9-2196-4742-B859-CF46C4025E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57C9D1-83F3-422F-ABBE-0559A825B6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6AFE94-EB48-4E2C-A835-E45F8489D9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C8EAC5-5B9C-46D2-ACA9-C5EAB7283A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D6A7-03F7-489E-9C75-F9EA2D7C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3E1A-9A65-499B-AE36-E3D1B8D9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94D5-0E34-43B9-B80D-DB62B7748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9F18-41DE-4648-89E3-EE57D859C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8EE-8666-4CF5-B3C2-606555604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A82-B8BC-4EA1-B566-5ADEE5C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5BF-5FF5-40BB-96A6-A92B17D4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BEE-09E3-4698-B13A-25CDE4A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7A2-D9F0-46A9-B7D0-BD095599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618-41C4-46F1-8D72-442C607D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9FD-B820-409D-B18B-F3E0CC91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7889-2642-4E6C-A1C9-90618BFBD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352-0BA0-46C0-B518-E3A850D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156-0E57-49CA-ACC5-E542097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901-029B-4501-B700-D9D2FF71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BB3-8371-42F8-BE83-B041530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236-901E-4C2D-A80D-EA43B31C3B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8429C-473B-4BCF-BAF1-6BDEBCD76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CC3AE-4D3A-4423-A1F3-1ECC00B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C841-E37C-455A-AF58-2DA0E9CF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2B66-09B0-480E-89C8-CA84F9B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7900-7465-40F9-88A7-050CA979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BFE4-8384-4777-B542-048CB2E776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CD66-8DFC-430A-B6C5-ED102E91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618A2-F37B-4C96-BFEF-EB45561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803F5-7E52-47D2-8DCF-4BE871A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B40CE-E0A7-42B7-9941-FF9A331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4FC0-B1F1-4017-BAE1-E710595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3EE5E-0161-4293-A9F2-DBE1FFBC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808E7-1472-476B-9A48-79F2BE8AA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70BF-B17C-4CB4-BBF4-CF822C194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F49A-4408-4708-AF15-592A2A114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7D77-E949-4AA7-9411-661D16627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EC47-8B1C-4583-8913-A8BC39696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8FE1-AB9F-430C-8808-473592211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3B31-2A66-4AE1-B342-45BCDA203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E20204-E94C-466D-A4DE-6C9F87416B28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404640"/>
            <a:ext cx="914400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b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44000" y="115920"/>
            <a:ext cx="239400" cy="1369800"/>
            <a:chOff x="8244000" y="115920"/>
            <a:chExt cx="239400" cy="1369800"/>
          </a:xfrm>
        </p:grpSpPr>
        <p:sp>
          <p:nvSpPr>
            <p:cNvPr id="4" name=""/>
            <p:cNvSpPr/>
            <p:nvPr/>
          </p:nvSpPr>
          <p:spPr>
            <a:xfrm>
              <a:off x="8244000" y="115920"/>
              <a:ext cx="230400" cy="10296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0800000">
              <a:off x="8253000" y="1382760"/>
              <a:ext cx="230400" cy="10296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76120" y="115920"/>
              <a:ext cx="97920" cy="135252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755640" y="318960"/>
            <a:ext cx="213480" cy="1306080"/>
            <a:chOff x="755640" y="318960"/>
            <a:chExt cx="213480" cy="1306080"/>
          </a:xfrm>
        </p:grpSpPr>
        <p:sp>
          <p:nvSpPr>
            <p:cNvPr id="8" name=""/>
            <p:cNvSpPr/>
            <p:nvPr/>
          </p:nvSpPr>
          <p:spPr>
            <a:xfrm>
              <a:off x="755640" y="318960"/>
              <a:ext cx="20448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0800000">
              <a:off x="764280" y="1525320"/>
              <a:ext cx="20484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5640" y="318960"/>
              <a:ext cx="84960" cy="129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569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1552680" cy="6458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554200" y="-4138560"/>
            <a:ext cx="11320200" cy="1058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2388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2"/>
          </p:nvPr>
        </p:nvSpPr>
        <p:spPr>
          <a:xfrm>
            <a:off x="5500440" y="6286680"/>
            <a:ext cx="9968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/02/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72200" y="6286680"/>
            <a:ext cx="1589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00880" y="6286680"/>
            <a:ext cx="568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115B5-FE45-4CBA-8D59-D2C982C47F0D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fld id="{4850ECB5-9F4D-4CD1-AD46-1DB651996AFE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2920" y="6000840"/>
            <a:ext cx="152388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29040" y="2801880"/>
            <a:ext cx="4175280" cy="3905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5500440" y="6286680"/>
            <a:ext cx="9968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/02/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9960" y="6286680"/>
            <a:ext cx="1589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6500880" y="6286680"/>
            <a:ext cx="568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DFDE1-D782-4EC3-B8BA-720492EE33A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fld id="{4E4267F8-1E36-415D-99EC-64997A6B1AB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0480" y="6480"/>
            <a:ext cx="7769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88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9680" y="1916280"/>
            <a:ext cx="8194680" cy="417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1320" y="6078600"/>
            <a:ext cx="464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éphane ARCHE – Ministry of Agriculture / Directorate for food / FRANC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runo PREPIN – AGRO EDI Eur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500800" y="628668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600" spc="-1" strike="noStrike">
                <a:solidFill>
                  <a:srgbClr val="f79646"/>
                </a:solidFill>
                <a:latin typeface="Franklin Gothic Book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Nowadays, many kind of networks are doing crop observations in order to provide wider view advices about crop pests and diseases to the far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Dealing with the complexity of the crop production, these reports are generating a huge amount of data in many formats which could be standardiz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European regulation requires to members States to set up a network of epidemiological monitoring of crops, in order to improve the advice to the farmers and to prevent the massive use of pestic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aims a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monitor the crops in place in order to detect early insects, pests and/or diseases that may have negative impact on harvested produ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provide more accurate advice to the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reduce chemical crop inputs (to cut costs and to reduce environmental pri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message « agronomical observation report » will be used to transfer raw datas from the field to any kind of parties (Ministry of agriculture, Private companies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500800" y="6286680"/>
            <a:ext cx="99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b0f0"/>
                </a:solidFill>
                <a:latin typeface="Arial"/>
                <a:ea typeface="Lucida Sans Unicode"/>
              </a:rPr>
              <a:t>AgroObs Message was included in UN/CEFACT CCL1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EE WEB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www.agroedieurope.f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Agro EDI Europe Référent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All up to date and online referential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Downloadable in Excel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Or in xml format via the direct connection system with AP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XML UN/CEFACT message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Impartial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Binary answer : Valid or Non-val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Used as a refer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Education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Support for developp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716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lains err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716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mited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96840"/>
            <a:ext cx="8229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Codes dictionnary</a:t>
            </a:r>
            <a:br>
              <a:rPr sz="4400"/>
            </a:b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through the extra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Through our member page on 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  <a:ea typeface="Lucida Sans Unicode"/>
              </a:rPr>
              <a:t>www.agroedieurope.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500880" cy="2857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788364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PI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Application Programming Interface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500800" y="6172200"/>
            <a:ext cx="13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L’API Agro EDI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590840"/>
            <a:ext cx="8228160" cy="4563720"/>
            <a:chOff x="457200" y="1590840"/>
            <a:chExt cx="8228160" cy="45637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457200" y="1590840"/>
              <a:ext cx="8228160" cy="45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1590840"/>
              <a:ext cx="8228160" cy="45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786200" y="351468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quête </a:t>
            </a:r>
            <a:br>
              <a:rPr sz="24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 donne moi la dernière version des codes maladies »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API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21520" y="3643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28592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r http://api.agroedieurope.f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56000" y="404640"/>
            <a:ext cx="5903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00360"/>
            <a:ext cx="88203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 measure was launched in 2008 and was intergrated in the « Ecophyto 2012 » government plan : the aim is to reduce pesticides use by 50% within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lemented by the Ministry for Agriculture in collaboration with business partners, within the framework of observation networks that covers the whole territory and its farming indust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im : biological and epidemiological monitoring of the territory with publication of the vegetal health Bullet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8000 observed pl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2700 observers on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1500 published vegetal health Bullet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739880"/>
            <a:ext cx="86598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lementation of a national database aiming to collect observation data on harmful organism and paras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his database aggregates all observations made within the framework of the epidemiological surveillance by observation networks, no matters which information system is used for the observation cap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different SI to this day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Vigiculture / VgObs / Latitude / Afidol / Gaïa / Epicure / Agriobs / Campanet 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il CA 8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ytozér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98720" y="4190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I in epidemiological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676520"/>
            <a:ext cx="88394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interoperability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operability between SI is provided by an exchange message of observation data (AgroObs) and a basis of referentials shared by all system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and referentials are done by the « Observation » workgroup hosted by Agro EDI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ain referential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rming/qualifier/destination/organ/vegetative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organisms/category/sub-category/stage of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CH stage of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s of 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4078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I in epidemiological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40968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 en épidémiosurveil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4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63604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619280"/>
            <a:ext cx="882036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DI system is based 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tandardized AgroObs message (implementation of XS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tials shared by 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 A dedicated EDI platform on which can be fou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he whole technical documen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ownloading of shared referenti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est of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n adapted governance allowing to always let the system evoluates with all actors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3891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PIPHY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 compon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99" t="14402" r="26999" b="14402"/>
          <a:stretch/>
        </p:blipFill>
        <p:spPr>
          <a:xfrm>
            <a:off x="1563840" y="1440000"/>
            <a:ext cx="5456160" cy="52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57440" y="6984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La plate-form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26547" t="16198" r="27449" b="5003"/>
          <a:stretch/>
        </p:blipFill>
        <p:spPr>
          <a:xfrm>
            <a:off x="1716120" y="1440000"/>
            <a:ext cx="5568840" cy="538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6000" y="69840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La plate-form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groOb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ronomical Observation Re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4:15:08Z</dcterms:created>
  <dc:creator>J. JULLIEN - SDQPV</dc:creator>
  <dc:description/>
  <dc:language>en-US</dc:language>
  <cp:lastModifiedBy>Kangur</cp:lastModifiedBy>
  <cp:lastPrinted>2012-02-13T09:37:23Z</cp:lastPrinted>
  <dcterms:modified xsi:type="dcterms:W3CDTF">2012-02-15T07:53:59Z</dcterms:modified>
  <cp:revision>915</cp:revision>
  <dc:subject/>
  <dc:title>SBT en ZNA</dc:title>
</cp:coreProperties>
</file>