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AB4-2E25-4F7B-80FB-0C7E5261789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56C-4A61-4064-8270-FF4EB6E85C8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558A-8C63-44A9-AB19-7BDEC7436AA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92DE-F8E3-4DBE-B1F4-37FA1FD1D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4EC5-0200-4D58-AD30-D02C8D74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2F32-E9BC-47B9-BD8C-39678CBC3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C609-4832-4016-ADEB-720CBE3B2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C482-4334-4B50-9687-33B207793B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019D-A7C1-4996-A74F-1FD4C30A8F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7156-BD66-4DEF-8E18-C8ABCE9FDF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1608-DC87-487A-AE72-B869C8FBB1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CB34-D983-4DB1-8021-9A0B11D4C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D11E-E255-46E1-95E0-6990E219D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F24C-7323-4856-A25F-EF8A95485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BD80-FCEC-4959-942E-D1FF309CE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F2B8-2584-47A1-8333-54CA35937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EB92-CB1E-4264-BF40-BCC322DF40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A1BA-81A4-4E41-B4AA-3CD3F9571C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07C3-DCD7-4880-BFCD-1F41D7ED3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74FA-6C9B-4A40-B937-46A9855F59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9451-0BF0-44ED-B989-679D7CD048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999-AE65-44A4-917F-A3094539F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2449-7972-4728-86DA-BA8FCF4C7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D798-1A1C-4EE6-ADD4-DADBCEF55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B2C5-D64C-41F4-B870-D08D832F5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955F-0490-4B3D-B026-7072FCD66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987D-4F5D-43AA-9BB0-66F331F4F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3248-6F4A-4A89-A939-5E12FF7F33F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050-5F32-4404-A102-3A9FC49C756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72956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Agenda item 7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Strategic Directions for UN/CEFACT 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2012 -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66688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694320" y="41148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www.strategy-keys.com/image-files/strategic-management-models.jpg"/>
          <p:cNvPicPr/>
          <p:nvPr/>
        </p:nvPicPr>
        <p:blipFill>
          <a:blip r:embed="rId1"/>
          <a:stretch/>
        </p:blipFill>
        <p:spPr>
          <a:xfrm>
            <a:off x="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nciles.co.uk/images/strategy.jpg"/>
          <p:cNvPicPr/>
          <p:nvPr/>
        </p:nvPicPr>
        <p:blipFill>
          <a:blip r:embed="rId2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BD9-CB8C-4339-BE03-39CD36B5F28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33520" y="16002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Facilitation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lectronic Business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mental &amp; Business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and effective processes for global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ttp://whywebstandards.org/wp-content/uploads/2010/03/web-standards.jpg"/>
          <p:cNvPicPr/>
          <p:nvPr/>
        </p:nvPicPr>
        <p:blipFill>
          <a:blip r:embed="rId1"/>
          <a:srcRect l="0" t="37106" r="0" b="37390"/>
          <a:stretch/>
        </p:blipFill>
        <p:spPr>
          <a:xfrm>
            <a:off x="1031760" y="5562720"/>
            <a:ext cx="7274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5C25-03D9-4804-9176-A306FDE7495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09480" y="182880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ing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d digitalize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 standards basis for global trade faciliation and improved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sushantskoltey.files.wordpress.com/2012/01/why_investment_banking-300x299.jpg"/>
          <p:cNvPicPr/>
          <p:nvPr/>
        </p:nvPicPr>
        <p:blipFill>
          <a:blip r:embed="rId1"/>
          <a:stretch/>
        </p:blipFill>
        <p:spPr>
          <a:xfrm>
            <a:off x="6475320" y="1447920"/>
            <a:ext cx="24019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486-FE2A-4A35-B974-A76644346B1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eagereyes.org/media/2009/toolbox.jpg"/>
          <p:cNvPicPr/>
          <p:nvPr/>
        </p:nvPicPr>
        <p:blipFill>
          <a:blip r:embed="rId1"/>
          <a:stretch/>
        </p:blipFill>
        <p:spPr>
          <a:xfrm>
            <a:off x="3686040" y="3200400"/>
            <a:ext cx="5065920" cy="3352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533520" y="1676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ther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A10F-4269-49E9-BC70-8883FD8EB48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09480" y="220968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Dire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ly agreed and standard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bigious sharing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hds.harvard.edu/library/collections/images/031505_Divinity_Library_57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05E-D4E9-4A6F-8FE3-F29AE0AB35C5}" type="slidenum">
              <a:rPr b="1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2"/>
          <p:cNvGrpSpPr/>
          <p:nvPr/>
        </p:nvGrpSpPr>
        <p:grpSpPr>
          <a:xfrm>
            <a:off x="4443480" y="1547640"/>
            <a:ext cx="4676760" cy="2695680"/>
            <a:chOff x="4443480" y="1547640"/>
            <a:chExt cx="4676760" cy="2695680"/>
          </a:xfrm>
        </p:grpSpPr>
        <p:pic>
          <p:nvPicPr>
            <p:cNvPr id="152" name="Rectangle 2" descr=""/>
            <p:cNvPicPr/>
            <p:nvPr/>
          </p:nvPicPr>
          <p:blipFill>
            <a:blip r:embed="rId1"/>
            <a:stretch/>
          </p:blipFill>
          <p:spPr>
            <a:xfrm>
              <a:off x="4443480" y="154764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0" y="167652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Development and maintenance of recommendations, standards and instr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ectangle 3"/>
          <p:cNvGrpSpPr/>
          <p:nvPr/>
        </p:nvGrpSpPr>
        <p:grpSpPr>
          <a:xfrm>
            <a:off x="23760" y="1547640"/>
            <a:ext cx="4676760" cy="2695680"/>
            <a:chOff x="23760" y="1547640"/>
            <a:chExt cx="4676760" cy="2695680"/>
          </a:xfrm>
        </p:grpSpPr>
        <p:pic>
          <p:nvPicPr>
            <p:cNvPr id="155" name="Rectangle 3" descr=""/>
            <p:cNvPicPr/>
            <p:nvPr/>
          </p:nvPicPr>
          <p:blipFill>
            <a:blip r:embed="rId2"/>
            <a:stretch/>
          </p:blipFill>
          <p:spPr>
            <a:xfrm>
              <a:off x="23760" y="154764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2280" y="167652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Opportunities to simplify, align and standardize processes, procedures and information 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ectangle 4"/>
          <p:cNvGrpSpPr/>
          <p:nvPr/>
        </p:nvGrpSpPr>
        <p:grpSpPr>
          <a:xfrm>
            <a:off x="4443480" y="3986280"/>
            <a:ext cx="4676760" cy="2695680"/>
            <a:chOff x="4443480" y="3986280"/>
            <a:chExt cx="4676760" cy="2695680"/>
          </a:xfrm>
        </p:grpSpPr>
        <p:pic>
          <p:nvPicPr>
            <p:cNvPr id="158" name="Rectangle 4" descr=""/>
            <p:cNvPicPr/>
            <p:nvPr/>
          </p:nvPicPr>
          <p:blipFill>
            <a:blip r:embed="rId3"/>
            <a:stretch/>
          </p:blipFill>
          <p:spPr>
            <a:xfrm>
              <a:off x="4443480" y="398628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72000" y="411480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Capacity building to foster implem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ectangle 5"/>
          <p:cNvGrpSpPr/>
          <p:nvPr/>
        </p:nvGrpSpPr>
        <p:grpSpPr>
          <a:xfrm>
            <a:off x="23760" y="3986280"/>
            <a:ext cx="4676760" cy="2695680"/>
            <a:chOff x="23760" y="3986280"/>
            <a:chExt cx="4676760" cy="2695680"/>
          </a:xfrm>
        </p:grpSpPr>
        <p:pic>
          <p:nvPicPr>
            <p:cNvPr id="161" name="Rectangle 5" descr=""/>
            <p:cNvPicPr/>
            <p:nvPr/>
          </p:nvPicPr>
          <p:blipFill>
            <a:blip r:embed="rId4"/>
            <a:stretch/>
          </p:blipFill>
          <p:spPr>
            <a:xfrm>
              <a:off x="23760" y="398628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52280" y="411480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70c0"/>
                  </a:solidFill>
                  <a:latin typeface="Calibri"/>
                </a:rPr>
                <a:t>Working in partnership with key players in trade facilitation and standards development to avoid duplication and to create a consistent framework based on best pract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6"/>
          <p:cNvSpPr/>
          <p:nvPr/>
        </p:nvSpPr>
        <p:spPr>
          <a:xfrm>
            <a:off x="563868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 what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0B3-D67A-4571-AA07-577A4379214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33520" y="14479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4495680"/>
            <a:ext cx="3647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7205-9345-476A-AA97-483D3F1CFE0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le 5"/>
          <p:cNvSpPr/>
          <p:nvPr/>
        </p:nvSpPr>
        <p:spPr>
          <a:xfrm>
            <a:off x="2031840" y="304812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600" spc="-1" strike="noStrike">
                <a:solidFill>
                  <a:srgbClr val="1f497d"/>
                </a:solidFill>
                <a:latin typeface="Calibri"/>
              </a:rPr>
              <a:t>Thank you fo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600" spc="-1" strike="noStrike">
                <a:solidFill>
                  <a:srgbClr val="1f497d"/>
                </a:solidFill>
                <a:latin typeface="Calibri"/>
              </a:rPr>
              <a:t>the atten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50:14Z</dcterms:modified>
  <cp:revision>239</cp:revision>
  <dc:subject>PPT Template</dc:subject>
  <dc:title>United Nations Economic Commssion for Europe</dc:title>
</cp:coreProperties>
</file>