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A5E9-B498-4803-BF70-91DA3850F2FC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EF5C-2B07-4266-BB9A-E66FEA09A4BB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62B9-6C3F-4E0B-9E2D-298C256F240B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03305-8B8E-48A7-B52B-62F32BAD74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65C46-654C-4332-AFF9-B53BB4A1F3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A4B35-1DB5-4360-9770-66B01CA650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9F044-4893-40E9-9AC6-32811D7763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A3813-3FB0-42F3-9495-5D61753F38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3F3F3-2296-43D8-A737-D810C2B10F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38C90-5855-4123-BC90-CCC4829AFC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FAB3E-17BE-406E-B87E-56B7E928B6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B61DF-B77B-4217-BC92-1787B74DD1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07A47-A4FF-407F-BEF1-1B55388F8F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77D53-0D63-41BB-8043-5702E5ADFD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B544A-667E-4CA7-87BD-6A2B5A99BD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956B7-5997-490A-AFC5-5196ADD6FB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45C8C-8F00-4BDF-AE96-E01CAB5467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5BC09-2955-4B80-841B-028C260DB0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13D5A-DFAE-4D84-965F-AA8408291E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4ACC4-2B3A-4652-B562-C9EFC83C56C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ADBD1-06D3-4826-94A9-E625418ED41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89667-878C-4226-9F45-6D161E0E6C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B29FD-FC8E-4376-B4B3-111452CBC5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EAFF2-1D41-4569-9BFD-04BC7CCAA2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E7D18-4924-4342-8E7F-6BAF51658B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D33F8-0E10-4BA2-87B1-497CA76144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683B9-63DF-42C3-980F-12E761BD3A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9EE6-2F3A-433B-87F9-8C46AB4D4E33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cefact_forum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8B37-AA33-4E93-9E25-5301971C63E3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1294920"/>
            <a:ext cx="7729560" cy="19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Arial"/>
              </a:rPr>
              <a:t>Agenda item 7</a:t>
            </a:r>
            <a:br>
              <a:rPr sz="4000"/>
            </a:b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Arial"/>
              </a:rPr>
              <a:t>Strategic Directions for UN/CEFACT </a:t>
            </a:r>
            <a:br>
              <a:rPr sz="4000"/>
            </a:b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Arial"/>
              </a:rPr>
              <a:t>2012 - 20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2666880" y="545004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1f497d"/>
                </a:solidFill>
                <a:latin typeface="Arial"/>
              </a:rPr>
              <a:t>18th UN/CEFACT 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1f497d"/>
                </a:solidFill>
                <a:latin typeface="Arial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1f497d"/>
                </a:solidFill>
                <a:latin typeface="Arial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3694320" y="4114800"/>
            <a:ext cx="16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70c0"/>
                </a:solidFill>
                <a:latin typeface="Arial"/>
              </a:rPr>
              <a:t>Mats Wick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70c0"/>
                </a:solidFill>
                <a:latin typeface="Arial"/>
              </a:rPr>
              <a:t>Vice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http://www.strategy-keys.com/image-files/strategic-management-models.jpg"/>
          <p:cNvPicPr/>
          <p:nvPr/>
        </p:nvPicPr>
        <p:blipFill>
          <a:blip r:embed="rId1"/>
          <a:stretch/>
        </p:blipFill>
        <p:spPr>
          <a:xfrm>
            <a:off x="0" y="38098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http://www.nciles.co.uk/images/strategy.jpg"/>
          <p:cNvPicPr/>
          <p:nvPr/>
        </p:nvPicPr>
        <p:blipFill>
          <a:blip r:embed="rId2"/>
          <a:stretch/>
        </p:blipFill>
        <p:spPr>
          <a:xfrm>
            <a:off x="5689440" y="4267080"/>
            <a:ext cx="3454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481E-CE9D-40B9-B841-5427BD483B7D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533520" y="1600200"/>
            <a:ext cx="82296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rade Facilitation Recommend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Electronic Business Standa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Governmental &amp; Business Proc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ransparent and effective processes for global tr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http://whywebstandards.org/wp-content/uploads/2010/03/web-standards.jpg"/>
          <p:cNvPicPr/>
          <p:nvPr/>
        </p:nvPicPr>
        <p:blipFill>
          <a:blip r:embed="rId1"/>
          <a:srcRect l="0" t="37106" r="0" b="37390"/>
          <a:stretch/>
        </p:blipFill>
        <p:spPr>
          <a:xfrm>
            <a:off x="1031760" y="5562720"/>
            <a:ext cx="72741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D70D-68E0-48E4-8E00-83EEA892DA07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609480" y="1828800"/>
            <a:ext cx="8229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ncreasing complex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ew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ew proc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ncreased digitalized proc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nternational standards basis for global trade faciliation and improved secur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http://sushantskoltey.files.wordpress.com/2012/01/why_investment_banking-300x299.jpg"/>
          <p:cNvPicPr/>
          <p:nvPr/>
        </p:nvPicPr>
        <p:blipFill>
          <a:blip r:embed="rId1"/>
          <a:stretch/>
        </p:blipFill>
        <p:spPr>
          <a:xfrm>
            <a:off x="6475320" y="1447920"/>
            <a:ext cx="240192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4932-479A-4C40-A564-AF0A0E76366C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http://eagereyes.org/media/2009/toolbox.jpg"/>
          <p:cNvPicPr/>
          <p:nvPr/>
        </p:nvPicPr>
        <p:blipFill>
          <a:blip r:embed="rId1"/>
          <a:stretch/>
        </p:blipFill>
        <p:spPr>
          <a:xfrm>
            <a:off x="3686040" y="3200400"/>
            <a:ext cx="5065920" cy="3352680"/>
          </a:xfrm>
          <a:prstGeom prst="rect">
            <a:avLst/>
          </a:prstGeom>
          <a:ln w="0">
            <a:noFill/>
          </a:ln>
        </p:spPr>
      </p:pic>
      <p:sp>
        <p:nvSpPr>
          <p:cNvPr id="145" name="TextBox 3"/>
          <p:cNvSpPr/>
          <p:nvPr/>
        </p:nvSpPr>
        <p:spPr>
          <a:xfrm>
            <a:off x="533520" y="167652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tanda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ecommend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Other Instru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9230-D342-430B-BF78-8FAEE24BE1B9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609480" y="2209680"/>
            <a:ext cx="8229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mmon Libra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mmon Direc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nternationally agreed and standardiz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ambigious sharing of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ith 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http://www.hds.harvard.edu/library/collections/images/031505_Divinity_Library_57.jpg"/>
          <p:cNvPicPr/>
          <p:nvPr/>
        </p:nvPicPr>
        <p:blipFill>
          <a:blip r:embed="rId1"/>
          <a:stretch/>
        </p:blipFill>
        <p:spPr>
          <a:xfrm>
            <a:off x="5562720" y="1676520"/>
            <a:ext cx="327636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087D-B678-460A-9D54-B62DCF1D27E8}" type="slidenum">
              <a:rPr b="1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Rectangle 2"/>
          <p:cNvGrpSpPr/>
          <p:nvPr/>
        </p:nvGrpSpPr>
        <p:grpSpPr>
          <a:xfrm>
            <a:off x="4443480" y="1547640"/>
            <a:ext cx="4676760" cy="2695680"/>
            <a:chOff x="4443480" y="1547640"/>
            <a:chExt cx="4676760" cy="2695680"/>
          </a:xfrm>
        </p:grpSpPr>
        <p:pic>
          <p:nvPicPr>
            <p:cNvPr id="152" name="Rectangle 2" descr=""/>
            <p:cNvPicPr/>
            <p:nvPr/>
          </p:nvPicPr>
          <p:blipFill>
            <a:blip r:embed="rId1"/>
            <a:stretch/>
          </p:blipFill>
          <p:spPr>
            <a:xfrm>
              <a:off x="4443480" y="1547640"/>
              <a:ext cx="4676760" cy="26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572000" y="1676520"/>
              <a:ext cx="441972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800" spc="-1" strike="noStrike">
                  <a:solidFill>
                    <a:srgbClr val="ffffff"/>
                  </a:solidFill>
                  <a:latin typeface="Calibri"/>
                </a:rPr>
                <a:t>Development and maintenance of recommendations, standards and instrum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Rectangle 3"/>
          <p:cNvGrpSpPr/>
          <p:nvPr/>
        </p:nvGrpSpPr>
        <p:grpSpPr>
          <a:xfrm>
            <a:off x="23760" y="1547640"/>
            <a:ext cx="4676760" cy="2695680"/>
            <a:chOff x="23760" y="1547640"/>
            <a:chExt cx="4676760" cy="2695680"/>
          </a:xfrm>
        </p:grpSpPr>
        <p:pic>
          <p:nvPicPr>
            <p:cNvPr id="155" name="Rectangle 3" descr=""/>
            <p:cNvPicPr/>
            <p:nvPr/>
          </p:nvPicPr>
          <p:blipFill>
            <a:blip r:embed="rId2"/>
            <a:stretch/>
          </p:blipFill>
          <p:spPr>
            <a:xfrm>
              <a:off x="23760" y="1547640"/>
              <a:ext cx="4676760" cy="26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152280" y="1676520"/>
              <a:ext cx="441972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800" spc="-1" strike="noStrike">
                  <a:solidFill>
                    <a:srgbClr val="ffffff"/>
                  </a:solidFill>
                  <a:latin typeface="Calibri"/>
                </a:rPr>
                <a:t>Opportunities to simplify, align and standardize processes, procedures and information flo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Rectangle 4"/>
          <p:cNvGrpSpPr/>
          <p:nvPr/>
        </p:nvGrpSpPr>
        <p:grpSpPr>
          <a:xfrm>
            <a:off x="4443480" y="3986280"/>
            <a:ext cx="4676760" cy="2695680"/>
            <a:chOff x="4443480" y="3986280"/>
            <a:chExt cx="4676760" cy="2695680"/>
          </a:xfrm>
        </p:grpSpPr>
        <p:pic>
          <p:nvPicPr>
            <p:cNvPr id="158" name="Rectangle 4" descr=""/>
            <p:cNvPicPr/>
            <p:nvPr/>
          </p:nvPicPr>
          <p:blipFill>
            <a:blip r:embed="rId3"/>
            <a:stretch/>
          </p:blipFill>
          <p:spPr>
            <a:xfrm>
              <a:off x="4443480" y="3986280"/>
              <a:ext cx="4676760" cy="26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4572000" y="4114800"/>
              <a:ext cx="441972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800" spc="-1" strike="noStrike">
                  <a:solidFill>
                    <a:srgbClr val="ffffff"/>
                  </a:solidFill>
                  <a:latin typeface="Calibri"/>
                </a:rPr>
                <a:t>Capacity building to foster implemen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Rectangle 5"/>
          <p:cNvGrpSpPr/>
          <p:nvPr/>
        </p:nvGrpSpPr>
        <p:grpSpPr>
          <a:xfrm>
            <a:off x="23760" y="3986280"/>
            <a:ext cx="4676760" cy="2695680"/>
            <a:chOff x="23760" y="3986280"/>
            <a:chExt cx="4676760" cy="2695680"/>
          </a:xfrm>
        </p:grpSpPr>
        <p:pic>
          <p:nvPicPr>
            <p:cNvPr id="161" name="Rectangle 5" descr=""/>
            <p:cNvPicPr/>
            <p:nvPr/>
          </p:nvPicPr>
          <p:blipFill>
            <a:blip r:embed="rId4"/>
            <a:stretch/>
          </p:blipFill>
          <p:spPr>
            <a:xfrm>
              <a:off x="23760" y="3986280"/>
              <a:ext cx="4676760" cy="26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52280" y="4114800"/>
              <a:ext cx="441972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800" spc="-1" strike="noStrike">
                  <a:solidFill>
                    <a:srgbClr val="0070c0"/>
                  </a:solidFill>
                  <a:latin typeface="Calibri"/>
                </a:rPr>
                <a:t>Working in partnership with key players in trade facilitation and standards development to avoid duplication and to create a consistent framework based on best pract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TextBox 6"/>
          <p:cNvSpPr/>
          <p:nvPr/>
        </p:nvSpPr>
        <p:spPr>
          <a:xfrm>
            <a:off x="5638680" y="7621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In what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EF6E-CA20-4762-87E3-5FE27453D9D9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533520" y="1447920"/>
            <a:ext cx="8229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reate a solid foun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llaboration with oth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ncrease uptake through high qu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se the unique remit to fill the g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nclus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http://www.newdirectionsconsulting.com/wp-content/uploads/2011/07/bridgingthegap.jpg"/>
          <p:cNvPicPr/>
          <p:nvPr/>
        </p:nvPicPr>
        <p:blipFill>
          <a:blip r:embed="rId1"/>
          <a:stretch/>
        </p:blipFill>
        <p:spPr>
          <a:xfrm>
            <a:off x="2819520" y="4495680"/>
            <a:ext cx="3647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874D-5567-4697-B6DF-DF92EF4C3C63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itle 5"/>
          <p:cNvSpPr/>
          <p:nvPr/>
        </p:nvSpPr>
        <p:spPr>
          <a:xfrm>
            <a:off x="2031840" y="3048120"/>
            <a:ext cx="5190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6600" spc="-1" strike="noStrike">
                <a:solidFill>
                  <a:srgbClr val="1f497d"/>
                </a:solidFill>
                <a:latin typeface="Calibri"/>
              </a:rPr>
              <a:t>Thank you for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6600" spc="-1" strike="noStrike">
                <a:solidFill>
                  <a:srgbClr val="1f497d"/>
                </a:solidFill>
                <a:latin typeface="Calibri"/>
              </a:rPr>
              <a:t>the attention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8:26:57Z</dcterms:created>
  <dc:creator>UNECE</dc:creator>
  <dc:description/>
  <dc:language>en-US</dc:language>
  <cp:lastModifiedBy>Kangur</cp:lastModifiedBy>
  <dcterms:modified xsi:type="dcterms:W3CDTF">2012-02-15T07:50:14Z</dcterms:modified>
  <cp:revision>239</cp:revision>
  <dc:subject>PPT Template</dc:subject>
  <dc:title>United Nations Economic Commssion for Europe</dc:title>
</cp:coreProperties>
</file>