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845A-59A2-4DC3-BF22-E7D40CA1F29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9FAD-6C44-49B9-BB84-AD3B78FD4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E113-CA0E-4D8C-BBB1-354148CFE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03DB-673F-4240-AB8A-B006321D238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32523-3FFB-4D56-8226-C7C67A16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5DF47-84B6-4DCE-9535-2A056F3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EBE53-E9EF-463D-AF01-C75D70BD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74AA6-EB8E-457B-A977-6703E5FD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93CE0-FCC9-4011-9288-13C4F04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2DB59-80FE-4B62-9636-8E8CF41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30F6F-5A75-4D86-9ABC-516BEFF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2AE86-8B66-4291-904E-54701A78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8E601-EFE8-4184-8F74-4FDCFC9E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10F7C-98C6-45D6-BA27-E64650FC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BE83-F02D-4E86-BF57-D8415573ED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A614C-86AD-4E4D-B2CB-9B57308C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7A9F1-E1E1-4F6D-AEB4-4D3F3CA5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43D13-B7D2-479C-9189-C9F64E52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522E3-D1C1-441D-AC3A-A37C4527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FC71F-FD85-4C2E-A810-AB261853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B1536-2156-4E2D-BF92-7479646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E19EC-2F3E-4A4A-8E9F-9E66970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69642-2559-4E95-8B4F-B1EF907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507BD-8014-47A2-B71E-23290500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495D1-A517-43F7-A8DF-67886AE5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8936-BCFC-47A6-92C4-C344D0FCC6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1E22A-6AF0-4847-A5F7-2E8D4886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F9AD33-7CA3-4C90-96B8-87DD3D78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61395D-6550-42DC-8118-5F686425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8759F7-7CC0-4EEA-AC3D-A986ADD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B44358-F1EE-4B90-AD31-99D62027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39C3B8-C61E-4F23-B3F9-0EC0D7EE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CADB2-6B79-459C-B71A-362B56C3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95F294-B6F2-4A9B-9AA7-043CAD4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AD793C-DB6D-4861-B003-3B9743CB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602F7C-A07B-4A78-AC37-65A0FD0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4F330-A484-4725-94FF-3016B126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D8EB16-BCF0-4307-B2DA-0746B164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FE9A72-E003-48FE-A31C-4F5B2479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EECB49-07B5-4C15-B1B4-C3F0111B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EF3A8-8E2F-45E8-A2DE-292394E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473F-B431-494C-AB7D-B8A42617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5066C-4AAE-42C6-94C5-474F0D14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2F651-C06B-44E4-B89D-1A7B6F1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7B637-E018-408E-A867-37F32EB6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F70E7-72CA-472D-B11D-B72AACCA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4507-0624-4727-984B-CCD5EB0B0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B83F0-E7D0-4D66-8804-8130737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F648C-35D4-4B01-9366-B72145E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0F315-CBF5-47A0-8966-008714AE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F0A49-A9F3-4955-BB71-0FE5E5D5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C976A-CD2D-4EAF-A5FA-57831B53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EB1C1-C5CB-4CF1-93A8-CA2D0A71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8C5BE-53D8-4F96-8F2B-9DC2EDD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EC2C8-5B03-49F2-AB7E-ACC5B93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6888B-6115-4581-A511-CD73D182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7A748-1DB2-4EC7-BEE2-78D3D77B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DF6B-256F-4737-AB12-C8D18DD687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65F0C-FBCB-4316-8775-25E73E7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ACCA0-20D7-41DF-8089-04784D0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8636E-8120-4DE8-9091-5B82B7A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3C79F-1E86-4E50-94F6-E124FCFF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048D7-FBE0-43A3-ABFE-D0C00063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4F93C-5000-4D3B-9443-0FA26ABF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C16A5-814D-401E-8175-2D1F995D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2D7ED-EF12-495C-A07B-0CB8E2EC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29C46-7C89-4E3F-8B63-0766C5DE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1CA6A-6317-4186-AEE1-0284A019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F20C-85CD-4981-91EF-2D773B0784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DAC5C-CA5C-41BB-9253-55473AAD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52F39-DCF0-4B01-B6E7-870448C1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D7A84-E6BC-4A35-9410-F47992F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03961-B861-4E42-831C-50F2B63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51760-0E25-4824-BFA5-64F01540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949D8-246C-4F88-8DCE-A938FA3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FBFF6-E95C-4DE3-A4E8-D5E37E68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8627D-DFE9-418C-B6A3-1E8C57CF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639C4-6E30-4190-88A6-129323BE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61C269-A540-4008-937F-6F2F9E92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3B4F-56E3-49E1-B846-5FD06DC800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A25DCD-7113-4E78-BF15-9A035BA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E8B82-C237-4CBC-8949-3874C0CC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166D7E-3CEA-4D43-9785-54C77A6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FF66C-C0FF-4F14-BB1D-67F84888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BAEBC-DEC1-4738-B9AB-01B7C39F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86521-1B7D-4135-A508-CDB4FA7B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55BFA7-EBA1-4719-A9A1-A7C7D6C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AFC81-3D52-4782-82F0-7B98DA78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B1650B-35B8-4D0D-82FF-100A68C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9D249-2A40-4859-B6D4-3F157D83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B8ED-2987-4CB4-9599-7B1C6A5C94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CDEFE2-B90A-4AF4-A19F-8FECBA16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3768AE-D0E0-4C4D-AFDB-5168328C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71E222-3467-499A-ACD5-0DEA5F63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74159-A198-443E-882B-A643A7CF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07532-C18D-417E-9BC2-C83C9BF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F7B39B-3A9C-4134-973C-0717A6DF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8FAA9-8270-4634-9F09-57C4FD5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45963B-332C-47C8-AEDB-5E39288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B73B5F-C486-446D-9BE9-C329425A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26EAE4-BAFA-4F68-9632-CDB7107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6A60-E1D1-41F9-B6AF-0E4418C4BD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EF16F5-4F6C-4001-BB8F-42AC33D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C02FD4-8C36-4B8F-9763-EFB3C873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21B2F-4851-445C-AAE2-E06B97D9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DBB834-EB74-4BBB-B782-E6983CBA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777D23-ECF1-4775-8E37-973EEA06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853D5A-3DEC-40B0-AA49-83801900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BD8C7-D265-45CB-A948-40DE494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189D7-EC6A-4F64-B8B2-F5FF4C8B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5F0E4-3B56-4460-B725-26BD2CCD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53D23E-72F6-4AAB-B6E4-A924622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A5D8-F47F-48E2-9A34-B58EC550A3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F44DCD-8FB5-49CE-8F34-1B058C0E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D6EC64-3566-45F4-BE12-CDC45B7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8FFB06-5F53-4CD5-AD2B-E8D67444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7F6ED-E6B3-4764-A30B-2E0A66FD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DEE563-546C-4592-8805-69C26553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AD0BAD-6020-474B-9E62-0596D803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D285A-02CF-4EF9-897D-46205AC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07254F-7396-4216-9EB6-22F158D7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A65D6-6730-4086-8F1E-4AECFCC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76D156-2FA5-428E-AE9B-6F071E94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7979-8ACC-4E72-BC47-DA6F661600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69354-9EA4-48E5-8E9A-2005DE9A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709AFA-FCB9-4D01-ABCE-B774011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B692EB-EC3F-4593-86F4-A21B928E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7E1CCD-87E5-46CA-856F-2E0EB91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E0DB2C-902F-4A85-ACB6-C8915539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91D837-32D2-435C-9660-C7A66139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08DA98-C852-475A-A4DD-46D68F88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147DA-EBD2-428B-ACC6-E8FC3810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30F3B-66F8-491D-B402-D0341B8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06CFE-0D01-47DD-B6FF-98D39946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5616-951B-4FF1-91B3-354E06D5ABB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737A-899D-43ED-AFE1-22E96B345D3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021A-4866-4B14-9DC8-45FF1496E97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611B-1997-42BA-9794-0354BCC422B6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78F5-FFBE-44E7-A9A2-FE2208AAF23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BA3-10D1-4512-8A88-1D7EFDB43BD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A841-ECC3-4ABF-952E-EA220DD3B27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6497-CEF7-46C0-925D-8069FF32FA0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43820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1FE-EAC4-4BB3-BF5E-0C1CD654A59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31B3-3CD7-4934-8245-1CCEE5A24C9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E87-24A3-4378-8BB3-491F2C4EF59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06560" y="2615760"/>
            <a:ext cx="5330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Reorganisation of UN/CEF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447920" y="3500280"/>
            <a:ext cx="640080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1f497d"/>
                </a:solidFill>
                <a:latin typeface="Calibri"/>
              </a:rPr>
              <a:t>Peter Amstu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5-17 February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C85F-C541-4607-B4A6-F0E773D5BB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/>
          <p:cNvSpPr/>
          <p:nvPr/>
        </p:nvSpPr>
        <p:spPr>
          <a:xfrm>
            <a:off x="22860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Trade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Facil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2"/>
          <p:cNvSpPr/>
          <p:nvPr/>
        </p:nvSpPr>
        <p:spPr>
          <a:xfrm>
            <a:off x="144792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  <a:ea typeface="MS PGothic"/>
              </a:rPr>
              <a:t>Supply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3"/>
          <p:cNvSpPr/>
          <p:nvPr/>
        </p:nvSpPr>
        <p:spPr>
          <a:xfrm>
            <a:off x="2666880" y="411480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Regul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4038480" y="41148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  <a:ea typeface="MS PGothic"/>
              </a:rPr>
              <a:t>Sec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5"/>
          <p:cNvSpPr/>
          <p:nvPr/>
        </p:nvSpPr>
        <p:spPr>
          <a:xfrm>
            <a:off x="5410080" y="4114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Methodol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and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3886200" y="1768320"/>
            <a:ext cx="1397160" cy="7462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6"/>
          <p:cNvSpPr/>
          <p:nvPr/>
        </p:nvSpPr>
        <p:spPr>
          <a:xfrm>
            <a:off x="1828800" y="1905120"/>
            <a:ext cx="1117440" cy="560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UNECE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0"/>
          <p:cNvSpPr/>
          <p:nvPr/>
        </p:nvSpPr>
        <p:spPr>
          <a:xfrm>
            <a:off x="3505320" y="1415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/CEFACT Ple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6"/>
          <p:cNvSpPr/>
          <p:nvPr/>
        </p:nvSpPr>
        <p:spPr>
          <a:xfrm>
            <a:off x="6400800" y="18288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apportu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5"/>
          <p:cNvSpPr/>
          <p:nvPr/>
        </p:nvSpPr>
        <p:spPr>
          <a:xfrm>
            <a:off x="3808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6705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5"/>
          <p:cNvSpPr/>
          <p:nvPr/>
        </p:nvSpPr>
        <p:spPr>
          <a:xfrm>
            <a:off x="14479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5"/>
          <p:cNvSpPr/>
          <p:nvPr/>
        </p:nvSpPr>
        <p:spPr>
          <a:xfrm>
            <a:off x="274320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5"/>
          <p:cNvSpPr/>
          <p:nvPr/>
        </p:nvSpPr>
        <p:spPr>
          <a:xfrm>
            <a:off x="40384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5"/>
          <p:cNvSpPr/>
          <p:nvPr/>
        </p:nvSpPr>
        <p:spPr>
          <a:xfrm>
            <a:off x="53341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7848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5"/>
          <p:cNvSpPr/>
          <p:nvPr/>
        </p:nvSpPr>
        <p:spPr>
          <a:xfrm>
            <a:off x="304920" y="3733920"/>
            <a:ext cx="6095880" cy="30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Programme Development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6629400" y="3733920"/>
            <a:ext cx="2133720" cy="3045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Bureau Programme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1"/>
          <p:cNvSpPr/>
          <p:nvPr/>
        </p:nvSpPr>
        <p:spPr>
          <a:xfrm>
            <a:off x="7621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1"/>
          <p:cNvSpPr/>
          <p:nvPr/>
        </p:nvSpPr>
        <p:spPr>
          <a:xfrm>
            <a:off x="19810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1"/>
          <p:cNvSpPr/>
          <p:nvPr/>
        </p:nvSpPr>
        <p:spPr>
          <a:xfrm>
            <a:off x="32767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1"/>
          <p:cNvSpPr/>
          <p:nvPr/>
        </p:nvSpPr>
        <p:spPr>
          <a:xfrm>
            <a:off x="457200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1"/>
          <p:cNvSpPr/>
          <p:nvPr/>
        </p:nvSpPr>
        <p:spPr>
          <a:xfrm>
            <a:off x="58672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5"/>
          <p:cNvSpPr/>
          <p:nvPr/>
        </p:nvSpPr>
        <p:spPr>
          <a:xfrm>
            <a:off x="380880" y="2590920"/>
            <a:ext cx="861084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Programme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5867280" y="365760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6019920" y="380988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1"/>
          <p:cNvSpPr/>
          <p:nvPr/>
        </p:nvSpPr>
        <p:spPr>
          <a:xfrm>
            <a:off x="457200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32767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1"/>
          <p:cNvSpPr/>
          <p:nvPr/>
        </p:nvSpPr>
        <p:spPr>
          <a:xfrm>
            <a:off x="19051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1"/>
          <p:cNvSpPr/>
          <p:nvPr/>
        </p:nvSpPr>
        <p:spPr>
          <a:xfrm>
            <a:off x="83808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5"/>
          <p:cNvSpPr/>
          <p:nvPr/>
        </p:nvSpPr>
        <p:spPr>
          <a:xfrm>
            <a:off x="6705720" y="4191120"/>
            <a:ext cx="2057400" cy="25146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514600"/>
              <a:gd name="textAreaBottom" fmla="*/ 2414160 h 2514600"/>
            </a:gdLst>
            <a:ahLst/>
            <a:rect l="textAreaLeft" t="textAreaTop" r="textAreaRight" b="textAreaBottom"/>
            <a:pathLst>
              <a:path w="21600" h="26399">
                <a:moveTo>
                  <a:pt x="3600" y="0"/>
                </a:moveTo>
                <a:arcTo wR="3600" hR="3600" stAng="16200000" swAng="-5400000"/>
                <a:lnTo>
                  <a:pt x="0" y="22799"/>
                </a:lnTo>
                <a:arcTo wR="3600" hR="3600" stAng="10800000" swAng="-5400000"/>
                <a:lnTo>
                  <a:pt x="18000" y="26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859c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Roster of Expe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1"/>
          <p:cNvSpPr/>
          <p:nvPr/>
        </p:nvSpPr>
        <p:spPr>
          <a:xfrm>
            <a:off x="228600" y="5867280"/>
            <a:ext cx="63244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ffffff"/>
                </a:solidFill>
                <a:latin typeface="Calibri"/>
                <a:ea typeface="MS PGothic"/>
              </a:rPr>
              <a:t>Registry of Domains</a:t>
            </a:r>
            <a:r>
              <a:rPr b="0" lang="en-GB" sz="9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usiness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ccounting &amp; Audit   Agriculture    Customs    Environmental Management   Finance/Payments   Government  Health Care  Insu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national Trade Procedures   Procurement  Supply Chain Management   Transport  Travel/Tour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echnical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udit/Validation   Business Process Modelling  Communication  Harmonisation  Legal  Library Maintenance  Library Pro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MS PGothic"/>
              </a:rPr>
              <a:t>Methodology  Publlications  UN/EDIFACT  X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90"/>
          <p:cNvGrpSpPr/>
          <p:nvPr/>
        </p:nvGrpSpPr>
        <p:grpSpPr>
          <a:xfrm>
            <a:off x="304920" y="4800600"/>
            <a:ext cx="990360" cy="990720"/>
            <a:chOff x="304920" y="4800600"/>
            <a:chExt cx="990360" cy="990720"/>
          </a:xfrm>
        </p:grpSpPr>
        <p:sp>
          <p:nvSpPr>
            <p:cNvPr id="578" name="AutoShape 11"/>
            <p:cNvSpPr/>
            <p:nvPr/>
          </p:nvSpPr>
          <p:spPr>
            <a:xfrm>
              <a:off x="838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1"/>
            <p:cNvSpPr/>
            <p:nvPr/>
          </p:nvSpPr>
          <p:spPr>
            <a:xfrm>
              <a:off x="3049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94"/>
          <p:cNvGrpSpPr/>
          <p:nvPr/>
        </p:nvGrpSpPr>
        <p:grpSpPr>
          <a:xfrm>
            <a:off x="2819520" y="4800600"/>
            <a:ext cx="990360" cy="990720"/>
            <a:chOff x="2819520" y="4800600"/>
            <a:chExt cx="990360" cy="990720"/>
          </a:xfrm>
        </p:grpSpPr>
        <p:sp>
          <p:nvSpPr>
            <p:cNvPr id="581" name="AutoShape 11"/>
            <p:cNvSpPr/>
            <p:nvPr/>
          </p:nvSpPr>
          <p:spPr>
            <a:xfrm>
              <a:off x="33526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1"/>
            <p:cNvSpPr/>
            <p:nvPr/>
          </p:nvSpPr>
          <p:spPr>
            <a:xfrm>
              <a:off x="28195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97"/>
          <p:cNvGrpSpPr/>
          <p:nvPr/>
        </p:nvGrpSpPr>
        <p:grpSpPr>
          <a:xfrm>
            <a:off x="1523880" y="4800600"/>
            <a:ext cx="990720" cy="990720"/>
            <a:chOff x="1523880" y="4800600"/>
            <a:chExt cx="990720" cy="990720"/>
          </a:xfrm>
        </p:grpSpPr>
        <p:sp>
          <p:nvSpPr>
            <p:cNvPr id="584" name="AutoShape 11"/>
            <p:cNvSpPr/>
            <p:nvPr/>
          </p:nvSpPr>
          <p:spPr>
            <a:xfrm>
              <a:off x="20574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1"/>
            <p:cNvSpPr/>
            <p:nvPr/>
          </p:nvSpPr>
          <p:spPr>
            <a:xfrm>
              <a:off x="15238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00"/>
          <p:cNvGrpSpPr/>
          <p:nvPr/>
        </p:nvGrpSpPr>
        <p:grpSpPr>
          <a:xfrm>
            <a:off x="4114800" y="4800600"/>
            <a:ext cx="990720" cy="990720"/>
            <a:chOff x="4114800" y="4800600"/>
            <a:chExt cx="990720" cy="990720"/>
          </a:xfrm>
        </p:grpSpPr>
        <p:sp>
          <p:nvSpPr>
            <p:cNvPr id="587" name="AutoShape 11"/>
            <p:cNvSpPr/>
            <p:nvPr/>
          </p:nvSpPr>
          <p:spPr>
            <a:xfrm>
              <a:off x="46483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11"/>
            <p:cNvSpPr/>
            <p:nvPr/>
          </p:nvSpPr>
          <p:spPr>
            <a:xfrm>
              <a:off x="41148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03"/>
          <p:cNvGrpSpPr/>
          <p:nvPr/>
        </p:nvGrpSpPr>
        <p:grpSpPr>
          <a:xfrm>
            <a:off x="5410080" y="4800600"/>
            <a:ext cx="990720" cy="990720"/>
            <a:chOff x="5410080" y="4800600"/>
            <a:chExt cx="990720" cy="990720"/>
          </a:xfrm>
        </p:grpSpPr>
        <p:sp>
          <p:nvSpPr>
            <p:cNvPr id="590" name="AutoShape 11"/>
            <p:cNvSpPr/>
            <p:nvPr/>
          </p:nvSpPr>
          <p:spPr>
            <a:xfrm>
              <a:off x="59436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11"/>
            <p:cNvSpPr/>
            <p:nvPr/>
          </p:nvSpPr>
          <p:spPr>
            <a:xfrm>
              <a:off x="5410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treamlined project-oriented organ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ngines of growth for developing and maintaining UN/CEFACT deliver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ject Leads report to Bureau Vice Chairs responsible for their Programme Developmen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4B3-75E0-405A-A52A-2B1085A1B73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591D-42AC-453C-A733-E67F9C6C496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728640" y="2044800"/>
            <a:ext cx="7272360" cy="4356000"/>
            <a:chOff x="728640" y="2044800"/>
            <a:chExt cx="7272360" cy="4356000"/>
          </a:xfrm>
        </p:grpSpPr>
        <p:sp>
          <p:nvSpPr>
            <p:cNvPr id="597" name="Straight Connector 3"/>
            <p:cNvSpPr/>
            <p:nvPr/>
          </p:nvSpPr>
          <p:spPr>
            <a:xfrm>
              <a:off x="669816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4"/>
            <p:cNvSpPr/>
            <p:nvPr/>
          </p:nvSpPr>
          <p:spPr>
            <a:xfrm>
              <a:off x="317340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5"/>
            <p:cNvSpPr/>
            <p:nvPr/>
          </p:nvSpPr>
          <p:spPr>
            <a:xfrm flipH="1">
              <a:off x="3171960" y="4534200"/>
              <a:ext cx="1584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fgeronde rechthoek 8"/>
            <p:cNvSpPr/>
            <p:nvPr/>
          </p:nvSpPr>
          <p:spPr>
            <a:xfrm>
              <a:off x="3893400" y="2044800"/>
              <a:ext cx="1997640" cy="19911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Group 7" descr=""/>
            <p:cNvPicPr/>
            <p:nvPr/>
          </p:nvPicPr>
          <p:blipFill>
            <a:blip r:embed="rId1"/>
            <a:stretch/>
          </p:blipFill>
          <p:spPr>
            <a:xfrm>
              <a:off x="5864040" y="4877640"/>
              <a:ext cx="213696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Group 9" descr=""/>
            <p:cNvPicPr/>
            <p:nvPr/>
          </p:nvPicPr>
          <p:blipFill>
            <a:blip r:embed="rId2"/>
            <a:stretch/>
          </p:blipFill>
          <p:spPr>
            <a:xfrm>
              <a:off x="2442240" y="4877640"/>
              <a:ext cx="219780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Straight Connector 9"/>
            <p:cNvSpPr/>
            <p:nvPr/>
          </p:nvSpPr>
          <p:spPr>
            <a:xfrm>
              <a:off x="4893840" y="403596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traight Connector 10"/>
            <p:cNvSpPr/>
            <p:nvPr/>
          </p:nvSpPr>
          <p:spPr>
            <a:xfrm flipH="1">
              <a:off x="4755600" y="4534200"/>
              <a:ext cx="19422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11"/>
            <p:cNvSpPr/>
            <p:nvPr/>
          </p:nvSpPr>
          <p:spPr>
            <a:xfrm flipH="1">
              <a:off x="2935440" y="3248640"/>
              <a:ext cx="9338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fgeronde rechthoek 5"/>
            <p:cNvSpPr/>
            <p:nvPr/>
          </p:nvSpPr>
          <p:spPr>
            <a:xfrm>
              <a:off x="728640" y="3118680"/>
              <a:ext cx="251604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mphasis should be not on the organisation, but on the </a:t>
            </a:r>
            <a:r>
              <a:rPr b="0" lang="de-CH" sz="3200" spc="-1" strike="noStrike" u="sng">
                <a:solidFill>
                  <a:srgbClr val="000000"/>
                </a:solidFill>
                <a:uFillTx/>
                <a:latin typeface="Calibri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The process central to our work is the Open Development Process (OD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2BA7-343B-469A-A157-CF38B962D10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Drivers for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Recommendations from UNECE Executive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Requirement to review permanent group man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More timely availability of deliver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Outreach to 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Gap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Maturity of experience / lessons lea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2701-56A8-4F7F-B816-0FEFCC67AC4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Activities Supporting the Programme of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gramme Developmen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240D-B215-4DD2-A89F-0B31DCBEEF2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3E0-14CA-4203-836B-CBA26F1834E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2"/>
          <p:cNvGrpSpPr/>
          <p:nvPr/>
        </p:nvGrpSpPr>
        <p:grpSpPr>
          <a:xfrm>
            <a:off x="728640" y="2044800"/>
            <a:ext cx="7272360" cy="4356000"/>
            <a:chOff x="728640" y="2044800"/>
            <a:chExt cx="7272360" cy="4356000"/>
          </a:xfrm>
        </p:grpSpPr>
        <p:sp>
          <p:nvSpPr>
            <p:cNvPr id="490" name="Straight Connector 3"/>
            <p:cNvSpPr/>
            <p:nvPr/>
          </p:nvSpPr>
          <p:spPr>
            <a:xfrm>
              <a:off x="669816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4"/>
            <p:cNvSpPr/>
            <p:nvPr/>
          </p:nvSpPr>
          <p:spPr>
            <a:xfrm>
              <a:off x="317340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5"/>
            <p:cNvSpPr/>
            <p:nvPr/>
          </p:nvSpPr>
          <p:spPr>
            <a:xfrm flipH="1">
              <a:off x="3171960" y="4534200"/>
              <a:ext cx="1584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fgeronde rechthoek 8"/>
            <p:cNvSpPr/>
            <p:nvPr/>
          </p:nvSpPr>
          <p:spPr>
            <a:xfrm>
              <a:off x="3893400" y="2044800"/>
              <a:ext cx="1997640" cy="19911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Group 7" descr=""/>
            <p:cNvPicPr/>
            <p:nvPr/>
          </p:nvPicPr>
          <p:blipFill>
            <a:blip r:embed="rId1"/>
            <a:stretch/>
          </p:blipFill>
          <p:spPr>
            <a:xfrm>
              <a:off x="5864040" y="4877640"/>
              <a:ext cx="213696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Group 9" descr=""/>
            <p:cNvPicPr/>
            <p:nvPr/>
          </p:nvPicPr>
          <p:blipFill>
            <a:blip r:embed="rId2"/>
            <a:stretch/>
          </p:blipFill>
          <p:spPr>
            <a:xfrm>
              <a:off x="2442240" y="4877640"/>
              <a:ext cx="219780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Straight Connector 9"/>
            <p:cNvSpPr/>
            <p:nvPr/>
          </p:nvSpPr>
          <p:spPr>
            <a:xfrm>
              <a:off x="4893840" y="403596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0"/>
            <p:cNvSpPr/>
            <p:nvPr/>
          </p:nvSpPr>
          <p:spPr>
            <a:xfrm flipH="1">
              <a:off x="4755600" y="4534200"/>
              <a:ext cx="19422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traight Connector 11"/>
            <p:cNvSpPr/>
            <p:nvPr/>
          </p:nvSpPr>
          <p:spPr>
            <a:xfrm flipH="1">
              <a:off x="2935440" y="3248640"/>
              <a:ext cx="9338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fgeronde rechthoek 5"/>
            <p:cNvSpPr/>
            <p:nvPr/>
          </p:nvSpPr>
          <p:spPr>
            <a:xfrm>
              <a:off x="728640" y="3118680"/>
              <a:ext cx="251604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Programme Development Areas (PD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Transport and Trade Facil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Regula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45C-DA2B-45D2-B3C2-37AA3336673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traight Connector 61"/>
          <p:cNvSpPr/>
          <p:nvPr/>
        </p:nvSpPr>
        <p:spPr>
          <a:xfrm flipH="1">
            <a:off x="5562360" y="3505320"/>
            <a:ext cx="5331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67"/>
          <p:cNvSpPr/>
          <p:nvPr/>
        </p:nvSpPr>
        <p:spPr>
          <a:xfrm flipH="1">
            <a:off x="3733920" y="35053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47"/>
          <p:cNvGrpSpPr/>
          <p:nvPr/>
        </p:nvGrpSpPr>
        <p:grpSpPr>
          <a:xfrm>
            <a:off x="6477120" y="1523880"/>
            <a:ext cx="3124080" cy="1600200"/>
            <a:chOff x="6477120" y="1523880"/>
            <a:chExt cx="3124080" cy="1600200"/>
          </a:xfrm>
        </p:grpSpPr>
        <p:sp>
          <p:nvSpPr>
            <p:cNvPr id="507" name="Afgeronde rechthoek 12"/>
            <p:cNvSpPr/>
            <p:nvPr/>
          </p:nvSpPr>
          <p:spPr>
            <a:xfrm>
              <a:off x="6477120" y="1523880"/>
              <a:ext cx="2590920" cy="160020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thodology and Technolo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58"/>
            <p:cNvSpPr/>
            <p:nvPr/>
          </p:nvSpPr>
          <p:spPr>
            <a:xfrm>
              <a:off x="6553080" y="1807920"/>
              <a:ext cx="30481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evelopment method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aintenance of technological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cument flow ommend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Naming and design rules</a:t>
              </a:r>
              <a:r>
                <a:rPr b="0" lang="de-CH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alidation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51"/>
          <p:cNvGrpSpPr/>
          <p:nvPr/>
        </p:nvGrpSpPr>
        <p:grpSpPr>
          <a:xfrm>
            <a:off x="6248520" y="2286000"/>
            <a:ext cx="2819160" cy="1752480"/>
            <a:chOff x="6248520" y="2286000"/>
            <a:chExt cx="2819160" cy="1752480"/>
          </a:xfrm>
        </p:grpSpPr>
        <p:sp>
          <p:nvSpPr>
            <p:cNvPr id="510" name="Afgeronde rechthoek 12"/>
            <p:cNvSpPr/>
            <p:nvPr/>
          </p:nvSpPr>
          <p:spPr>
            <a:xfrm>
              <a:off x="6248520" y="2286000"/>
              <a:ext cx="2743200" cy="175248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6478560" y="2596320"/>
              <a:ext cx="25891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mall Scale Lodging House In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mall Scale Lodging House Travel 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formation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attle Registration Information 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vestock Life Reco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DI of Agronomical Observations Re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Archiv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DAP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>
              <a:off x="7086600" y="2286000"/>
              <a:ext cx="6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Rectangle 58"/>
          <p:cNvSpPr/>
          <p:nvPr/>
        </p:nvSpPr>
        <p:spPr>
          <a:xfrm>
            <a:off x="4952880" y="3421080"/>
            <a:ext cx="251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2"/>
          <p:cNvGrpSpPr/>
          <p:nvPr/>
        </p:nvGrpSpPr>
        <p:grpSpPr>
          <a:xfrm>
            <a:off x="6095880" y="2971800"/>
            <a:ext cx="2667240" cy="1600200"/>
            <a:chOff x="6095880" y="2971800"/>
            <a:chExt cx="2667240" cy="1600200"/>
          </a:xfrm>
        </p:grpSpPr>
        <p:sp>
          <p:nvSpPr>
            <p:cNvPr id="515" name="Afgeronde rechthoek 12"/>
            <p:cNvSpPr/>
            <p:nvPr/>
          </p:nvSpPr>
          <p:spPr>
            <a:xfrm>
              <a:off x="6095880" y="2971800"/>
              <a:ext cx="2667240" cy="160020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39"/>
            <p:cNvGrpSpPr/>
            <p:nvPr/>
          </p:nvGrpSpPr>
          <p:grpSpPr>
            <a:xfrm>
              <a:off x="6248160" y="2971800"/>
              <a:ext cx="1905120" cy="1316880"/>
              <a:chOff x="6248160" y="2971800"/>
              <a:chExt cx="1905120" cy="1316880"/>
            </a:xfrm>
          </p:grpSpPr>
          <p:sp>
            <p:nvSpPr>
              <p:cNvPr id="517" name="Rectangle 28"/>
              <p:cNvSpPr/>
              <p:nvPr/>
            </p:nvSpPr>
            <p:spPr>
              <a:xfrm>
                <a:off x="6248160" y="3128760"/>
                <a:ext cx="190512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eCe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Cattle Registr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Electronic Data Exchange Prox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MS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GH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Dangerous Goods Declar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38"/>
              <p:cNvSpPr/>
              <p:nvPr/>
            </p:nvSpPr>
            <p:spPr>
              <a:xfrm>
                <a:off x="6744960" y="2971800"/>
                <a:ext cx="871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egula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46"/>
          <p:cNvGrpSpPr/>
          <p:nvPr/>
        </p:nvGrpSpPr>
        <p:grpSpPr>
          <a:xfrm>
            <a:off x="5638680" y="3657600"/>
            <a:ext cx="3048120" cy="2227320"/>
            <a:chOff x="5638680" y="3657600"/>
            <a:chExt cx="3048120" cy="2227320"/>
          </a:xfrm>
        </p:grpSpPr>
        <p:sp>
          <p:nvSpPr>
            <p:cNvPr id="520" name="Afgeronde rechthoek 12"/>
            <p:cNvSpPr/>
            <p:nvPr/>
          </p:nvSpPr>
          <p:spPr>
            <a:xfrm>
              <a:off x="5638680" y="3657600"/>
              <a:ext cx="3048120" cy="2210040"/>
            </a:xfrm>
            <a:prstGeom prst="roundRect">
              <a:avLst>
                <a:gd name="adj" fmla="val 20000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6716880" y="373356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pply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5"/>
            <p:cNvSpPr/>
            <p:nvPr/>
          </p:nvSpPr>
          <p:spPr>
            <a:xfrm>
              <a:off x="5892480" y="3811320"/>
              <a:ext cx="2710080" cy="20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Cata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Invo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Ord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Sched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Quo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arket Research In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Tend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roject Schedule and Cost Performance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ract Financial Execution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ublic Electronic Procur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Afgeronde rechthoek 12"/>
          <p:cNvSpPr/>
          <p:nvPr/>
        </p:nvSpPr>
        <p:spPr>
          <a:xfrm>
            <a:off x="5257800" y="4267080"/>
            <a:ext cx="3276720" cy="2133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Facilitation Implementation Gu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Annex to Trade Recommendat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evision of Trade Recommendation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evision of Trade Recommendati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Recommendation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Recommendation 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Recommendation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Consultation Models for Public and Private Sector Consul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International Supply Chain Referenc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fgeronde rechthoek 7"/>
          <p:cNvSpPr/>
          <p:nvPr/>
        </p:nvSpPr>
        <p:spPr>
          <a:xfrm>
            <a:off x="380880" y="167652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fgeronde rechthoek 7"/>
          <p:cNvSpPr/>
          <p:nvPr/>
        </p:nvSpPr>
        <p:spPr>
          <a:xfrm>
            <a:off x="457200" y="228600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fgeronde rechthoek 7"/>
          <p:cNvSpPr/>
          <p:nvPr/>
        </p:nvSpPr>
        <p:spPr>
          <a:xfrm>
            <a:off x="609480" y="2971800"/>
            <a:ext cx="3124440" cy="19810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fgeronde rechthoek 7"/>
          <p:cNvSpPr/>
          <p:nvPr/>
        </p:nvSpPr>
        <p:spPr>
          <a:xfrm>
            <a:off x="762120" y="3733920"/>
            <a:ext cx="3124080" cy="25146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pply 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fgeronde rechthoek 7"/>
          <p:cNvSpPr/>
          <p:nvPr/>
        </p:nvSpPr>
        <p:spPr>
          <a:xfrm>
            <a:off x="1066680" y="449568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fgeronde rechthoek 12"/>
          <p:cNvSpPr/>
          <p:nvPr/>
        </p:nvSpPr>
        <p:spPr>
          <a:xfrm>
            <a:off x="3962520" y="2971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me of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1"/>
          <p:cNvSpPr/>
          <p:nvPr/>
        </p:nvSpPr>
        <p:spPr>
          <a:xfrm>
            <a:off x="914400" y="65199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Programme Development  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2"/>
          <p:cNvSpPr/>
          <p:nvPr/>
        </p:nvSpPr>
        <p:spPr>
          <a:xfrm>
            <a:off x="4800600" y="647712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fgeronde rechthoek 8"/>
          <p:cNvSpPr/>
          <p:nvPr/>
        </p:nvSpPr>
        <p:spPr>
          <a:xfrm>
            <a:off x="3962520" y="1600200"/>
            <a:ext cx="1817640" cy="1155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enary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47"/>
          <p:cNvSpPr/>
          <p:nvPr/>
        </p:nvSpPr>
        <p:spPr>
          <a:xfrm>
            <a:off x="4833360" y="2755800"/>
            <a:ext cx="46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treamlined project-oriented organ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ngines of growth for developing and maintaining UN/CEFACT deliver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ject Leads report to Bureau Vice Chairs responsible for their Programme Developmen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FF41-4C92-4851-A1A1-A6F198C0CF0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Goals achievable only through contribution of exp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Participate in Project Teams – to develop and maintain UNECE recommendations and UN/CEFACT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Respond to calls for participation to apply their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ollaborate with other experts in domain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an serve as Domain Coordin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93A0-734F-4FEE-8711-CF08F265A94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Confirmed by the Bur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ay for experts to find each other and collaborate with colleag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nsure needs of Domains are brought forward into the UN/CEFAC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Important for maintaining knowledg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Groupings of experts, projects and/or 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BBA-D9C1-4409-A048-175C0C4FB3E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Admin</dc:creator>
  <dc:description/>
  <dc:language>en-US</dc:language>
  <cp:lastModifiedBy>Peter Amstutz</cp:lastModifiedBy>
  <dcterms:modified xsi:type="dcterms:W3CDTF">2012-02-15T09:33:12Z</dcterms:modified>
  <cp:revision>73</cp:revision>
  <dc:subject/>
  <dc:title>Slide 1</dc:title>
</cp:coreProperties>
</file>