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C12-BDAE-4C8F-9039-E4CD5A9ECCF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B08-896D-4FB9-9CF2-FA3C83F7B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8123-3EAE-4ED9-88FB-2DD603F84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8212-8CCF-4871-96DE-1EE6654418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EC81B-8072-4B11-B461-5F1AAF6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E5FEC-2B65-45AE-9FCE-70607DA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7B57A-74E4-43C9-91A7-34C35EE6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A1CA4-4142-4EE4-9C17-B7B216F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8ACD4-776F-4735-86CA-A5294D1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5E96-6B5C-48EE-8E95-06383EA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BBBA7-8E6F-4E5C-A5F8-087AFBB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5976F-7E83-456C-8B96-E44C537C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5F487-552F-4003-A8E9-729035C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407C3-8BD2-4AA9-B614-1B610EE4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2A57-D455-4A4C-A072-3BA296EB274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3EB8F-6434-44F2-A1B2-B3EB4ED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CF4DC-BB6E-47B9-A551-8B5F5206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3AC9D-DCA7-42AB-ADCC-9E3286C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B7A43-35D8-4191-950F-ACBB7C6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226DE-542A-4E4A-908F-348E4E5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9B640-83EC-477B-A1FD-EAE9CFA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F4833-A777-4CC3-97F6-FD8C1E9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50B9E-31FC-4818-B69B-1319BFB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D194F-BEA5-47BD-B107-12102B14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F4BA7-E327-4305-BB9C-FB79C787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A351-CBF9-4B1C-AA9C-1D7C416865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6D2E3-44E7-47AD-A78C-058B6E9D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4DBDF2-AAE7-448C-BEAC-885595EB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C3AA73-9FBF-4F59-8FB7-6578709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73728-EADE-47A7-A874-68C8E73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F92924-0DB7-419C-846D-122B1A4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2B7840-0F71-446E-9D96-4C749B3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13D1EC-B574-4708-B7A2-0E984B18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7CA4A9-A3B0-4B74-A12D-E7E3B12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A3C6C1-BF43-4E8A-A40B-E16C434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6D910-9361-4B6F-B3EA-EEE6C633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A21C3-2625-46E7-9144-D9064306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BA25C-AD25-4727-8D52-B6A0654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E01F01-8359-4F14-B344-409CB675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0955F-46C3-4C04-ADC7-E48A628C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732EE-403B-4136-8145-22650458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C7ED5-32E0-4E9C-85B2-E2FF70D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74A84-D531-423F-BB87-9E9F1C31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BFAE-B332-4F9E-AE63-5E606E7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62102-DF5B-40B2-8227-218EA32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1C63-0BDD-4401-9AD9-4BC7DC2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0D07-418D-4180-A6F1-E900C5AFB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5CC5-A3F9-4998-8664-A70525F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F3699-0D82-4687-8A8F-903374D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9133E-4522-4F15-BFA7-C877E5C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D38A-6D20-4714-881F-D482E9B3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B5357-13B0-4E1D-BC5B-D9D55975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A5247-C0EB-42A0-B094-C928289C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35799-3D5C-442E-AFBC-868CE94B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7E0B5-CDB5-4711-BBCE-732EC475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1DACC-E202-4CB7-8314-A35EAE9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D14E3-8F5B-4349-9E44-EA2FAEC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917-1D5D-4697-BBCD-70B49A97C5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A8522-2726-441D-B95D-FEF23D2A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DA35A-EE6D-49DE-A9D2-E033BA4D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9E5C3-5BEC-4AFB-89DC-13759FA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21D7A-6B93-462A-90AC-8A1FF95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CE5AF-CD74-4221-88E4-A1CA4B27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4D6AA-DC7A-43DE-8D22-D166FD8C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6A47A-2AEE-4B65-9D83-094B4CB1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94BFB-AA82-4BF3-A4E3-84140954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2F65C-9513-47BE-ADA2-DC52BDC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6484F-F776-4308-B726-643DD56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2EE7-17AA-496E-8503-BA73BBF2A8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750A1-E27E-419D-AD04-E3F0BA8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DE6AA-4126-4680-BD38-D2E6FA5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3E8CE-128C-4CAE-ADB9-E4AB326E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DCE7C-0779-4C4F-BAA3-4A3431D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7C970-0671-43E4-8A1F-6D5B5C23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95218-4963-4012-8FDE-0E3B81B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0B91B-2685-461A-A176-5328F57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1C3BD-E4BB-4108-811A-6915FA07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0503C-B87B-4FDD-923C-696127D4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D207E-24F6-44F4-B135-F53E4F02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AA58-0E78-4C6C-8811-69E7754B4F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31AE6-4638-4FBA-8BB3-4633589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128E3-4919-440A-9479-386C3E3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1BE2E-0B19-49FB-A7EE-ABAB927A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6728BA-DE2C-4F90-862D-D221AFD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0BC4B-AF28-4C12-BDF7-C6814E29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91D0B-AA56-430C-8C24-C346EA9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458EE3-F73B-48BC-82EB-4ABC33F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99F72-D5A1-4DD8-AD4E-4E86BB1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9EA66-FB84-487F-A4AA-A950A188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E6E7A-5A40-4260-BE19-BFFD08E4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EB7B-1243-4B07-9CD4-3D5F84A690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F0501-7172-4BE2-9140-A04307C7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988C9-DFB4-4B71-90FE-C7D6E8C9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3715B-7CA3-4AF7-98DA-E652349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AB34F-7DDD-47C2-A25C-C73A8AE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4C325-40C7-42EC-8E62-BFB3E7A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A24EBD-D61A-44BF-915B-394A40D2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22F44-1474-45FA-BF65-E8A98965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A57A0A-C6A0-40FC-B3FE-E747F39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FBA856-163F-46C5-B35F-DEBBECF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60953-E1A1-4B05-866B-9F7A059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9B86-383C-4CE3-88BC-A793748E64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5FF96-EFA5-4DF3-A0C1-8BEBCFE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055A5-7FAD-43CA-8C1D-74EC3691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CCBA3-DFCE-4FFB-88FA-BF78D3F9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1ADB0-6A19-41C1-A807-24DE4542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714157-42DD-4CC9-90A0-0D41EB4D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3868BA-1A37-4B6E-B316-397BEBD0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DA35D-D6DB-4F52-90C3-61E0213A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564B3-B8FE-48DF-AEFB-89E6AC4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FDAED-6306-4EEA-A777-D53EB47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772D1-617F-496B-B16C-D7AE8C8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C931-C7EC-4F20-B4AA-9F1F29EA1E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F4C11-F4B1-44EA-B49E-57431E9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0A5757-4D5D-4218-82D8-A62EF89C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45AAC0-E87B-49EC-80FC-FB9A9CCA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54926-2BBC-43E7-9BA8-150244DE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3011D-EC85-43D3-BE35-C9EA0710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7A5A1-034D-4FE8-B948-B9FD4C03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86697-312B-4EDB-9E63-A15B0FA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F738AE-212C-4F91-AD56-FAD194A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346263-FF13-4F5A-895B-720ADBA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9AE38A-2723-4D31-9300-C122C34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9EBD-96E5-4C4D-911E-085A1CB587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EF025B-E2A4-4CE4-9718-D3997F93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83A71-EC27-4E6C-8E45-BFF59AB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5868B6-930A-48F1-B67E-6F863A9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3420F2-6D12-4CAF-B07C-5C1D4AE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E564F2-E65A-4371-95CD-C026E075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8D7C35-9BE8-44A2-AD7C-DA2E327E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6B2B7-C429-4E1E-B3D6-7A5CD195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CC1B1-E428-449C-A951-4D91A1F0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BD20D-1091-4CD8-A84F-50335AC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4E7F0-D5C9-425A-A409-E4CD0A2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4CBD-38B3-43A1-A4E8-89A227401CC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025-8B66-4617-ADCA-871551BE31F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500-3B70-4ED7-8E56-197868E8A9C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63B5-BE34-4DEA-9D3B-A3D1FC11D4C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555F-AF4F-440C-A762-2A79BFF37AE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633-ED45-4B7F-BC79-ECC83B538CF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4E5-7FC0-4C29-9691-6FCC407BF3B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0A38-123A-47C4-9A89-980882FF31B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43820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D51-4DB0-4BDA-9745-60858D37FCD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E34-F20D-496E-A4E5-87022A9B246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C698-3151-4301-8763-DA2FBDD6F53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06560" y="2615760"/>
            <a:ext cx="5330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Reorganisation of UN/CEF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447920" y="3500280"/>
            <a:ext cx="640080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Peter Amstu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5-17 February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ED9-65A0-43A7-A1C7-ADF6974BE9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22860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Trad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Facil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1447920" y="411480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  <a:ea typeface="MS PGothic"/>
              </a:rPr>
              <a:t>Supply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3"/>
          <p:cNvSpPr/>
          <p:nvPr/>
        </p:nvSpPr>
        <p:spPr>
          <a:xfrm>
            <a:off x="2666880" y="411480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4038480" y="411480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ffffff"/>
                </a:solidFill>
                <a:latin typeface="Arial"/>
                <a:ea typeface="MS PGothic"/>
              </a:rPr>
              <a:t>S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5410080" y="4114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Methodol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and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3886200" y="1768320"/>
            <a:ext cx="1397160" cy="7462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6"/>
          <p:cNvSpPr/>
          <p:nvPr/>
        </p:nvSpPr>
        <p:spPr>
          <a:xfrm>
            <a:off x="1828800" y="1905120"/>
            <a:ext cx="1117440" cy="560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UNEC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3505320" y="1415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/CEFACT 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6"/>
          <p:cNvSpPr/>
          <p:nvPr/>
        </p:nvSpPr>
        <p:spPr>
          <a:xfrm>
            <a:off x="6400800" y="18288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apportu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>
            <a:off x="3808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6705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5"/>
          <p:cNvSpPr/>
          <p:nvPr/>
        </p:nvSpPr>
        <p:spPr>
          <a:xfrm>
            <a:off x="14479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/>
          <p:cNvSpPr/>
          <p:nvPr/>
        </p:nvSpPr>
        <p:spPr>
          <a:xfrm>
            <a:off x="274320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5"/>
          <p:cNvSpPr/>
          <p:nvPr/>
        </p:nvSpPr>
        <p:spPr>
          <a:xfrm>
            <a:off x="403848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5"/>
          <p:cNvSpPr/>
          <p:nvPr/>
        </p:nvSpPr>
        <p:spPr>
          <a:xfrm>
            <a:off x="53341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7848720" y="30481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Vice 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304920" y="3733920"/>
            <a:ext cx="609588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Programme Development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6629400" y="3733920"/>
            <a:ext cx="2133720" cy="3045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Bureau Programme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7621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19810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1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>
            <a:off x="457200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1"/>
          <p:cNvSpPr/>
          <p:nvPr/>
        </p:nvSpPr>
        <p:spPr>
          <a:xfrm>
            <a:off x="5867280" y="4038480"/>
            <a:ext cx="0" cy="15264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5"/>
          <p:cNvSpPr/>
          <p:nvPr/>
        </p:nvSpPr>
        <p:spPr>
          <a:xfrm>
            <a:off x="380880" y="2590920"/>
            <a:ext cx="861084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MS PGothic"/>
              </a:rPr>
              <a:t>Programme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5867280" y="365760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6019920" y="3809880"/>
            <a:ext cx="0" cy="7632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1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1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838080" y="3657600"/>
            <a:ext cx="0" cy="152280"/>
          </a:xfrm>
          <a:prstGeom prst="line">
            <a:avLst/>
          </a:prstGeom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5"/>
          <p:cNvSpPr/>
          <p:nvPr/>
        </p:nvSpPr>
        <p:spPr>
          <a:xfrm>
            <a:off x="6705720" y="4191120"/>
            <a:ext cx="2057400" cy="25146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514600"/>
              <a:gd name="textAreaBottom" fmla="*/ 2414160 h 2514600"/>
            </a:gdLst>
            <a:ahLst/>
            <a:rect l="textAreaLeft" t="textAreaTop" r="textAreaRight" b="textAreaBottom"/>
            <a:pathLst>
              <a:path w="21600" h="26399">
                <a:moveTo>
                  <a:pt x="3600" y="0"/>
                </a:moveTo>
                <a:arcTo wR="3600" hR="3600" stAng="16200000" swAng="-5400000"/>
                <a:lnTo>
                  <a:pt x="0" y="22799"/>
                </a:lnTo>
                <a:arcTo wR="3600" hR="3600" stAng="10800000" swAng="-5400000"/>
                <a:lnTo>
                  <a:pt x="18000" y="26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c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Roster of Expe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1"/>
          <p:cNvSpPr/>
          <p:nvPr/>
        </p:nvSpPr>
        <p:spPr>
          <a:xfrm>
            <a:off x="228600" y="5867280"/>
            <a:ext cx="63244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ffffff"/>
                </a:solidFill>
                <a:latin typeface="Calibri"/>
                <a:ea typeface="MS PGothic"/>
              </a:rPr>
              <a:t>Registry of Domains</a:t>
            </a:r>
            <a:r>
              <a:rPr b="0" lang="en-GB" sz="9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usiness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ccounting &amp; Audit   Agriculture    Customs    Environmental Management   Finance/Payments   Government  Health Care  Insu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national Trade Procedures   Procurement  Supply Chain Management   Transport  Travel/Tour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Technical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Times New Roman"/>
              </a:rPr>
              <a:t>: Audit/Validation   Business Process Modelling  Communication  Harmonisation  Legal  Library Maintenance  Library Pro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  <a:ea typeface="MS PGothic"/>
              </a:rPr>
              <a:t>Methodology  Publlications  UN/EDIFACT  X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90"/>
          <p:cNvGrpSpPr/>
          <p:nvPr/>
        </p:nvGrpSpPr>
        <p:grpSpPr>
          <a:xfrm>
            <a:off x="304920" y="4800600"/>
            <a:ext cx="990360" cy="990720"/>
            <a:chOff x="304920" y="4800600"/>
            <a:chExt cx="990360" cy="990720"/>
          </a:xfrm>
        </p:grpSpPr>
        <p:sp>
          <p:nvSpPr>
            <p:cNvPr id="578" name="AutoShape 11"/>
            <p:cNvSpPr/>
            <p:nvPr/>
          </p:nvSpPr>
          <p:spPr>
            <a:xfrm>
              <a:off x="838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1"/>
            <p:cNvSpPr/>
            <p:nvPr/>
          </p:nvSpPr>
          <p:spPr>
            <a:xfrm>
              <a:off x="3049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94"/>
          <p:cNvGrpSpPr/>
          <p:nvPr/>
        </p:nvGrpSpPr>
        <p:grpSpPr>
          <a:xfrm>
            <a:off x="2819520" y="4800600"/>
            <a:ext cx="990360" cy="990720"/>
            <a:chOff x="2819520" y="4800600"/>
            <a:chExt cx="990360" cy="990720"/>
          </a:xfrm>
        </p:grpSpPr>
        <p:sp>
          <p:nvSpPr>
            <p:cNvPr id="581" name="AutoShape 11"/>
            <p:cNvSpPr/>
            <p:nvPr/>
          </p:nvSpPr>
          <p:spPr>
            <a:xfrm>
              <a:off x="33526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1"/>
            <p:cNvSpPr/>
            <p:nvPr/>
          </p:nvSpPr>
          <p:spPr>
            <a:xfrm>
              <a:off x="28195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97"/>
          <p:cNvGrpSpPr/>
          <p:nvPr/>
        </p:nvGrpSpPr>
        <p:grpSpPr>
          <a:xfrm>
            <a:off x="1523880" y="4800600"/>
            <a:ext cx="990720" cy="990720"/>
            <a:chOff x="1523880" y="4800600"/>
            <a:chExt cx="990720" cy="990720"/>
          </a:xfrm>
        </p:grpSpPr>
        <p:sp>
          <p:nvSpPr>
            <p:cNvPr id="584" name="AutoShape 11"/>
            <p:cNvSpPr/>
            <p:nvPr/>
          </p:nvSpPr>
          <p:spPr>
            <a:xfrm>
              <a:off x="20574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1"/>
            <p:cNvSpPr/>
            <p:nvPr/>
          </p:nvSpPr>
          <p:spPr>
            <a:xfrm>
              <a:off x="15238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00"/>
          <p:cNvGrpSpPr/>
          <p:nvPr/>
        </p:nvGrpSpPr>
        <p:grpSpPr>
          <a:xfrm>
            <a:off x="4114800" y="4800600"/>
            <a:ext cx="990720" cy="990720"/>
            <a:chOff x="4114800" y="4800600"/>
            <a:chExt cx="990720" cy="990720"/>
          </a:xfrm>
        </p:grpSpPr>
        <p:sp>
          <p:nvSpPr>
            <p:cNvPr id="587" name="AutoShape 11"/>
            <p:cNvSpPr/>
            <p:nvPr/>
          </p:nvSpPr>
          <p:spPr>
            <a:xfrm>
              <a:off x="464832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11"/>
            <p:cNvSpPr/>
            <p:nvPr/>
          </p:nvSpPr>
          <p:spPr>
            <a:xfrm>
              <a:off x="41148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03"/>
          <p:cNvGrpSpPr/>
          <p:nvPr/>
        </p:nvGrpSpPr>
        <p:grpSpPr>
          <a:xfrm>
            <a:off x="5410080" y="4800600"/>
            <a:ext cx="990720" cy="990720"/>
            <a:chOff x="5410080" y="4800600"/>
            <a:chExt cx="990720" cy="990720"/>
          </a:xfrm>
        </p:grpSpPr>
        <p:sp>
          <p:nvSpPr>
            <p:cNvPr id="590" name="AutoShape 11"/>
            <p:cNvSpPr/>
            <p:nvPr/>
          </p:nvSpPr>
          <p:spPr>
            <a:xfrm>
              <a:off x="594360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11"/>
            <p:cNvSpPr/>
            <p:nvPr/>
          </p:nvSpPr>
          <p:spPr>
            <a:xfrm>
              <a:off x="5410080" y="48006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o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treamlined project-oriented 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gines of growth for developing and maintaining UN/CEFACT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Leads report to Bureau Vice Chairs responsible for their 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FBB9-D949-4475-B588-FAFA914F88E2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6A6-9F25-4564-A415-35035240B40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728640" y="2044800"/>
            <a:ext cx="7272360" cy="4356000"/>
            <a:chOff x="728640" y="2044800"/>
            <a:chExt cx="7272360" cy="4356000"/>
          </a:xfrm>
        </p:grpSpPr>
        <p:sp>
          <p:nvSpPr>
            <p:cNvPr id="597" name="Straight Connector 3"/>
            <p:cNvSpPr/>
            <p:nvPr/>
          </p:nvSpPr>
          <p:spPr>
            <a:xfrm>
              <a:off x="669816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4"/>
            <p:cNvSpPr/>
            <p:nvPr/>
          </p:nvSpPr>
          <p:spPr>
            <a:xfrm>
              <a:off x="317340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5"/>
            <p:cNvSpPr/>
            <p:nvPr/>
          </p:nvSpPr>
          <p:spPr>
            <a:xfrm flipH="1">
              <a:off x="3171960" y="4534200"/>
              <a:ext cx="1584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fgeronde rechthoek 8"/>
            <p:cNvSpPr/>
            <p:nvPr/>
          </p:nvSpPr>
          <p:spPr>
            <a:xfrm>
              <a:off x="3893400" y="2044800"/>
              <a:ext cx="199764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7" descr=""/>
            <p:cNvPicPr/>
            <p:nvPr/>
          </p:nvPicPr>
          <p:blipFill>
            <a:blip r:embed="rId1"/>
            <a:stretch/>
          </p:blipFill>
          <p:spPr>
            <a:xfrm>
              <a:off x="5864040" y="4877640"/>
              <a:ext cx="21369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Group 9" descr=""/>
            <p:cNvPicPr/>
            <p:nvPr/>
          </p:nvPicPr>
          <p:blipFill>
            <a:blip r:embed="rId2"/>
            <a:stretch/>
          </p:blipFill>
          <p:spPr>
            <a:xfrm>
              <a:off x="2442240" y="4877640"/>
              <a:ext cx="219780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Straight Connector 9"/>
            <p:cNvSpPr/>
            <p:nvPr/>
          </p:nvSpPr>
          <p:spPr>
            <a:xfrm>
              <a:off x="4893840" y="403596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10"/>
            <p:cNvSpPr/>
            <p:nvPr/>
          </p:nvSpPr>
          <p:spPr>
            <a:xfrm flipH="1">
              <a:off x="4755600" y="4534200"/>
              <a:ext cx="1942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1"/>
            <p:cNvSpPr/>
            <p:nvPr/>
          </p:nvSpPr>
          <p:spPr>
            <a:xfrm flipH="1">
              <a:off x="2935440" y="3248640"/>
              <a:ext cx="933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fgeronde rechthoek 5"/>
            <p:cNvSpPr/>
            <p:nvPr/>
          </p:nvSpPr>
          <p:spPr>
            <a:xfrm>
              <a:off x="728640" y="3118680"/>
              <a:ext cx="251604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mphasis should be not on the organisation, but on the </a:t>
            </a:r>
            <a:r>
              <a:rPr b="0" lang="de-CH" sz="3200" spc="-1" strike="noStrike" u="sng">
                <a:solidFill>
                  <a:srgbClr val="000000"/>
                </a:solidFill>
                <a:uFillTx/>
                <a:latin typeface="Calibri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The process central to our work is the Open Development Process (OD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F56-1D0D-425C-ACD5-6F2FBF52ED4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Drivers for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commendations from UNECE Executiv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quirement to review permanent group man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ore timely availability of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Outreach to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ap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aturity of experience / lessons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E15C-7935-4DFC-BE00-47CF0DB7516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Activities Supporting the Programme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Bureau Programme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09F-2240-48DA-89A9-FC85E0035A94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DDE-3D00-444C-A274-F15F6F0892A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2"/>
          <p:cNvGrpSpPr/>
          <p:nvPr/>
        </p:nvGrpSpPr>
        <p:grpSpPr>
          <a:xfrm>
            <a:off x="728640" y="2044800"/>
            <a:ext cx="7272360" cy="4356000"/>
            <a:chOff x="728640" y="2044800"/>
            <a:chExt cx="7272360" cy="4356000"/>
          </a:xfrm>
        </p:grpSpPr>
        <p:sp>
          <p:nvSpPr>
            <p:cNvPr id="490" name="Straight Connector 3"/>
            <p:cNvSpPr/>
            <p:nvPr/>
          </p:nvSpPr>
          <p:spPr>
            <a:xfrm>
              <a:off x="669816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4"/>
            <p:cNvSpPr/>
            <p:nvPr/>
          </p:nvSpPr>
          <p:spPr>
            <a:xfrm>
              <a:off x="3173400" y="453420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5"/>
            <p:cNvSpPr/>
            <p:nvPr/>
          </p:nvSpPr>
          <p:spPr>
            <a:xfrm flipH="1">
              <a:off x="3171960" y="4534200"/>
              <a:ext cx="15840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fgeronde rechthoek 8"/>
            <p:cNvSpPr/>
            <p:nvPr/>
          </p:nvSpPr>
          <p:spPr>
            <a:xfrm>
              <a:off x="3893400" y="2044800"/>
              <a:ext cx="1997640" cy="1991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---------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enary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ur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Group 7" descr=""/>
            <p:cNvPicPr/>
            <p:nvPr/>
          </p:nvPicPr>
          <p:blipFill>
            <a:blip r:embed="rId1"/>
            <a:stretch/>
          </p:blipFill>
          <p:spPr>
            <a:xfrm>
              <a:off x="5864040" y="4877640"/>
              <a:ext cx="21369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Group 9" descr=""/>
            <p:cNvPicPr/>
            <p:nvPr/>
          </p:nvPicPr>
          <p:blipFill>
            <a:blip r:embed="rId2"/>
            <a:stretch/>
          </p:blipFill>
          <p:spPr>
            <a:xfrm>
              <a:off x="2442240" y="4877640"/>
              <a:ext cx="219780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Straight Connector 9"/>
            <p:cNvSpPr/>
            <p:nvPr/>
          </p:nvSpPr>
          <p:spPr>
            <a:xfrm>
              <a:off x="4893840" y="4035960"/>
              <a:ext cx="7920" cy="4982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"/>
            <p:cNvSpPr/>
            <p:nvPr/>
          </p:nvSpPr>
          <p:spPr>
            <a:xfrm flipH="1">
              <a:off x="4755600" y="4534200"/>
              <a:ext cx="1942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11"/>
            <p:cNvSpPr/>
            <p:nvPr/>
          </p:nvSpPr>
          <p:spPr>
            <a:xfrm flipH="1">
              <a:off x="2935440" y="3248640"/>
              <a:ext cx="933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fgeronde rechthoek 5"/>
            <p:cNvSpPr/>
            <p:nvPr/>
          </p:nvSpPr>
          <p:spPr>
            <a:xfrm>
              <a:off x="728640" y="3118680"/>
              <a:ext cx="2516040" cy="355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egional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Rapporte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gramme Development Areas (PD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Transport and Trade Facil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546-CB64-46F4-B4D8-6A3C10DEE35C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traight Connector 61"/>
          <p:cNvSpPr/>
          <p:nvPr/>
        </p:nvSpPr>
        <p:spPr>
          <a:xfrm flipH="1">
            <a:off x="5562360" y="3505320"/>
            <a:ext cx="533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67"/>
          <p:cNvSpPr/>
          <p:nvPr/>
        </p:nvSpPr>
        <p:spPr>
          <a:xfrm flipH="1">
            <a:off x="3733920" y="35053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7"/>
          <p:cNvGrpSpPr/>
          <p:nvPr/>
        </p:nvGrpSpPr>
        <p:grpSpPr>
          <a:xfrm>
            <a:off x="6477120" y="1523880"/>
            <a:ext cx="3124080" cy="1600200"/>
            <a:chOff x="6477120" y="1523880"/>
            <a:chExt cx="3124080" cy="1600200"/>
          </a:xfrm>
        </p:grpSpPr>
        <p:sp>
          <p:nvSpPr>
            <p:cNvPr id="507" name="Afgeronde rechthoek 12"/>
            <p:cNvSpPr/>
            <p:nvPr/>
          </p:nvSpPr>
          <p:spPr>
            <a:xfrm>
              <a:off x="6477120" y="1523880"/>
              <a:ext cx="259092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thodology and Techn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58"/>
            <p:cNvSpPr/>
            <p:nvPr/>
          </p:nvSpPr>
          <p:spPr>
            <a:xfrm>
              <a:off x="6553080" y="1807920"/>
              <a:ext cx="30481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evelopment method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aintenance of technological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cument flow ommend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aming and design rules</a:t>
              </a:r>
              <a:r>
                <a:rPr b="0" lang="de-CH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lidation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51"/>
          <p:cNvGrpSpPr/>
          <p:nvPr/>
        </p:nvGrpSpPr>
        <p:grpSpPr>
          <a:xfrm>
            <a:off x="6248520" y="2286000"/>
            <a:ext cx="2819160" cy="1752480"/>
            <a:chOff x="6248520" y="2286000"/>
            <a:chExt cx="2819160" cy="1752480"/>
          </a:xfrm>
        </p:grpSpPr>
        <p:sp>
          <p:nvSpPr>
            <p:cNvPr id="510" name="Afgeronde rechthoek 12"/>
            <p:cNvSpPr/>
            <p:nvPr/>
          </p:nvSpPr>
          <p:spPr>
            <a:xfrm>
              <a:off x="6248520" y="2286000"/>
              <a:ext cx="2743200" cy="175248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6478560" y="2596320"/>
              <a:ext cx="25891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mall Scale Lodging House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mall Scale Lodging House Travel 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formation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attle Registration Information 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vestock Life Rec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DI of Agronomical Observations 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Arch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DAP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7086600" y="2286000"/>
              <a:ext cx="6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58"/>
          <p:cNvSpPr/>
          <p:nvPr/>
        </p:nvSpPr>
        <p:spPr>
          <a:xfrm>
            <a:off x="4952880" y="3421080"/>
            <a:ext cx="251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2"/>
          <p:cNvGrpSpPr/>
          <p:nvPr/>
        </p:nvGrpSpPr>
        <p:grpSpPr>
          <a:xfrm>
            <a:off x="6095880" y="2971800"/>
            <a:ext cx="2667240" cy="1600200"/>
            <a:chOff x="6095880" y="2971800"/>
            <a:chExt cx="2667240" cy="1600200"/>
          </a:xfrm>
        </p:grpSpPr>
        <p:sp>
          <p:nvSpPr>
            <p:cNvPr id="515" name="Afgeronde rechthoek 12"/>
            <p:cNvSpPr/>
            <p:nvPr/>
          </p:nvSpPr>
          <p:spPr>
            <a:xfrm>
              <a:off x="6095880" y="2971800"/>
              <a:ext cx="2667240" cy="160020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39"/>
            <p:cNvGrpSpPr/>
            <p:nvPr/>
          </p:nvGrpSpPr>
          <p:grpSpPr>
            <a:xfrm>
              <a:off x="6248160" y="2971800"/>
              <a:ext cx="1905120" cy="1316880"/>
              <a:chOff x="6248160" y="2971800"/>
              <a:chExt cx="1905120" cy="1316880"/>
            </a:xfrm>
          </p:grpSpPr>
          <p:sp>
            <p:nvSpPr>
              <p:cNvPr id="517" name="Rectangle 28"/>
              <p:cNvSpPr/>
              <p:nvPr/>
            </p:nvSpPr>
            <p:spPr>
              <a:xfrm>
                <a:off x="6248160" y="3128760"/>
                <a:ext cx="190512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eCe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Cattle Regist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Electronic Data Exchange Prox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S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G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Dangerous Goods Decla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38"/>
              <p:cNvSpPr/>
              <p:nvPr/>
            </p:nvSpPr>
            <p:spPr>
              <a:xfrm>
                <a:off x="6744960" y="2971800"/>
                <a:ext cx="871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egula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46"/>
          <p:cNvGrpSpPr/>
          <p:nvPr/>
        </p:nvGrpSpPr>
        <p:grpSpPr>
          <a:xfrm>
            <a:off x="5638680" y="3657600"/>
            <a:ext cx="3048120" cy="2227320"/>
            <a:chOff x="5638680" y="3657600"/>
            <a:chExt cx="3048120" cy="2227320"/>
          </a:xfrm>
        </p:grpSpPr>
        <p:sp>
          <p:nvSpPr>
            <p:cNvPr id="520" name="Afgeronde rechthoek 12"/>
            <p:cNvSpPr/>
            <p:nvPr/>
          </p:nvSpPr>
          <p:spPr>
            <a:xfrm>
              <a:off x="5638680" y="3657600"/>
              <a:ext cx="3048120" cy="2210040"/>
            </a:xfrm>
            <a:prstGeom prst="roundRect">
              <a:avLst>
                <a:gd name="adj" fmla="val 20000"/>
              </a:avLst>
            </a:prstGeom>
            <a:solidFill>
              <a:srgbClr val="77933c"/>
            </a:solidFill>
            <a:ln w="255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6716880" y="373356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ly Ch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5892480" y="3811320"/>
              <a:ext cx="2710080" cy="20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Cata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Invo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Ord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Sched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ross Industry Quo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arket Research In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Tend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roject Schedule and Cost Performance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ract Financial Execution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ublic Electronic Procur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Afgeronde rechthoek 12"/>
          <p:cNvSpPr/>
          <p:nvPr/>
        </p:nvSpPr>
        <p:spPr>
          <a:xfrm>
            <a:off x="5257800" y="4267080"/>
            <a:ext cx="3276720" cy="2133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Facilitation Implementation Gu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Annex to Trade Recommendation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vision of Trade Recommendation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vision of Trade Recommendati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rade Recommendation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Consultation Models for Public and Private Sector Consul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International Supply Chain Referenc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fgeronde rechthoek 7"/>
          <p:cNvSpPr/>
          <p:nvPr/>
        </p:nvSpPr>
        <p:spPr>
          <a:xfrm>
            <a:off x="380880" y="167652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thodology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fgeronde rechthoek 7"/>
          <p:cNvSpPr/>
          <p:nvPr/>
        </p:nvSpPr>
        <p:spPr>
          <a:xfrm>
            <a:off x="457200" y="228600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t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fgeronde rechthoek 7"/>
          <p:cNvSpPr/>
          <p:nvPr/>
        </p:nvSpPr>
        <p:spPr>
          <a:xfrm>
            <a:off x="609480" y="2971800"/>
            <a:ext cx="3124440" cy="1981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fgeronde rechthoek 7"/>
          <p:cNvSpPr/>
          <p:nvPr/>
        </p:nvSpPr>
        <p:spPr>
          <a:xfrm>
            <a:off x="762120" y="373392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ly 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fgeronde rechthoek 7"/>
          <p:cNvSpPr/>
          <p:nvPr/>
        </p:nvSpPr>
        <p:spPr>
          <a:xfrm>
            <a:off x="1066680" y="4495680"/>
            <a:ext cx="30481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de and Transport Fac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fgeronde rechthoek 12"/>
          <p:cNvSpPr/>
          <p:nvPr/>
        </p:nvSpPr>
        <p:spPr>
          <a:xfrm>
            <a:off x="3962520" y="2971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1"/>
          <p:cNvSpPr/>
          <p:nvPr/>
        </p:nvSpPr>
        <p:spPr>
          <a:xfrm>
            <a:off x="914400" y="65199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Programme Development  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2"/>
          <p:cNvSpPr/>
          <p:nvPr/>
        </p:nvSpPr>
        <p:spPr>
          <a:xfrm>
            <a:off x="4800600" y="647712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fgeronde rechthoek 8"/>
          <p:cNvSpPr/>
          <p:nvPr/>
        </p:nvSpPr>
        <p:spPr>
          <a:xfrm>
            <a:off x="3962520" y="1600200"/>
            <a:ext cx="1817640" cy="1155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enary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47"/>
          <p:cNvSpPr/>
          <p:nvPr/>
        </p:nvSpPr>
        <p:spPr>
          <a:xfrm>
            <a:off x="4833360" y="2755800"/>
            <a:ext cx="468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Calibri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Streamlined project-oriented 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gines of growth for developing and maintaining UN/CEFACT deliver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Project Leads report to Bureau Vice Chairs responsible for their Programme Develop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6DA2-66E6-44FE-BEFD-1066B28000AF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oals achievable only through contribution of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Participate in Project Teams – to develop and maintain UNECE recommendations and UN/CEFACT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Respond to calls for participation to apply their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ollaborate with other experts in domain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alibri"/>
              </a:rPr>
              <a:t>Can serve as Domain Coord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CED-7301-4AA3-ADF0-43E472C4BC5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Confirmed by the Bur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Way for experts to find each other and collaborate with colleag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Ensure needs of Domains are brought forward into the UN/CEFAC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Important for maintaining knowledg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</a:rPr>
              <a:t>Groupings of experts, projects and/or project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45A2-4644-4B3F-88A0-40E920E636E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Peter Amstutz</cp:lastModifiedBy>
  <dcterms:modified xsi:type="dcterms:W3CDTF">2012-02-15T09:33:12Z</dcterms:modified>
  <cp:revision>73</cp:revision>
  <dc:subject/>
  <dc:title>Slide 1</dc:title>
</cp:coreProperties>
</file>