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842-7BC6-4B08-B2E7-B994CFF8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87D-1C85-4712-8A03-2C436AA7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86D-921E-4F05-8C71-43A09223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0545-D69B-481B-8000-F9AE2998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C72-0385-4E6F-9EB2-B299F070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80D-F438-4A46-A372-B6933EF5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B22-DE2A-433F-8025-6F1DA13F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38D-68F1-460C-AC1E-8DE7C8B4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11D2-75FA-4BBF-AB20-224FC15F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A42-920F-487C-9178-CEDF183D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624-C18F-47B7-B0E7-BE89ED85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62A-322E-458A-97B7-5F6F8141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A464-E481-4D8C-A7D3-592CB70F3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1413000"/>
            <a:ext cx="450072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 Customs Unio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 contro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x contro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tosanitary contro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terinary contro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contro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4714920" y="1844640"/>
            <a:ext cx="4429080" cy="3214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2071800" y="0"/>
            <a:ext cx="7072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eption of Common 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Transport Corrid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ustoms Unio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larus-Russia-Kazakh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Группа 13"/>
          <p:cNvGrpSpPr/>
          <p:nvPr/>
        </p:nvGrpSpPr>
        <p:grpSpPr>
          <a:xfrm>
            <a:off x="214200" y="4572000"/>
            <a:ext cx="5827680" cy="2017800"/>
            <a:chOff x="214200" y="4572000"/>
            <a:chExt cx="5827680" cy="2017800"/>
          </a:xfrm>
        </p:grpSpPr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214200" y="4572000"/>
              <a:ext cx="5827680" cy="201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Полилиния 6"/>
            <p:cNvGrpSpPr/>
            <p:nvPr/>
          </p:nvGrpSpPr>
          <p:grpSpPr>
            <a:xfrm>
              <a:off x="1663920" y="5175360"/>
              <a:ext cx="2401920" cy="822960"/>
              <a:chOff x="1663920" y="5175360"/>
              <a:chExt cx="2401920" cy="822960"/>
            </a:xfrm>
          </p:grpSpPr>
          <p:pic>
            <p:nvPicPr>
              <p:cNvPr id="47" name="Полилиния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3920" y="5175360"/>
                <a:ext cx="2401920" cy="82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1872720" y="5258520"/>
                <a:ext cx="1981440" cy="52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Прямая соединительная линия 8" descr=""/>
            <p:cNvPicPr/>
            <p:nvPr/>
          </p:nvPicPr>
          <p:blipFill>
            <a:blip r:embed="rId5"/>
            <a:stretch/>
          </p:blipFill>
          <p:spPr>
            <a:xfrm>
              <a:off x="5004720" y="5791320"/>
              <a:ext cx="987480" cy="56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Прямая соединительная линия 10" descr=""/>
            <p:cNvPicPr/>
            <p:nvPr/>
          </p:nvPicPr>
          <p:blipFill>
            <a:blip r:embed="rId6"/>
            <a:stretch/>
          </p:blipFill>
          <p:spPr>
            <a:xfrm>
              <a:off x="1218960" y="5151240"/>
              <a:ext cx="700920" cy="48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0:24:21Z</dcterms:created>
  <dc:creator>Smi1e</dc:creator>
  <dc:description/>
  <dc:language>en-US</dc:language>
  <cp:lastModifiedBy>csd</cp:lastModifiedBy>
  <dcterms:modified xsi:type="dcterms:W3CDTF">2012-02-15T14:25:38Z</dcterms:modified>
  <cp:revision>13</cp:revision>
  <dc:subject/>
  <dc:title>Слайд 1</dc:title>
</cp:coreProperties>
</file>