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C6E4-C756-4F3C-AE78-E2272150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F36-885F-462F-9A3B-E62CC745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16B-1FC8-4390-A121-E0BA23C0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D09-B078-4505-939F-EAED9BF7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1A5-01EC-43B6-A34F-36C38EFD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2B9-EA98-4FB0-B0F3-18E547C9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4BB-7E60-44B5-8221-CB414B8C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5E9-6F71-4FEE-9851-D0E75C5C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B96-140C-4524-8F9B-534BF0C7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DC7C-C2BE-4161-A4CC-C7CF611B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795-07D2-4809-A404-BE53A2F7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41F-AF44-425E-8624-CF3AB1E6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6D74-9B5C-4F5D-A083-602F57A44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1413000"/>
            <a:ext cx="450072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 Customs Unio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 contro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x contro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tosanitary contro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terinary contro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contro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4714920" y="1844640"/>
            <a:ext cx="4429080" cy="3214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2071800" y="0"/>
            <a:ext cx="7072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eption of Common 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Transport Corrid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ustoms Unio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larus-Russia-Kazakh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Группа 13"/>
          <p:cNvGrpSpPr/>
          <p:nvPr/>
        </p:nvGrpSpPr>
        <p:grpSpPr>
          <a:xfrm>
            <a:off x="214200" y="4572000"/>
            <a:ext cx="5827680" cy="2017800"/>
            <a:chOff x="214200" y="4572000"/>
            <a:chExt cx="5827680" cy="2017800"/>
          </a:xfrm>
        </p:grpSpPr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214200" y="4572000"/>
              <a:ext cx="5827680" cy="201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Полилиния 6"/>
            <p:cNvGrpSpPr/>
            <p:nvPr/>
          </p:nvGrpSpPr>
          <p:grpSpPr>
            <a:xfrm>
              <a:off x="1663920" y="5175360"/>
              <a:ext cx="2401920" cy="822960"/>
              <a:chOff x="1663920" y="5175360"/>
              <a:chExt cx="2401920" cy="822960"/>
            </a:xfrm>
          </p:grpSpPr>
          <p:pic>
            <p:nvPicPr>
              <p:cNvPr id="47" name="Полилиния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3920" y="5175360"/>
                <a:ext cx="2401920" cy="82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1872720" y="5258520"/>
                <a:ext cx="1981440" cy="52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Прямая соединительная линия 8" descr=""/>
            <p:cNvPicPr/>
            <p:nvPr/>
          </p:nvPicPr>
          <p:blipFill>
            <a:blip r:embed="rId5"/>
            <a:stretch/>
          </p:blipFill>
          <p:spPr>
            <a:xfrm>
              <a:off x="5004720" y="5791320"/>
              <a:ext cx="987480" cy="56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Прямая соединительная линия 10" descr=""/>
            <p:cNvPicPr/>
            <p:nvPr/>
          </p:nvPicPr>
          <p:blipFill>
            <a:blip r:embed="rId6"/>
            <a:stretch/>
          </p:blipFill>
          <p:spPr>
            <a:xfrm>
              <a:off x="1218960" y="5151240"/>
              <a:ext cx="700920" cy="48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0:24:21Z</dcterms:created>
  <dc:creator>Smi1e</dc:creator>
  <dc:description/>
  <dc:language>en-US</dc:language>
  <cp:lastModifiedBy>csd</cp:lastModifiedBy>
  <dcterms:modified xsi:type="dcterms:W3CDTF">2012-02-15T14:25:38Z</dcterms:modified>
  <cp:revision>13</cp:revision>
  <dc:subject/>
  <dc:title>Слайд 1</dc:title>
</cp:coreProperties>
</file>