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D66C-C779-41A8-8E5E-265A4837030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4EE-85A6-4F4F-BA63-300A40E89BD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54A-5C21-45EA-BCC1-C860901DA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224-0AFB-49F2-81B1-F7CD95EE6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4BE5-B2D9-4C09-A8AC-42038113A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F2FC-B407-4416-AC39-2552D3A26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1CB-4494-4253-AAFC-28CB7B569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EE60-EA2E-40B7-B9DB-59EA0D1E0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CF39-3EAE-4F75-B0CE-E88AF419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9B94-3752-4ABD-9339-9BF223B5B4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45620-54B4-4A7B-904C-D513926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3EDC2-F218-4FA2-A15F-12E3486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69418-2E26-4F0E-9F04-7F942958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7150F-BC57-45A5-992D-198144A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B9F17-0C58-460A-9388-D5BB292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533F4-0618-414F-B6BF-80DC4AC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2EF2B-8B16-4C0D-BB76-9BC2B7A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D753B-4640-4FF5-B23E-A0A8FB6B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4A421-FB61-42FE-B5F0-E2140F12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DE0FD-7030-4597-B879-C68210D5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36F8-3192-4149-A847-9D94365338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991D7-3240-43BA-952A-5AE337B3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19780-5C01-4E9C-BA85-EFB23880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E3A34-87BD-4675-A51A-1D328F14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5EB5B-4C15-4820-9749-BF3D2E5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6E083-F566-499E-AED5-ECE15A7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DFFEE-9B63-449D-8122-D1615E7E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39188-A18A-434F-921F-2A44903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E2952-6669-4D55-80DF-F63C953F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C7014-4A74-46BF-9199-E4FD1DA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A9FDA-E484-4068-ADB2-E58364D5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2D0A-180B-4F61-BD11-897D4F961F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9FAE5-57AB-4586-AF36-E2038F61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D705A-6C6F-4732-ACE3-9025B696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428E45-8FC7-4A89-B752-5D8F91A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F97660-ADE7-4305-BC35-1EB94A5C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C184A5-38DF-4E81-A8D5-D49AFF20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A940EC-6896-47FF-B679-043B10C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BB3B86-BD33-408E-9904-94D3ED7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6F4627-FDB7-4A49-9BCE-D9CCC1C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B359B3-12FD-4CC9-86DC-80E1811C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C61379-F494-4BE8-BAB1-8108933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4A6A-D363-4263-A7E7-363612B5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99E360-8404-4D53-B2DF-E818BD26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F16BE8-0301-4963-AAAC-2B6A147A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36AE14-D976-414D-BF7A-83B05557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3A559-B2D1-4515-843F-25D044D7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B35FF-AE4D-40C8-9F07-B5CF1F09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72FF1-E8C4-4CA9-8F18-EB2606E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D1EB0-AC65-439D-BA6F-E7E61B6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BFE87-01F8-4711-97A4-6F4E61FA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D1D02-B179-4B93-9244-CD392B5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F4782-861E-4AE6-BF44-7FD53C2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35B74-3508-47B8-B036-85F548B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45318-9B65-47F5-8A59-11CA086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18C01-2495-44B6-96E7-16BF76E5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1222E-ECD9-443C-9003-D7B50DC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4B166-C1EF-4DBE-BFB0-35D8C85D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FA605-3EE4-4459-9F02-479F792C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51572-1A00-423A-8B45-AB27743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3742B-8EDF-4307-BE19-E9CC43A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58D0D-04E3-4B72-8EEC-82D3202A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B709D-946B-4985-A2CE-DCF5E6FD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8D389-AF10-4F3E-B447-2B2E419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4ED7-0CEB-477E-B180-9C733408A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F26B-425A-462E-B1D3-EEB8040D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19A2C-B814-4E67-B1F4-497AC68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963F-990A-4444-90E6-BEA15B6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77D46-FE69-47B6-BB18-09CF10E5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0739-779B-4F79-8A74-FCF5BE1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D4D37-BF5D-4AA8-92F3-959866F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A8B15-FBC1-49E7-AB3A-A6DB269F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74FB1-E004-485B-B4FD-D98146C0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70DBD-26D9-4B46-AC0A-DAE41C8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A3BE2-D310-4E67-9893-5D878CE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745E-3253-45E4-B801-4146D21615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3579B-B15C-4103-96CE-77250A0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58448-FDCE-4BA9-90CB-325731C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BB27F-EBED-4F06-AD39-21BE3D9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D365D-C4B3-4619-A104-51665F1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CCF57-BBE1-484A-9D25-985CFCFC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2499E-A8A0-449F-B27C-EFA6656C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696BE-D0E7-4C6B-B9CE-550F789A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4743D-7901-46A1-A89E-7C8CBD1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88272-4C79-4BA1-BBA6-62A040F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5ED15-9F9B-4D80-BA1E-9CF8626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B725-06C1-41D2-8975-B07C13EAE7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72A76-82C5-41FC-BD7B-FA966C16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AEC60-0DCB-46C3-950F-65CF25F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E2D5D-A276-458E-BD6D-45DD59B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C8A0E-0BB8-4FB5-A498-50BCE28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C9294-4004-4F8C-A87A-EE321F9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FE04D-6140-4FDB-91CF-4A551CF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A16BF-EE71-4AF4-AE41-AA485C4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84B8A-D311-4C0F-A622-7F318096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4803D-7C14-4D9B-875A-D5EF5D06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EEDFC-6C08-43C6-9D78-718351CE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1CBF-EBEF-4F4D-841F-8C252A39B9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8E7DFE-99D1-47A8-84FC-28B3B34C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4B0CE-5E76-4585-86D0-8A83FC14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432DA0-471B-413F-8123-1C70CCD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04454-E2CF-4B2E-8E2A-9B33884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704F4-498E-4092-B132-6D1D19C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920D6-F413-4EBB-B80F-0F6F42C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F2C5B-F3F5-4F91-A444-DEE183E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39C85-8C94-406C-8120-3A119742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D6A8F-57DE-477D-9CF1-B6734E1C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D0A4B-16E4-41CC-B9F6-9D6D0ED7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794B-6382-4D99-952C-6826B48C9C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C2AB1-AD9A-494E-8632-0AB80BBC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4AA96-30F1-44DA-924A-64A2CAE1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D1C3E-F2EE-4CBD-BF4A-844B6D3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43C6A9-62B3-446D-927A-9A93A77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1D380-5E7A-4CA3-9424-F769B67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8C32BB-3704-4315-B9A6-C2D9FCB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5E514-22BE-482E-9844-24D3051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2527B-09CC-44D8-A5DF-10BE0FA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E4824-7327-49DE-A5B4-40EEF5F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35581-0479-47C3-9EBD-2D3B01F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5CCB-805C-4A96-B364-95414C999C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232797-4416-48DD-BD5B-A605C4A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B73756-2C76-4A62-92AC-BBB29C5B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956BB-DC13-45F6-81B4-541FFC00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3E3F3-7A2E-4755-929F-34B981E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50066-E3D1-44D5-B4B8-99FD7E1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74F88-C1F5-433B-8F0A-4596113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49D01-6D59-40AE-A15E-A13DC407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2B488-A87F-42B2-AA58-04C45E3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47DBF-CA09-437E-8192-905962AC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EADCB4-9BF3-4E05-BC24-E8D6248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3612-E35B-4542-B34F-2DC2E96313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79FE7-EED1-42A4-8CD4-F826B01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1C3447-FA5D-43AA-9417-A03DFFE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7DE0B-71B2-4403-9641-946E7455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2CE83-3CCF-4A48-AE98-CB9BA536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78D9D-3DB0-4FEB-AB46-EDF80552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B1FE9-1FE9-4494-9582-CD6DC2A9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70F721-4518-430B-98A2-0077BA34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50E4C-89BF-4571-8C1B-4364103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F6147-16FF-4FAC-9DFF-22E1D5E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306A7C-5DCA-4B64-9FE1-78AE311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3798-1F29-4298-B379-F456B4E9E3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F9ADE-6D8F-4753-9469-090D1C3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F769F-42DC-4F99-8630-CBCF10E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CE48F-7BF1-430F-B74C-C847065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B53A72-23C3-4F5B-9EFE-8CAD7348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7FB818-9BD8-490D-AD97-C7CFC1C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1BDDBD-1AE3-4393-BE39-6076293C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41869-0F2A-40DC-929C-D29142B9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F3193-A264-409D-BF31-A778B7D5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8B383-7181-41A3-8242-6F0773CB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385F0-2AA5-4413-92E4-70CF6CB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8BA-4BE4-4DAF-A839-495181A970D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5E4E-8035-42CE-9E20-AE1DDC8D4C5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DE5-617F-44C7-9E6F-32289CCE656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F2A-49D9-4D15-8636-DA671491A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42CD-8AA2-4E10-8B41-BCA91C16921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714-FAE5-4BB0-BD8F-DF3E75E0875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050-2CF8-440E-8719-E3CEDDD909B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6EA1-6BC2-46DA-9E5E-7F7832D8582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05C-C548-45A9-8843-376FBF2BE15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43820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1E8-74E4-4369-8609-513A3178202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9BD-8635-4062-BC50-5AA1E1F9944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273-EC05-4CCC-9055-3D6202CA673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7040" y="2615760"/>
            <a:ext cx="73659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</a:rPr>
              <a:t>Report of rapporteur for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447920" y="3500280"/>
            <a:ext cx="6400800" cy="4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1f497d"/>
                </a:solidFill>
                <a:latin typeface="Calibri"/>
              </a:rPr>
              <a:t>Ibrahima DIA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1981080" y="59436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15 february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UN/CEFACT 18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alais des Nations, Geneva, Switz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ommandation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African Alliance SC in Douala December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ASEAL summit in Dakar Feb 201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forum on paperless Trade Dakar Feb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pilot projects of the African Alliance (2011 and 201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mutualised environment for paperless trade in Africa (digital signature, repository of M/X, e-Invoice Africa Project,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African Alliance SC– Doua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ember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W international confer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SC– Dak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EAL summit – Dak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rican Alliance General Assem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(Dec 11 G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SC- Gene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embe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forum ASEAL-AAEC – Gene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 REGIONAL ACTI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EMOA: Regional single window concept adop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uagadougou – October 20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CA –AU: African ICT wee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ddis Abeba – November 2011)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C Advisory board 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ra - November 201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 INTERNATIONAL ACTI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SCAP: Asia pacific trade facilitation foru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eoul -  October 20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ADB workshop on single wind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ashington – November 2011)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COME IN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AE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 and budget 2012-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CS platform for AAEC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 WINDOW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projec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nya, Benin, Burkina Fas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Rw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mproved projects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meroun, Senegal,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pen project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opia, Mal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VISION ON TF THROUGH PAPE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Develop Guides based on best practices, standards, and ground experi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AFRICAN CAPACITIES ON TF AND P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Regional  CB workshops and creation of an African branch of UNN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PILOT PROJECTS AND AAEC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Prepare projects proposal and meet with don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3-14T07:42:57Z</dcterms:modified>
  <cp:revision>77</cp:revision>
  <dc:subject>PPT Template</dc:subject>
  <dc:title>United Nations Economic Commssion for Europe</dc:title>
</cp:coreProperties>
</file>