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dt" idx="3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 type="ftr" idx="3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 type="sldNum" idx="3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DC74C-316B-4590-B852-BA8D6142D805}" type="slidenum">
              <a:rPr b="0" lang="de-CH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E9B77-C6B1-47B3-85C0-37FCD4E70392}" type="slidenum">
              <a:rPr b="0" lang="de-CH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37D55-9C59-48F0-87D4-CF560A2501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57F05-A5F4-4D40-B703-157F624DD6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BF262-5291-4F6E-9370-E38897495B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AD786-03B7-4975-A2F1-0AC3A4C65F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9D5F5-8FA9-44A4-92F6-347C1C20BF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0E573-5A27-4728-AD00-4FD7511447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DC631-2AD9-422A-A784-65A52698DE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20402-9E05-4065-BD8A-688FD92B3204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D9700F-14AE-46F2-8C93-1426ACDFF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03B3A5-05E4-4499-A2D6-B52688523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0EF2AE-C4E8-41EE-85C8-91BBAD644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193C27-3969-480D-BD65-BD950A36C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097C55-BBA0-47E5-8E21-D7D5D38DC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4CC6DA-A814-4A38-BF88-F2658170E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92B9B8-DDE8-45BD-80D1-7DFE8AE65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00E78A-94B5-4C1C-B69C-762A9BABB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A2232F-9E36-4E2D-9E68-D75DB6968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960045-66B8-40BC-AE94-E862BE853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766A2-25F1-43B5-9207-B55908AE9C0A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52936B-42A8-425A-8AE0-135C4656D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8DB800-DC45-4513-9F5C-2DB33947C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7ADB6C-7F24-4A08-8C24-145AEFA1E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802014-D7D8-4643-9CE3-B11FE981E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D133FE-1FC0-468B-B785-44E284081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70EF44-174A-425E-96F5-6F14D6BFA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0A84FC-5BD4-45D3-BECF-774D29820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106679-F207-4A18-A954-17BA4C24B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4C389E-83CA-47AE-85A0-8BC825F30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C9EA37-0AAE-403A-9210-8AE12924A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6A8B5-BFDE-4C22-8FEB-5527F77932D3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8E6552-3675-46F6-8C6E-7C56D8D94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22757A5-F0C6-428E-A720-E4FAF1E6B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38E1F9F-5BBE-4F0E-8106-90B28C530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6052E4D-B306-4882-914A-FC2FC0A5D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790FE5E-0EB9-4698-A34D-6F91276BD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FAE2882-AF2D-4B7C-8DFE-71E282DAF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46168AF-668F-4A41-95C8-8B3A6FB13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C4A61E7-FEC5-4331-8D71-564D49F0F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E0AD1A2-8B00-4B3F-87EA-BB221760C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E885625-AD8B-47B1-BBF8-471034131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ADB53A-6BB5-41A2-99C8-E7D5058D1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813D490-1A6B-4F48-AD49-F26D2CB80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63093C9-0644-4418-BADC-EB401E07A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7EE11FA-860E-4EE7-A2BB-3F3BD2EDE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AF04B8-5CE2-426F-A936-F2A16ECB2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4CF0ED-331B-41E9-AC2B-7ECA830DB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0D7C2B-4F07-430C-BA0C-4B4B71FD8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7BDCAB-E882-4907-A7D6-F1B3504E6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46982B-E147-4CFC-B96C-F518427EB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1B9347-8C4B-4A16-811D-45BACEE8A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72A55F-754B-49E2-B5CA-54260DD2A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1444FD-145E-442D-A984-DC38E5DE5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2023AC-53D5-4E2E-9015-39E7A893F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3FC683-A269-4D6A-9EE6-777C35497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CDB786-CEDF-4FB9-9675-72C996971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41F0C4-7530-4B62-A439-0EA3429DE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17C9C7-B00B-41A7-B50A-666DE0C4A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88A155-53B5-4F75-9906-85189DE76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EF0478-FA86-4CAC-8DF2-CF350C549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D368E3-69B2-48CF-8308-860751A01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EF53F2-ADEF-4A86-96C9-38C524C8B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EDE4C1-C65B-4A29-B165-26D30CA94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0B36C-C23E-441A-88AC-97BB2EE4CE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E140AD-CBB9-4C30-ABB8-BF98D774E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4DB427-9367-4DD7-BCB8-363A64064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B0357E-E7FB-4027-9DF0-9C596D4EA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F6E74C-050D-4D87-A497-770B56F69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7ECDE3-2F34-4D77-889E-63D1B9D00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E782A0C-636A-436C-8FAF-61C2E3F74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33D40A9-0145-4A26-8786-6EB03625D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FBE7FD9-FD5D-4E14-A210-4DD62D86B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008D715-A757-42C4-8B32-AADA292E5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E07CD6A-24DB-4DF7-9955-30A991FA9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9346C-FC6A-454D-ABF9-8C465C51BE3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3D2E502-806C-4BF2-A1CD-8D67E029C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F7EBFBF-9D93-4D2F-928D-71D83545B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695A5FA-DC33-4F72-88EE-BF65E611D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01CBBCE-77F2-4E45-88BE-CE513AA55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43B0243-ABF7-4246-84D4-3B622C519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24B6BCC-8D1B-4241-9A67-D26CB6063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4883D94-06B7-45B6-9DA6-AD92F27CD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0B207DF-4D26-42E4-8751-660DAFFB4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704DDB7-4DA9-4863-81DB-3B5B58034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1B089C4-E7CF-434A-BC9C-224E8F923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770C1-AEFC-4387-A165-685F240BB1C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9DAC715-9860-4BF1-9D03-05774ED82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BACF47E-FEB5-4E37-AD35-6DE91EAF6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C8A1CD4-B2E4-475F-8DDC-47A977D22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6DEED0A-2D73-4CD7-8D21-531415C69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D6EE447-1AE0-4C15-A3A4-A304031DC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47804B4-D225-45C2-8E68-E1581F3AF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9E9EC70-75AF-4127-896C-AA9C2BEDC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64FD789-022B-4E35-8688-ADD48D292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F97BA92-F8B8-4461-B7D0-785963B1B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C483CB5-E852-4E6B-A92C-9ACA38965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D5406-A6FD-4B8C-89C9-3FCE563288DE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AEB789C-C131-4A43-B70D-BB52F9EFC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76D091F-BE4A-4089-A2B4-B44CC91E9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80D80B1-A78D-4FCD-ABF9-7F11DEF0E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C1E2F8C-0DC1-4D4F-A679-9ABA86FF0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A2C8BDA-42C3-459C-ABAC-F58475865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0BD9B76-50DD-4CEE-B3EE-37B1A3B53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65952AE-2D10-437C-BB6A-EC2D4DACF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90D6285-4B3D-4079-A674-51C99F5BF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BAF6661-D213-4804-8804-B2A25D625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8B51BA1-9CAA-4C71-BE87-9C7AA0042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4864D-6FDA-4D01-A333-600050DD74FA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E8971B0-2CFB-4901-803D-6F8B33D35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308A6FC-BAE4-4C10-86BF-7EDC1360F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9F2427A-1CBA-4C70-87F3-637955440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D3FD5C9-0840-42C5-9B28-739398615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D79A7DC-CD97-4181-B94F-4A673D83C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24474CF-09C4-437B-BCB4-DA0DC72D6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25FBC2A-FE64-4C53-B168-24A43CD83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94D2E4A-556C-4A4C-8338-6BC88F474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9100D93-4BC4-48E0-9E20-7F45D86E6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DD9392A-9B00-4ABD-BEAA-AA590C1B2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4AE96-E55B-43B2-81B8-2C2ADDF96EAA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BD34A03-CC41-40B9-AB95-4146B0F34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BDA1A37-9FA0-41B8-9385-8758BCAB3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D619E2B-1841-45D2-9BB2-9D82E9513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6B5CE7C-1F0D-4766-B442-D686BF226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546E0CD-C69C-42A7-BC97-CF6CC364D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5F526A5-67C0-42CF-AFBF-0EC6CE88C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2453100-840F-4EA2-852E-802CD065A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F92DA95-6207-4500-80A4-1779083C6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BCDBACF-2801-4FB5-BA02-306942214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88BA762-A07C-48C0-8B11-37B726EB3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46898-3258-4DC2-B536-444F33F01E1B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E4C4941-8F63-4D1D-B668-0DBD767CF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A294B87-9A7B-4BE6-9E12-672EFCA9C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5539449-AF67-42EE-B5AC-162CDFAC4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1A42EA5-9420-4F2C-92D0-D48667EF5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C4E1A78-64DD-4B4A-9B42-7DC1E0877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C2356F9-84C9-4483-BACB-FC4C65D2A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AE3DC7B-F514-41E6-AE81-B423B4EA0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E302381-A135-44F9-83BF-4BEEF7ECB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A8BD62C-1416-46B8-9915-A7B94EB57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E36DA34-B38B-41B0-9F4F-653FF0BCC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0E411-8CAF-422C-989E-DC84DCCC4870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CBC5655-D835-43D3-933B-8BDD81276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5E8EF61-A254-48CD-B997-8312A6323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0CC34AC-C7AF-49B4-A298-D79F13255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B2A18E2-7B34-44AF-B5D0-A10FDAFF1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F0573C7-4771-450F-B0A6-2A64592B3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0AE4AD9-0F20-461E-917F-22CCD3622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BDE66AF-6077-4DA1-A959-B06F702FD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19BD1B-388B-42AC-BAB5-347661520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365A4C-FC21-4F5E-BCB1-D79F3B222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B5C218-108F-4C63-BCA6-69432A514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95770-77FE-4765-92E2-32299D1788EA}" type="slidenum">
              <a:rPr b="0" lang="de-CH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Box 7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Box 10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10" descr="cefact_forum"/>
          <p:cNvPicPr/>
          <p:nvPr/>
        </p:nvPicPr>
        <p:blipFill>
          <a:blip r:embed="rId2"/>
          <a:stretch/>
        </p:blipFill>
        <p:spPr>
          <a:xfrm>
            <a:off x="417600" y="147600"/>
            <a:ext cx="8308800" cy="1265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TextBox 7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Box 10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Picture 10" descr="cefact_forum"/>
          <p:cNvPicPr/>
          <p:nvPr/>
        </p:nvPicPr>
        <p:blipFill>
          <a:blip r:embed="rId2"/>
          <a:stretch/>
        </p:blipFill>
        <p:spPr>
          <a:xfrm>
            <a:off x="417600" y="147600"/>
            <a:ext cx="8308800" cy="126540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dt" idx="2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ftr" idx="2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sldNum" idx="2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23038-B023-48DB-A486-92BF7599E43C}" type="slidenum">
              <a:rPr b="0" lang="de-CH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TextBox 7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Box 10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Picture 10" descr="cefact_forum"/>
          <p:cNvPicPr/>
          <p:nvPr/>
        </p:nvPicPr>
        <p:blipFill>
          <a:blip r:embed="rId2"/>
          <a:stretch/>
        </p:blipFill>
        <p:spPr>
          <a:xfrm>
            <a:off x="417600" y="147600"/>
            <a:ext cx="8308800" cy="1265400"/>
          </a:xfrm>
          <a:prstGeom prst="rect">
            <a:avLst/>
          </a:prstGeom>
          <a:ln w="0">
            <a:noFill/>
          </a:ln>
        </p:spPr>
      </p:pic>
      <p:sp>
        <p:nvSpPr>
          <p:cNvPr id="432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dt" idx="2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ftr" idx="3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sldNum" idx="3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F932B-C69A-4443-8CAA-B249981AB5F4}" type="slidenum">
              <a:rPr b="0" lang="de-CH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TextBox 7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Box 10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Picture 10" descr="cefact_forum"/>
          <p:cNvPicPr/>
          <p:nvPr/>
        </p:nvPicPr>
        <p:blipFill>
          <a:blip r:embed="rId2"/>
          <a:stretch/>
        </p:blipFill>
        <p:spPr>
          <a:xfrm>
            <a:off x="417600" y="147600"/>
            <a:ext cx="8308800" cy="1265400"/>
          </a:xfrm>
          <a:prstGeom prst="rect">
            <a:avLst/>
          </a:prstGeom>
          <a:ln w="0">
            <a:noFill/>
          </a:ln>
        </p:spPr>
      </p:pic>
      <p:sp>
        <p:nvSpPr>
          <p:cNvPr id="475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dt" idx="3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ftr" idx="3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Bottom Lin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sldNum" idx="3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FC7F1-0FD1-4CB2-823F-7C0A9C1CF82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7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10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0" descr="cefact_forum"/>
          <p:cNvPicPr/>
          <p:nvPr/>
        </p:nvPicPr>
        <p:blipFill>
          <a:blip r:embed="rId2"/>
          <a:stretch/>
        </p:blipFill>
        <p:spPr>
          <a:xfrm>
            <a:off x="0" y="0"/>
            <a:ext cx="9144000" cy="1143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73E05-1346-42D4-B63A-D4BCD0D0E7B1}" type="slidenum">
              <a:rPr b="0" lang="de-CH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7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0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0" descr="cefact_forum"/>
          <p:cNvPicPr/>
          <p:nvPr/>
        </p:nvPicPr>
        <p:blipFill>
          <a:blip r:embed="rId2"/>
          <a:stretch/>
        </p:blipFill>
        <p:spPr>
          <a:xfrm>
            <a:off x="417600" y="147600"/>
            <a:ext cx="8308800" cy="12654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A3507-FAF9-42A1-948A-DE38B32C2361}" type="slidenum">
              <a:rPr b="0" lang="de-CH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Box 7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10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10" descr="cefact_forum"/>
          <p:cNvPicPr/>
          <p:nvPr/>
        </p:nvPicPr>
        <p:blipFill>
          <a:blip r:embed="rId2"/>
          <a:stretch/>
        </p:blipFill>
        <p:spPr>
          <a:xfrm>
            <a:off x="417600" y="147600"/>
            <a:ext cx="8308800" cy="12654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ftr" idx="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sldNum" idx="1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5F781-F554-4D88-A05F-2C5D1D3A0CDC}" type="slidenum">
              <a:rPr b="0" lang="de-CH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7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10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10" descr="cefact_forum"/>
          <p:cNvPicPr/>
          <p:nvPr/>
        </p:nvPicPr>
        <p:blipFill>
          <a:blip r:embed="rId2"/>
          <a:stretch/>
        </p:blipFill>
        <p:spPr>
          <a:xfrm>
            <a:off x="417600" y="147600"/>
            <a:ext cx="8308800" cy="126540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dt" idx="1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ftr" idx="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sldNum" idx="1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1AB16-5FE2-4854-9F6C-7DB6677A2791}" type="slidenum">
              <a:rPr b="0" lang="de-CH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Box 7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10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10" descr="cefact_forum"/>
          <p:cNvPicPr/>
          <p:nvPr/>
        </p:nvPicPr>
        <p:blipFill>
          <a:blip r:embed="rId2"/>
          <a:stretch/>
        </p:blipFill>
        <p:spPr>
          <a:xfrm>
            <a:off x="417600" y="147600"/>
            <a:ext cx="8308800" cy="126540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1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1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sldNum" idx="1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4F5EF-5147-4FCB-ABB9-0D177A1B9957}" type="slidenum">
              <a:rPr b="0" lang="de-CH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Box 7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10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10" descr="cefact_forum"/>
          <p:cNvPicPr/>
          <p:nvPr/>
        </p:nvPicPr>
        <p:blipFill>
          <a:blip r:embed="rId2"/>
          <a:stretch/>
        </p:blipFill>
        <p:spPr>
          <a:xfrm>
            <a:off x="417600" y="147600"/>
            <a:ext cx="8308800" cy="1265400"/>
          </a:xfrm>
          <a:prstGeom prst="rect">
            <a:avLst/>
          </a:prstGeom>
          <a:ln w="0">
            <a:noFill/>
          </a:ln>
        </p:spPr>
      </p:pic>
      <p:sp>
        <p:nvSpPr>
          <p:cNvPr id="259" name="TextBox 6"/>
          <p:cNvSpPr/>
          <p:nvPr/>
        </p:nvSpPr>
        <p:spPr>
          <a:xfrm>
            <a:off x="143820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dt" idx="1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sldNum" idx="1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B9E15-4272-4919-BAF2-E3EB17B84740}" type="slidenum">
              <a:rPr b="0" lang="de-CH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TextBox 7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Box 10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10" descr="cefact_forum"/>
          <p:cNvPicPr/>
          <p:nvPr/>
        </p:nvPicPr>
        <p:blipFill>
          <a:blip r:embed="rId2"/>
          <a:stretch/>
        </p:blipFill>
        <p:spPr>
          <a:xfrm>
            <a:off x="417600" y="147600"/>
            <a:ext cx="8308800" cy="126540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dt" idx="2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ftr" idx="2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sldNum" idx="2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AEE2E-2687-4265-863B-86D9BDF93A19}" type="slidenum">
              <a:rPr b="0" lang="de-CH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extBox 7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Box 10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10" descr="cefact_forum"/>
          <p:cNvPicPr/>
          <p:nvPr/>
        </p:nvPicPr>
        <p:blipFill>
          <a:blip r:embed="rId2"/>
          <a:stretch/>
        </p:blipFill>
        <p:spPr>
          <a:xfrm>
            <a:off x="417600" y="147600"/>
            <a:ext cx="8308800" cy="126540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dt" idx="2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ftr" idx="2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sldNum" idx="2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DDF87-1065-4938-BD0E-938D35D55939}" type="slidenum">
              <a:rPr b="0" lang="de-CH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87040" y="2615760"/>
            <a:ext cx="736596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400" spc="-1" strike="noStrike">
                <a:solidFill>
                  <a:srgbClr val="1f497d"/>
                </a:solidFill>
                <a:latin typeface="Calibri"/>
              </a:rPr>
              <a:t>Report of rapporteur for Afr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subTitle"/>
          </p:nvPr>
        </p:nvSpPr>
        <p:spPr>
          <a:xfrm>
            <a:off x="1447920" y="3500280"/>
            <a:ext cx="6400800" cy="4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2400" spc="-1" strike="noStrike">
                <a:solidFill>
                  <a:srgbClr val="1f497d"/>
                </a:solidFill>
                <a:latin typeface="Calibri"/>
              </a:rPr>
              <a:t>Ibrahima DIAG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Rectangle 5"/>
          <p:cNvSpPr/>
          <p:nvPr/>
        </p:nvSpPr>
        <p:spPr>
          <a:xfrm>
            <a:off x="1981080" y="5943600"/>
            <a:ext cx="5029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1f497d"/>
                </a:solidFill>
                <a:latin typeface="Calibri"/>
                <a:ea typeface="Times New Roman"/>
              </a:rPr>
              <a:t>15 february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1f497d"/>
                </a:solidFill>
                <a:latin typeface="Calibri"/>
                <a:ea typeface="Times New Roman"/>
              </a:rPr>
              <a:t>UN/CEFACT 18th se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1f497d"/>
                </a:solidFill>
                <a:latin typeface="Calibri"/>
                <a:ea typeface="Times New Roman"/>
              </a:rPr>
              <a:t>Palais des Nations, Geneva, Switzerl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Recommandation 201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African Alliance SC in Douala December 1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xt ASEAL summit in Dakar Feb 2011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ernational forum on paperless Trade Dakar Feb 2011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ementing pilot projects of the African Alliance (2011 and 2012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reate a mutualised environment for paperless trade in Africa (digital signature, repository of M/X, e-Invoice Africa Project,.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Calibri"/>
              </a:rPr>
              <a:t>Activities 201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FRICAN ALLIANCE ACTIV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African Alliance SC– Douala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December 201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W international conference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June 201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r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frican Alliance SC– Dakar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June 201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SEAL summit – Dakar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June 201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alibri"/>
              </a:rPr>
              <a:t>rd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African Alliance General Assembl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– (Dec 11 Gv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frican Alliance SC- Geneva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December 201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Joint forum ASEAL-AAEC – Geneva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Dec 1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Calibri"/>
              </a:rPr>
              <a:t>Activities 201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THER REGIONAL ACTIVI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EMOA: Regional single window concept adoption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Ouagadougou – October 2011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NECA –AU: African ICT week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Addis Abeba – November 2011)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TPC Advisory board 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ccra - November 2011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Calibri"/>
              </a:rPr>
              <a:t>Activities 201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THER INTERNATIONAL ACTIVI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NESCAP: Asia pacific trade facilitation forum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Seoul -  October 2011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ADB workshop on single window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Washington – November 2011)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Calibri"/>
              </a:rPr>
              <a:t>Activities 201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UTCOME IN THE REG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AEC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ction plan and budget 2012-201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CS platform for AAEC memb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INGLE WINDOW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New projects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enya, Benin, Burkina Faso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, Rwand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Improved projects: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Cameroun, Senegal, Gha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Open projects: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thiopia, Mali, Tanzan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HALLENG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CK OF VISION ON TF THROUGH PAPERL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lution: Develop Guides based on best practices, standards, and ground experienc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CK OF AFRICAN CAPACITIES ON TF AND PL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lution: Regional  CB workshops and creation of an African branch of UNNEx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NDING PILOT PROJECTS AND AAEC ACTIVITI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lution: Prepare projects proposal and meet with dono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6T08:26:57Z</dcterms:created>
  <dc:creator>UNECE</dc:creator>
  <dc:description/>
  <dc:language>en-US</dc:language>
  <cp:lastModifiedBy>Kangur</cp:lastModifiedBy>
  <dcterms:modified xsi:type="dcterms:W3CDTF">2012-03-14T07:42:57Z</dcterms:modified>
  <cp:revision>77</cp:revision>
  <dc:subject>PPT Template</dc:subject>
  <dc:title>United Nations Economic Commssion for Europe</dc:title>
</cp:coreProperties>
</file>