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F62-99BC-4C05-8A03-98F2890D9B87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0A42-5C5C-48FE-B887-773B5AC663E6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2E7-547C-4243-B417-4591E3918A4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CCC4-E877-4250-8BE8-3A3132C751E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25B-CE1E-4A94-A1F9-88C7980659B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4EF-1A0D-4FBD-A088-7AAD8369C8F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36B4-F106-47B9-A888-03D147B7868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EF6-ED3B-4B97-B75B-A91AA486D80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8FA-CC75-4C46-8225-7945C99D506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4D64-C5BE-470D-9C9D-5E63902F9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4A98-A0DC-4E66-A70D-BA377D7F9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522C-03DB-4EDF-9534-134A6A8C9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9875-C36F-429A-B901-769D1EB71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EDB9-5B13-458C-A68D-893974728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E65B-E265-44A9-9B9E-D1D2D71CC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369B-A155-462F-A480-068DF1222D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389F-DCEF-441A-B6C1-C9CAA8620F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CF89-2EC1-4298-BC6C-BE018A6620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DD16-E7C0-42D1-91A8-11AF9A6B0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C1CE-DDF4-4C1D-B460-A0C353D94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076F-1FA3-4974-8594-ABABDB8A0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800B-9CE7-41C8-94C4-A683F61A8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329D-827E-4B6C-A945-7CDECA07ED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2756-1EFC-4A51-8682-294561C9B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2889-699A-4F20-B8E6-38F434CDAC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3982-6BE0-4017-8004-654C2CB6FE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A8BB-9265-4DA0-8745-05726F5F50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8C96-06BB-41E2-A15C-CB9DCA542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5E36-C6E5-431C-95FA-79693AED0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9126-9C0F-4340-B29A-B15C901C5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5D7D-E5AA-4FA4-A2C3-EAFBC3929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6CC5-CB45-4E1F-9905-BEECF07F2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81D3-F8B1-450D-8487-DDBF60CDF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8E6F-3126-4826-950E-A65A5E8A953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5194-C550-42A9-85A3-648451AC6F2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297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Bureau Programme Sup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486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0120" y="4343400"/>
            <a:ext cx="58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Peter Amstutz, Pier Alberto Cucino, Harm Jan van 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8840" y="804600"/>
            <a:ext cx="3668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u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utreach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a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fferent IPR policies to deal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dated list of liason offic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ason policy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056D-961F-4445-9BDD-04581B8CD9D7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F1E-1580-4D98-8761-434128208A8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066680" y="2209680"/>
            <a:ext cx="7391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ibrary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UN/EDIFACT, Core Component Library, XML Schem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delis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934-F2F3-45BE-9167-4C0FEF2777F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457200" y="1447920"/>
            <a:ext cx="82296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.11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3 Data Maintenance Requests (DMRs) pro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4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Approved with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6 Postp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ibrary validated and publi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B2C-367D-4196-9F62-8EB17DE4C47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457200" y="144792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.1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33 DMRs proc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5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5 Approved with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Postp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With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.1023 requires update prior to validation / 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0B3D-2C5F-4804-8960-75DCFF50632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457200" y="1447920"/>
            <a:ext cx="822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re Component Library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11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changed Core Component (CC) and 116 new Business Information Entities (B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armonized, validated, pu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1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41 new and changed BIEs proc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ssed QA /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ublication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E97C-D603-48D9-AECF-5337472AAEC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457200" y="1447920"/>
            <a:ext cx="82296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delist Mainte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8 DMRs for Recommendation 23 (Freight Cost Code) i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errors to be corrected in Recommendation 21 (Codes for Passengers, Types of cargo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011-2 of Recommendation 16 (UN/LOCODE) prepared for 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69EF-207E-4792-80D1-14597C3C42B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57200" y="144792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D.1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11A, 1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XML Schema 1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XML Schema 11B i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3577-2B3B-4EF9-8676-E87CD9DC6A1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57200" y="1447920"/>
            <a:ext cx="82296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D.11B requires update to R.10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EDIFACT DMR entry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CL errors identified during 11A (existed since CCL06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ill be addressed in CCL12A with controlled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ditional validation steps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57800" y="804600"/>
            <a:ext cx="3440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dated project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on to HOD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stser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ject work and collaboratio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coming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DEF-3D5C-4D24-848C-6C7B1356531B}" type="slidenum">
              <a:rPr b="0" lang="de-DE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7:14:47Z</dcterms:modified>
  <cp:revision>238</cp:revision>
  <dc:subject>PPT Template</dc:subject>
  <dc:title>United Nations Economic Commssion for Europe</dc:title>
</cp:coreProperties>
</file>