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DE59-9FA2-4A0F-87DE-57DD48C4D6D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B08D-3E3B-473A-A224-929C98419980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3D41-82EE-4E3E-A89F-3C462F00C4D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A541-CF0E-4105-8BD6-2A246AAB1A06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1E28-0FA5-47A5-A168-E1A9E409D2A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6997-E644-495E-9678-B9F3BD785A8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33F7-1135-46E9-9437-EC066C671ED2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3A9A-299B-4222-81CD-B89BD8444699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0A68-6771-4C7A-95A3-4F7EEB6F23D7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EBF0-862F-4D4D-8F02-C991E04EB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7591-DC24-4467-9E0E-E49CDB20F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501A-FBEA-403F-B876-E7B20BA4D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291D-789F-4205-A711-58B82463E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681D-D97C-4C77-B511-75A1DC5FF6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804A-D2CF-432B-A52D-7A84C66619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E928C-09F4-4B2F-9C07-9D1170F1E0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8239-E229-4532-BE7E-309F51315D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16D1-BE56-44EA-8F04-49C017AE4A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3E15-2973-4C2B-9F22-D144FDD5A5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20FC-E037-4B76-AEB7-A1F6C56C2C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B0B1-9B87-42C3-8439-CEE8E3738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A141-E3D2-4E3F-A48D-E8457B244D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D3C8-92F8-43AC-A0BA-478191ECB8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9A47-006C-4EED-B5AA-9749843327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4CDA-BB86-44CA-9E16-3222516658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A9AB-6B95-4BF3-8A80-422F4B8E7A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E909-4DC9-4047-9EDE-81EAF8EF97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6581-60B1-4A06-8B05-877536EB6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0D5A-849B-4462-A032-B23978EA0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B392-9FCA-4EA6-A28C-8AEBB4D80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E69E-D6F5-423A-A192-F48DC8F6E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A1E5-61EF-4ED5-BCAD-B20C48EE0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F955-A091-408F-BD96-08F0A6FC7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6AE2-CB8D-41CF-A5D6-127CFB41DE8E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3922-6D08-4003-A79E-7DCA7CD3C81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7160" y="297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Bureau Programme Sup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743200" y="5486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0120" y="4343400"/>
            <a:ext cx="58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Arial"/>
              </a:rPr>
              <a:t>Peter Amstutz, Pier Alberto Cucino, Harm Jan van 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8840" y="804600"/>
            <a:ext cx="3668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rum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utreach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ia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fferent IPR policies to deal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pdated list of liason offic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iason policy and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0340-4101-4B59-BB1D-D2C99C22ED55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FA5C-46E4-4548-813B-292C16220B92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066680" y="2209680"/>
            <a:ext cx="7391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Library 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UN/EDIFACT, Core Component Library, XML Schem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delist 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D946-291E-402A-8425-112AC5FFC0A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457200" y="1447920"/>
            <a:ext cx="82296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EDIFACT 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.11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3 Data Maintenance Requests (DMRs) proc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4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Approved with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6 Postp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Library validated and publi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298A-9EE8-43EF-8BF8-ACC8219D2F9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457200" y="1447920"/>
            <a:ext cx="8229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EDIFACT 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.11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33 DMRs proc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5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5 Approved with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 Postp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Withdr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.1023 requires update prior to validation / pub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E30B-C545-46C5-93CE-9E5BF219682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457200" y="1447920"/>
            <a:ext cx="82296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re Component Library 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CL 11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 changed Core Component (CC) and 116 new Business Information Entities (B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armonized, validated, pu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CL 11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41 new and changed BIEs proc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assed QA /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ublication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B144-42F2-4026-AA93-D6A57199FE2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457200" y="1447920"/>
            <a:ext cx="82296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delist 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8 DMRs for Recommendation 23 (Freight Cost Code) i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errors to be corrected in Recommendation 21 (Codes for Passengers, Types of cargo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011-2 of Recommendation 16 (UN/LOCODE) prepared for pub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2507-C31A-432F-AFB1-47C6586E0B3F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57200" y="144792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EDIFACT D.11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CL 11A, 11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XML Schema 11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XML Schema 11B i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579A-6481-4950-97D4-21A6CED9A9F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457200" y="1447920"/>
            <a:ext cx="82296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571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EDIFACT D.11B requires update to R.10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571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EDIFACT DMR entry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571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CL errors identified during 11A (existed since CCL06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571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ill be addressed in CCL12A with controlled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571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dditional validation steps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571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57800" y="804600"/>
            <a:ext cx="3440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pdated project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munication to HOD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istser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ject work and collaboration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pcoming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30A9-A197-4D74-A401-FC5536A03FB7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Kangur</cp:lastModifiedBy>
  <dcterms:modified xsi:type="dcterms:W3CDTF">2012-02-15T07:14:47Z</dcterms:modified>
  <cp:revision>238</cp:revision>
  <dc:subject>PPT Template</dc:subject>
  <dc:title>United Nations Economic Commssion for Europe</dc:title>
</cp:coreProperties>
</file>