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3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ftr" idx="3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 type="sldNum" idx="3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AA2B9-46A4-4C14-8C6C-F74B58381A7A}" type="slidenum">
              <a:rPr b="0" lang="de-CH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BEF92-4F90-435B-AD01-51586686A132}" type="slidenum">
              <a:rPr b="0" lang="de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FB06E-132C-4E3F-B8EE-4A55B7021C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71E3E-B555-420F-A3FF-83BD35B44D62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492A13-ED7D-4332-B4C0-0E667DEA4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269C73-903F-4605-93F8-50DAD70B8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8A2D63-DCFE-4A1E-A2D6-FC0C5545F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F213E4-DCA0-4556-80DB-BB463C74C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CE8F56-D30F-4C9F-B977-39BE761DD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27CD65-B7A4-425D-A38F-DD274214E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F3A8DF-2F5F-49B7-BDA8-A4DD854D6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29E0F6-5835-4A8C-9E13-86DF46BC0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F6BCD0-A517-402B-B3F6-262178188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FE88A6-0F01-4BE9-AAB9-D85208268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2E385-218E-465A-B708-661613DD6FE0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DCD4ED-2950-4EA4-847F-A71D376D1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BF8118-D20F-421C-A27B-0E24DB527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36E366-EC69-4747-BED8-F46EBD7EC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836B2C-E631-4431-BA20-E129A4C9C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39632A-43FC-4927-9428-B551FB8C7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48003E-B548-4A46-8103-ECC76F49F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778672-169F-4530-B747-2B331CBA0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D129AF-D33B-47F0-BE7D-0CF2CDE7E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6BAB2F-9BA2-435A-BEB8-5711922D2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24B496-40D6-4108-BFE2-881BFA446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6F814-7C6A-4F36-83DE-FDEFB9DA5006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32445D-5352-4A04-ADAD-7D76DD241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D1D16D8-DD6C-4A61-97FE-FF3889ABC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1C67F49-28FD-474A-B059-007B4DD12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43BEAB0-659A-4AAB-ABD3-64F620AA3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6535E5F-D05D-4B95-B650-296F0F040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C17B059-A570-429F-9A37-4E4AC73B7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805C6A9-D714-45EF-B1AB-8990BEC38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8BD8C7B-46C8-46E8-9A11-4BFD22394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179D48A-CF9A-4170-8F27-FD7475DC0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C6252D3-0BBA-419F-92F7-A095F6F75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1A20CA-31E6-4812-A0DF-54CBD31B9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63C6D5C-09DF-4E72-A5A6-87D3AFE21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2BE7009-72D9-4E43-9833-8B84B21F5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D7C0E1A-707D-4EBC-A029-F0A59FA52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3A6973-E87E-4389-ACD8-52F81C6AE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5581CA-87DE-49CA-B735-7094311A0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D57993-E877-4E17-9C9F-38920F7CC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BADD9E-87EE-4781-8A06-D42B9688B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8F66C4-6961-4869-BC58-0FEC433CD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A41412-6911-48D1-A6BF-3EF80234E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12B99-8032-4CC3-99EA-BA77269EBF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9D3F8F-8156-445A-986A-26509EF26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6F6FCF-ED2A-46D6-A99F-EE5D04505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1C02C5-87CD-4EBB-90FF-3E86B2E0D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9A3FCA-0564-42A4-ADAD-CE3C6B9AA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C3E0A3-3AC5-44C2-B6F9-A71D219C8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593FC6-E27F-4CAE-B29A-2802DBDE2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E30C99-AA18-4C34-8EFD-3BBAE900C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EA78D0-6BCE-4BDA-A5A1-29F925C76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5071EF-3ADD-4FF4-8DAB-E7F7CBD33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B034C6-763D-447B-9D53-7A78693FB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C75C8-2EE7-40CC-99CE-F573DB09737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D142EF-54B8-436C-BF53-2D13A3358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1AE882-A821-44C1-AABF-818260551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610EB8-5912-4CA8-B858-6DA0199A0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DF7E77-4D6C-4402-A761-C37FBE7B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269FEF-8C33-48C9-A1AF-DEC5984AB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1D4407-AC02-42AA-85A7-2839346BF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CEE92B-7D90-46FB-A3CE-5F70B60B0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AB68E6-0829-405D-BA23-E8E3C814F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FEF785-E34D-43E0-804F-3A0947A42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5BC88A-B900-46A3-A9A6-248F7EA6B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E93AB-279D-4F77-91C6-5282B01E798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7FB98E-DBFD-4BED-9DB1-DE5C39C32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FC7B29-2B81-4373-9296-A734853C7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4C902B-5311-4671-ADF1-31AC7610F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73B43B-9332-451E-A560-9F5F624BD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32B3C6-0C86-433F-A208-2EDF996A1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D8D37D-54BB-4933-9B27-4993ECBCB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CAE110-335C-40C9-ABE4-2A063CDA9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157A7B-6361-4894-A3C0-25433ECEE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F7AB1B-7EF3-4C4F-A7B5-7C03C8DFB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FC90089-1955-4DF2-959D-AF62262C5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7B3D4-FD6C-453C-AB18-10C92C0AE1D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4D886D8-1DBE-45FB-8806-C69117830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FF4711A-2683-47D2-8ED8-40F5C59B5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74D2907-E30A-475D-B5FE-835587869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685F7C7-655E-4856-A143-5A1F13228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0BA76C0-3966-44F8-B38A-FC8367061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FBBFFFB-0FA0-4D43-86FC-6B3378E5A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9D2BE85-1337-4B2C-9B30-DD515F4A6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A0A1669-69F5-469E-A984-7585255AA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213847E-FA1B-49BC-8DCB-03456E383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E7FBE73-E3C0-4731-B874-BC6B5B180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B8C54-EDE0-4D34-A096-FA797AD2636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56792F3-63A0-4EB5-8B2E-AF531150C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B6DA74A-2AAF-450D-BDF2-DDD12E998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4C7552A-0501-4480-9753-DB3676FC1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FFAE1E4-46EA-46B5-B801-82E29AABF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1CFDDF0-838F-4CE5-B64F-2F10A3187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B4F034D-806D-4A12-AEE3-EF8DB293E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743E685-B529-483B-ACEA-FD0ABCA1E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72B15A6-063B-4964-B532-D8762836E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DF22C64-34C1-4D89-AF4E-47B7B86B5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ECAE112-F3C5-4C1A-8800-C468DC2F4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86553-384C-40C6-850B-460CB132A7D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6968A40-972B-4CBB-A927-D7D711B57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1756B56-51DA-439A-BC05-6345D8A7D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32C89FE-46C5-426B-A76E-1122FA56C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84E9126-6936-4B31-81A1-5854EDC71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EB48607-6172-4C78-9267-D34EFEFEA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F92BE1B-385D-4A4D-A476-65D5C3B88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42446EA-DB58-4957-B0EB-72AF39366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407991C-98DD-47E0-8D7E-18DC3E377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5D69568-4C9E-4FF4-BC64-33E8DBE46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0A15949-858E-4EB8-879D-5FBE5CD92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4F9C1-1EA6-4117-9960-6C9858B6CBE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85892B1-FA2F-4ACD-B190-7B613C980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EC02358-7F7D-4076-AEFE-910022E30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80BFCAE-ACAE-4508-A3BB-B61FA8257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33105F0-706D-456A-823A-259578439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CA1B0E8-8FDB-47ED-8B28-F83CAA541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476559B-74F6-4D01-BF0B-E4C8E2733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1930B8A-2D6A-4BAD-8FC6-9F2F0A3CE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D3DDAC3-05FE-4B80-9D68-761277DB6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27ED125-8242-492F-8C7C-F88920505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C4E4C8E-337D-47EC-AFA0-FFF909BF3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28964-23CD-43C6-98AE-BC6D0CAC7438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9A519B9-B897-4B4B-BDA8-DAAB704B8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F5F7A53-D0E3-4B06-9C72-18401139E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FD7CFAA-B787-41AF-9DBC-8CB95F09C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AB70B2F-2905-4C31-8FEA-CF6867748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F24392A-33CD-4022-A94E-A9FF87323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7237005-9B31-4AA0-87D5-20E35E40D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D9E5180-539A-4E38-8499-073193115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12D8A7-E7B6-4D41-A0F8-7264D919A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18ADD4-3E2F-40C7-95BD-3593995F3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6790F2-34D5-4DB0-960A-2B5371728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2AF36-D9B9-46F4-9CF1-7EA76A5B5B30}" type="slidenum">
              <a:rPr b="0" lang="de-CH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dt" idx="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15-17 February 20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lais des Nations, Gene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04B1E-0D69-4132-B954-FC9B33989CE8}" type="slidenum">
              <a:rPr b="0" lang="de-CH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dt" idx="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15-17 February 20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ftr" idx="3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lais des Nations, Gene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sldNum" idx="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24E56-8BD4-409C-B973-1FE406984FBC}" type="slidenum">
              <a:rPr b="0" lang="de-CH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8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cefact_forum"/>
          <p:cNvPicPr/>
          <p:nvPr/>
        </p:nvPicPr>
        <p:blipFill>
          <a:blip r:embed="rId2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15-17 February 20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lais des Nations, Gene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A542B-03E7-45F6-A824-44392A978280}" type="slidenum">
              <a:rPr b="0" lang="de-CH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15-17 February 20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lais des Nations, Gene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91D9D-6A97-4882-8443-6F7DAFB93F5F}" type="slidenum">
              <a:rPr b="0" lang="de-CH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15-17 February 20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lais des Nations, Gene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58270-5D10-4BB9-BF2C-975BE7D3FA3E}" type="slidenum">
              <a:rPr b="0" lang="de-CH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15-17 February 20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lais des Nations, Gene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13606-51DB-45D4-B122-D5836DC0FEC1}" type="slidenum">
              <a:rPr b="0" lang="de-CH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15-17 February 20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lais des Nations, Gene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99B96-BD6B-49CC-952D-C457B41FAED7}" type="slidenum">
              <a:rPr b="0" lang="de-CH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15-17 February 20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lais des Nations, Gene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583C6-4670-4101-8767-EA6B113CAD33}" type="slidenum">
              <a:rPr b="0" lang="de-CH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15-17 February 20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lais des Nations, Gene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8075C-F852-4FDB-B406-79C97342CF8C}" type="slidenum">
              <a:rPr b="0" lang="de-CH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dt" idx="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15-17 February 20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lais des Nations, Gene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CADC9-6226-45A5-85EA-B40034DFBA4E}" type="slidenum">
              <a:rPr b="0" lang="de-CH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4360" y="1773360"/>
            <a:ext cx="7772400" cy="15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4a8"/>
                </a:solidFill>
                <a:latin typeface="Palatino"/>
              </a:rPr>
              <a:t>18</a:t>
            </a:r>
            <a:r>
              <a:rPr b="1" lang="en-US" sz="3600" spc="-1" strike="noStrike" baseline="30000">
                <a:solidFill>
                  <a:srgbClr val="0054a8"/>
                </a:solidFill>
                <a:latin typeface="Palatino"/>
              </a:rPr>
              <a:t>th</a:t>
            </a:r>
            <a:r>
              <a:rPr b="1" lang="en-US" sz="3600" spc="-1" strike="noStrike">
                <a:solidFill>
                  <a:srgbClr val="0054a8"/>
                </a:solidFill>
                <a:latin typeface="Palatino"/>
              </a:rPr>
              <a:t> UN/CEFACT PLENAR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971640" y="3047760"/>
            <a:ext cx="7200720" cy="326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4a8"/>
                </a:solidFill>
                <a:latin typeface="Palatino"/>
              </a:rPr>
              <a:t>Methodology &amp; Techn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4a8"/>
                </a:solidFill>
                <a:latin typeface="Palatino"/>
              </a:rPr>
              <a:t>Programme Development Are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4a8"/>
                </a:solidFill>
                <a:latin typeface="Palatino"/>
              </a:rPr>
              <a:t>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54a8"/>
                </a:solidFill>
                <a:latin typeface="Palatino"/>
              </a:rPr>
              <a:t>Peter Amstutz &amp; Tim McGrat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54a8"/>
                </a:solidFill>
                <a:latin typeface="Palatino"/>
              </a:rPr>
              <a:t> </a:t>
            </a:r>
            <a:r>
              <a:rPr b="1" lang="en-US" sz="2000" spc="-1" strike="noStrike">
                <a:solidFill>
                  <a:srgbClr val="0054a8"/>
                </a:solidFill>
                <a:latin typeface="Palatino"/>
              </a:rPr>
              <a:t>UN/CEFACT Plenary Vice Chai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15-17 February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alibri"/>
              </a:rPr>
              <a:t>Palais des Nations, Gen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Afgeronde rechthoek 7"/>
          <p:cNvSpPr/>
          <p:nvPr/>
        </p:nvSpPr>
        <p:spPr>
          <a:xfrm>
            <a:off x="1476360" y="1103400"/>
            <a:ext cx="2209680" cy="3808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Calibri"/>
              </a:rPr>
              <a:t>PROGRAMME DEVELOPMENT ARE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Afgeronde rechthoek 12"/>
          <p:cNvSpPr/>
          <p:nvPr/>
        </p:nvSpPr>
        <p:spPr>
          <a:xfrm>
            <a:off x="4343400" y="838080"/>
            <a:ext cx="4267080" cy="381240"/>
          </a:xfrm>
          <a:prstGeom prst="roundRect">
            <a:avLst>
              <a:gd name="adj" fmla="val 16667"/>
            </a:avLst>
          </a:prstGeom>
          <a:solidFill>
            <a:srgbClr val="77933c"/>
          </a:solidFill>
          <a:ln w="25560">
            <a:solidFill>
              <a:srgbClr val="d7e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Calibri"/>
              </a:rPr>
              <a:t>PROJECT 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Afgeronde rechthoek 5"/>
          <p:cNvSpPr/>
          <p:nvPr/>
        </p:nvSpPr>
        <p:spPr>
          <a:xfrm>
            <a:off x="93600" y="1557360"/>
            <a:ext cx="1219320" cy="514836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5148360"/>
              <a:gd name="textAreaBottom" fmla="*/ 5088960 h 5148360"/>
            </a:gdLst>
            <a:ahLst/>
            <a:rect l="textAreaLeft" t="textAreaTop" r="textAreaRight" b="textAreaBottom"/>
            <a:pathLst>
              <a:path w="21600" h="91182">
                <a:moveTo>
                  <a:pt x="3600" y="0"/>
                </a:moveTo>
                <a:arcTo wR="3600" hR="3600" stAng="16200000" swAng="-5400000"/>
                <a:lnTo>
                  <a:pt x="0" y="87582"/>
                </a:lnTo>
                <a:arcTo wR="3600" hR="3600" stAng="10800000" swAng="-5400000"/>
                <a:lnTo>
                  <a:pt x="18000" y="911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ce Ch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eter Amstut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im McGra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Afgeronde rechthoek 7"/>
          <p:cNvSpPr/>
          <p:nvPr/>
        </p:nvSpPr>
        <p:spPr>
          <a:xfrm>
            <a:off x="1258920" y="1557360"/>
            <a:ext cx="2160720" cy="4103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4103640"/>
              <a:gd name="textAreaBottom" fmla="*/ 3998160 h 4103640"/>
            </a:gdLst>
            <a:ahLst/>
            <a:rect l="textAreaLeft" t="textAreaTop" r="textAreaRight" b="textAreaBottom"/>
            <a:pathLst>
              <a:path w="21600" h="41019">
                <a:moveTo>
                  <a:pt x="3600" y="0"/>
                </a:moveTo>
                <a:arcTo wR="3600" hR="3600" stAng="16200000" swAng="-5400000"/>
                <a:lnTo>
                  <a:pt x="0" y="37419"/>
                </a:lnTo>
                <a:arcTo wR="3600" hR="3600" stAng="10800000" swAng="-5400000"/>
                <a:lnTo>
                  <a:pt x="18000" y="4101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6600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thod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fgeronde rechthoek 12"/>
          <p:cNvSpPr/>
          <p:nvPr/>
        </p:nvSpPr>
        <p:spPr>
          <a:xfrm>
            <a:off x="1332000" y="5791320"/>
            <a:ext cx="7812000" cy="106668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d7e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Calibri"/>
              </a:rPr>
              <a:t>Domai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alibri"/>
              </a:rPr>
              <a:t>Business Process and Core Components Methodology, UN/EDIFACT, XM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254061"/>
                </a:solidFill>
                <a:latin typeface="Calibri"/>
              </a:rPr>
              <a:t>Validation, Harmonisation, Library maintenance, Library 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fgeronde rechthoek 12"/>
          <p:cNvSpPr/>
          <p:nvPr/>
        </p:nvSpPr>
        <p:spPr>
          <a:xfrm>
            <a:off x="3425760" y="1341360"/>
            <a:ext cx="5724720" cy="4267440"/>
          </a:xfrm>
          <a:prstGeom prst="roundRect">
            <a:avLst>
              <a:gd name="adj" fmla="val 16667"/>
            </a:avLst>
          </a:prstGeom>
          <a:solidFill>
            <a:srgbClr val="77933c"/>
          </a:solidFill>
          <a:ln w="25560">
            <a:solidFill>
              <a:srgbClr val="d7e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58"/>
          <p:cNvSpPr/>
          <p:nvPr/>
        </p:nvSpPr>
        <p:spPr>
          <a:xfrm>
            <a:off x="3419640" y="1927080"/>
            <a:ext cx="576072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on Business Process Catalog Specific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e Component Business Document Assembl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e Component Technical Spec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work for building Catalog of Common Business Process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gration to CCTS 3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 for XML documents and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ML Profile for Core Compon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ext Method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eling Methodolog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Document Head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/CEFACT XML Naming and Design Rules 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ML For CC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ounded Rectangular Callout 1"/>
          <p:cNvSpPr/>
          <p:nvPr/>
        </p:nvSpPr>
        <p:spPr>
          <a:xfrm>
            <a:off x="108000" y="5229360"/>
            <a:ext cx="2087640" cy="1008000"/>
          </a:xfrm>
          <a:prstGeom prst="wedgeRoundRectCallout">
            <a:avLst>
              <a:gd name="adj1" fmla="val 35879"/>
              <a:gd name="adj2" fmla="val 73837"/>
              <a:gd name="adj3" fmla="val 16667"/>
            </a:avLst>
          </a:prstGeom>
          <a:solidFill>
            <a:srgbClr val="646486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ow to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responsible fo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68000" y="1699920"/>
            <a:ext cx="8064360" cy="576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504d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</a:rPr>
              <a:t>PROJECT STAT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38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437040" indent="-437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Palatin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latino"/>
              </a:rPr>
              <a:t>CCTS 3.0 mig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77240" indent="-437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Core Component Library 3.0 under Q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77240" indent="-437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e-tendering, CFEM, CII 3.0 for public review April 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7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latino"/>
              </a:rPr>
              <a:t>2. Security for XML documents and Messages (SDDI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77240" indent="-437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Project team has completed its ta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77240" indent="-437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Discussion under separate agenda i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7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latino"/>
              </a:rPr>
              <a:t>3. Maintenance of Code Li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77240" indent="-437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Procedures under review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71280" indent="-19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</a:rPr>
              <a:t>Rec 21 and Rec 23 will be submitted for intersessional approval in the course of 20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77240" indent="-437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Publication as XML (11B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Rectangle 4"/>
          <p:cNvSpPr/>
          <p:nvPr/>
        </p:nvSpPr>
        <p:spPr>
          <a:xfrm>
            <a:off x="3827520" y="61246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1"/>
          <p:cNvSpPr/>
          <p:nvPr/>
        </p:nvSpPr>
        <p:spPr>
          <a:xfrm>
            <a:off x="5562720" y="60948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"/>
              </a:rPr>
              <a:t>Methodology &amp; Technology P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Date Placeholder 1"/>
          <p:cNvSpPr/>
          <p:nvPr/>
        </p:nvSpPr>
        <p:spPr>
          <a:xfrm>
            <a:off x="457200" y="65689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800" spc="-1" strike="noStrike">
                <a:solidFill>
                  <a:srgbClr val="000000"/>
                </a:solidFill>
                <a:latin typeface="Arial"/>
              </a:rPr>
              <a:t>15-17 February 20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Footer Placeholder 2"/>
          <p:cNvSpPr/>
          <p:nvPr/>
        </p:nvSpPr>
        <p:spPr>
          <a:xfrm>
            <a:off x="3124080" y="65689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lais des Nations, Genev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68000" y="1699920"/>
            <a:ext cx="8064360" cy="576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504d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</a:rPr>
              <a:t>PROJECT STAT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8229600" cy="38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latino"/>
              </a:rPr>
              <a:t>4. Publication of UN/EDIFACT D.11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Update to R.1023 requir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Published in April 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latino"/>
              </a:rPr>
              <a:t>5. Business Document Heade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Draft for review by April 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latino"/>
              </a:rPr>
              <a:t>6. Core Component Business Document Assemb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First public review immin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latino"/>
              </a:rPr>
              <a:t>7. Context Methodology v 2.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Extending implementation verification peri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Rectangle 4"/>
          <p:cNvSpPr/>
          <p:nvPr/>
        </p:nvSpPr>
        <p:spPr>
          <a:xfrm>
            <a:off x="3827520" y="61246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Box 1"/>
          <p:cNvSpPr/>
          <p:nvPr/>
        </p:nvSpPr>
        <p:spPr>
          <a:xfrm>
            <a:off x="5562720" y="60948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"/>
              </a:rPr>
              <a:t>Methodology &amp; Technology P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800" spc="-1" strike="noStrike">
                <a:solidFill>
                  <a:srgbClr val="000000"/>
                </a:solidFill>
                <a:latin typeface="Arial"/>
              </a:rPr>
              <a:t>15-17 February 20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lais des Nations, Genev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6T08:26:57Z</dcterms:created>
  <dc:creator>UNECE</dc:creator>
  <dc:description/>
  <dc:language>en-US</dc:language>
  <cp:lastModifiedBy>onu</cp:lastModifiedBy>
  <dcterms:modified xsi:type="dcterms:W3CDTF">2012-02-14T16:09:47Z</dcterms:modified>
  <cp:revision>252</cp:revision>
  <dc:subject>PPT Template</dc:subject>
  <dc:title>United Nations Economic Commssion for Europe</dc:title>
</cp:coreProperties>
</file>