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9005-0D11-4A9A-AEDA-BF45382A6298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73CE-3E8B-4588-AC52-3EA4D3798A07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47F4-DFB4-4897-9E3E-6B8AC5AB4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2F37-FFA4-47E8-BA36-C7E96756459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560B3-966C-4D7C-A885-841B799F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F4D51-9EA0-40BD-B429-D7CD52C9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BF7D4-30C2-4C7E-BE22-B6E21743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161ED-0559-4B63-834B-F1D6A4E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3856D-24CB-4DEA-8A5C-1C3F432C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AD264-8BF2-45F3-B91E-056B97E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5800C-7620-4D07-B1C6-032BCBFF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A37F1-F75F-4A78-B884-F39487F6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10C04-EDEF-4106-B7D7-7CEEC90D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495D5-34E2-4152-B3F9-DD25C82A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B7F0-96F8-4B4A-8BC4-B6527723BC6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BC68B-841D-44D6-A7BC-0F39243A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C3829-63DF-4CAE-BC4A-F00B82C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38AA4-98B1-4E67-B52F-228ED4A2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A0F66-2CAF-4E55-BC98-283934F8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15625-5AE8-469B-BA91-5A43D3E7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6BFE4-11DB-43DB-95D1-672E5F0F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D35EA-4288-4CE2-81A0-6E2CD93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84896-E711-4A49-B145-F439EEE7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2504A-1EB8-490E-9492-7CC001B2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BBCE2-24DE-47C4-A25E-410F7325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93CE-A6A3-4944-9638-6C76EE4FE47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F816B-7E5E-4400-AA1F-ACB3DA61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D9FFBB-B8B7-4E8F-BF4F-778B186B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9A3412-BF23-480F-85D3-1CE9CA8A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96D3B1-0BFB-447F-BAAF-D43EF806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A540C4-5F61-4D0C-AE4B-BB3CA26F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42FE6E-4D32-4CC4-A5B0-82763013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0A5E51-07BD-411E-805A-58FE4021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A8BA32-AAF3-4F5B-89D8-C730FD07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FEEAB8-075F-4D2D-9771-CB95A36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76801A-CFA8-4CA1-9DA5-51CC0D9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D6920-0AB9-4989-AFBD-61E9FAC4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B674B1-879B-4629-AD9F-457C00F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E69BE2-2899-4753-B84B-C4242AF6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FB33BB-C64E-417B-AB0B-5137A421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587F-ED1F-45E4-BD8F-7AAF490E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AEC53-D318-41DD-AC4D-D75AB4E6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D3A52-1664-4D3D-82B6-8A7A4919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1CAFA-958C-4F46-B48D-EB4710C1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652DE-A62D-45F8-8345-C8E0094F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0E763-92DC-41CA-9A18-466C3D2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5CD3-E441-4ED2-A04B-901C802C5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FE4AC-49E2-4985-9C2F-032D5BC0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D0DE4-5D7A-4120-A621-D8A04916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A36C9-A4CA-4C62-9513-440D9FB5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576CC-1C3C-48BB-AFD2-C07EED36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F7C5A-2814-4A93-BCE8-B69987E4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38496-5BC4-42E6-B7AC-ED31345B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2733D-184B-4FF2-A4B6-217E96C1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BF723-48B8-4DA3-85C2-AFA04A1A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BAC1D-923E-4E0D-98C5-B86DA753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007EF-1EB7-4250-82A2-FA695639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9216-F9EE-496D-AE69-F2CDB4DBAB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9D331-5879-4F43-8133-BD79B5AF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CDF499-0AFC-4ACE-B345-CDF7071C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CF1846-1362-4347-A77F-41FDF386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95A4EC-C8A2-4188-B968-1270000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57395-CE16-4908-9496-17A162C4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BB0F02-4314-4A99-BBD0-026EFC13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A9AD6B-57E5-4FAB-B86D-BD7D0748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62CFA-D5AA-42F3-A6FF-113316B5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43D36-86B0-49B9-83F1-94C94FF5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6D67F-92B3-49F2-8ED6-D70D5EEF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B50D-5675-4D59-804B-CBC25DEEA9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E831E-65C3-4C61-8230-81DFBDB9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2A284-B710-4882-9F7C-37CE7F5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78A4D-8644-4ED2-A5BE-FB47E36E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E1568-009E-45A6-8506-B4F0F809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CEB9E8-73BD-4190-941D-78F9637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6CBB2-96DB-4A95-B15C-A1F57523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D5C08-C0B2-487A-A269-066C5BDB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1241F-5497-4D96-A782-07411405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D7311-591B-4F84-B172-19AB643A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9C2ECA-108E-4645-8D5C-92747A5C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2F09-1413-4561-8E5C-0BEB8D36C0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7C7C46-1B9E-49CD-A89C-24F299B9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0B2D75-0903-4359-8B4A-FCB2CF93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B1C3A3-98DD-480A-B644-292D8E4B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FFBF1F-C188-4D01-89B9-EA47A218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75B261-ED96-4175-B461-C6E898EF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B8D39B-2C3C-4DD5-888E-C35A0042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6727BF-D193-493A-9072-C613ADF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FEE739-1CCD-4550-B45A-BC271E5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7C6CE-DC81-4BFC-863F-74C746B4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E2971E-142F-4218-B365-48A679CD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9648-8B9B-48C1-BD5B-782058295C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8C0E5F-33DB-471F-A735-DED60426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C1A9F0-FF12-4C0A-9D44-21B8F88F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24A2B8-3B63-4D63-AD54-C623ABDE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BB5EF1-0477-478C-A100-D4988FAA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82266C-C20C-46EE-BAB8-F0B4D8FF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BAE59F-A4C3-4CFC-9644-0656E188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6E080-61C6-4D05-B1A0-813D4B6C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C98CA-FBCB-4C04-A330-66F5369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7860DE-56EC-4440-A7BF-997DA28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ADB97F-0E89-485B-8111-E34E7CE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0F80-3188-439E-AC3F-8B0C600B2E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5C9D38-243D-44EC-B3B1-AB55CA0B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14CE5-46E0-4DFC-B57C-052FCE73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55A14-4825-414F-AAFF-128C2E9F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B2AFC1-6FA2-4897-ACCB-62384D33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EB9723-9327-4D95-88A7-F53A3BB5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6D4B13-8A2F-493D-BEFC-AC4EBEDB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293C93-1CA2-4267-A5B6-AF666101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BEF588-0D4D-430F-894E-CCD02CE0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076983-5C59-44B2-886F-34FC7A5B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37F334-A234-4AE4-888F-B70586F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8793-8A9E-4835-BF9C-55A96F54FC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76EA06-44DE-4B01-A90C-333328D7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F0C598-4D9E-4C15-A2E6-AC1E442F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E69DD5-B55B-4690-9013-C2F0A451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E0DC06-AD55-4EF0-9FDB-7A52778F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57FE5D-CD47-427E-B8F4-A7D235A9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E08F8-EAD4-4F00-B038-74BC657F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FB61DE-DEB1-4203-A356-343FF219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AEC26E-55C1-47FF-8101-10A15511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76C38-5068-4242-856D-6E8E46A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92E8EB-3E28-4E1E-9D26-22A01BB1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A01D-E24E-4408-9B6B-FBFB37F038C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36581B-5948-4250-8A3B-A2311B45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CBCD3E-9991-47F7-8DFE-D5587345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592269-7933-4B6D-905E-51C06D2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F71F14-B214-4F89-8BEF-F644778E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3ADF3-6939-42E3-969F-3A9BFD2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0C2C99-7A25-4D15-B738-56D77DDB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7ABEA1-72A3-4532-9D5E-3E02D87B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6BC82-5BB8-43E7-853F-152EF947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147EF-B8B0-4F2A-A397-FC080278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13789-190D-4A6D-A3F0-1C6D098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9C67-4583-49CA-9348-F787574A9BF3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FC41-526C-4DD4-AB7C-F524063A4138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DF00-D417-4EF0-8319-1CCDAB592908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20B8-3380-46D2-94C5-8DE95B253645}" type="slidenum">
              <a:rPr b="0" lang="de-CH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5DD9-7E01-4D65-8800-B6DA9E8C561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0A4-EE3C-4516-AC80-F4C34F5F95E3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9D2A-3BB1-46AE-9F8D-9BD48AA4966F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1C67-935C-4EE4-8AD8-2D57D63D3CE2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2336-282F-4E93-9AD1-DCCE1956D77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076F-03B2-45BD-B908-C179E54391A1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D441-0636-414C-BE03-AD997C7BB9C1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PLEN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Methodology &amp;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Programme Developm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Peter Amstutz &amp; Tim McGr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 </a:t>
            </a: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UN/CEFACT Plenary Vice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fgeronde rechthoek 7"/>
          <p:cNvSpPr/>
          <p:nvPr/>
        </p:nvSpPr>
        <p:spPr>
          <a:xfrm>
            <a:off x="1476360" y="1103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fgeronde rechthoek 12"/>
          <p:cNvSpPr/>
          <p:nvPr/>
        </p:nvSpPr>
        <p:spPr>
          <a:xfrm>
            <a:off x="4343400" y="8380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fgeronde rechthoek 5"/>
          <p:cNvSpPr/>
          <p:nvPr/>
        </p:nvSpPr>
        <p:spPr>
          <a:xfrm>
            <a:off x="93600" y="1557360"/>
            <a:ext cx="1219320" cy="514836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5148360"/>
              <a:gd name="textAreaBottom" fmla="*/ 5088960 h 5148360"/>
            </a:gdLst>
            <a:ahLst/>
            <a:rect l="textAreaLeft" t="textAreaTop" r="textAreaRight" b="textAreaBottom"/>
            <a:pathLst>
              <a:path w="21600" h="91182">
                <a:moveTo>
                  <a:pt x="3600" y="0"/>
                </a:moveTo>
                <a:arcTo wR="3600" hR="3600" stAng="16200000" swAng="-5400000"/>
                <a:lnTo>
                  <a:pt x="0" y="87582"/>
                </a:lnTo>
                <a:arcTo wR="3600" hR="3600" stAng="10800000" swAng="-5400000"/>
                <a:lnTo>
                  <a:pt x="18000" y="91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ter Amst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fgeronde rechthoek 7"/>
          <p:cNvSpPr/>
          <p:nvPr/>
        </p:nvSpPr>
        <p:spPr>
          <a:xfrm>
            <a:off x="1258920" y="1557360"/>
            <a:ext cx="2160720" cy="4103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4103640"/>
              <a:gd name="textAreaBottom" fmla="*/ 3998160 h 4103640"/>
            </a:gdLst>
            <a:ahLst/>
            <a:rect l="textAreaLeft" t="textAreaTop" r="textAreaRight" b="textAreaBottom"/>
            <a:pathLst>
              <a:path w="21600" h="41019">
                <a:moveTo>
                  <a:pt x="3600" y="0"/>
                </a:moveTo>
                <a:arcTo wR="3600" hR="3600" stAng="16200000" swAng="-5400000"/>
                <a:lnTo>
                  <a:pt x="0" y="37419"/>
                </a:lnTo>
                <a:arcTo wR="3600" hR="3600" stAng="10800000" swAng="-5400000"/>
                <a:lnTo>
                  <a:pt x="18000" y="410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fgeronde rechthoek 12"/>
          <p:cNvSpPr/>
          <p:nvPr/>
        </p:nvSpPr>
        <p:spPr>
          <a:xfrm>
            <a:off x="1332000" y="5791320"/>
            <a:ext cx="7812000" cy="1066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Dom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Business Process and Core Components Methodology, UN/EDIFACT, XM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254061"/>
                </a:solidFill>
                <a:latin typeface="Calibri"/>
              </a:rPr>
              <a:t>Validation, Harmonisation, Library maintenance, Librar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fgeronde rechthoek 12"/>
          <p:cNvSpPr/>
          <p:nvPr/>
        </p:nvSpPr>
        <p:spPr>
          <a:xfrm>
            <a:off x="3425760" y="1341360"/>
            <a:ext cx="5724720" cy="4267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8"/>
          <p:cNvSpPr/>
          <p:nvPr/>
        </p:nvSpPr>
        <p:spPr>
          <a:xfrm>
            <a:off x="3419640" y="1927080"/>
            <a:ext cx="5760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Business Process Catalog Spec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Component Business Document Assemb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Component Technical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for building Catalog of Common Business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ion to CCTS 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for XML documents and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L Profile for Co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 Method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Document Hea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/CEFACT XML Naming and Design Rules 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For C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ular Callout 1"/>
          <p:cNvSpPr/>
          <p:nvPr/>
        </p:nvSpPr>
        <p:spPr>
          <a:xfrm>
            <a:off x="108000" y="5229360"/>
            <a:ext cx="2087640" cy="1008000"/>
          </a:xfrm>
          <a:prstGeom prst="wedgeRoundRectCallout">
            <a:avLst>
              <a:gd name="adj1" fmla="val 35879"/>
              <a:gd name="adj2" fmla="val 73837"/>
              <a:gd name="adj3" fmla="val 16667"/>
            </a:avLst>
          </a:prstGeom>
          <a:solidFill>
            <a:srgbClr val="64648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w 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ponsible f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CTS 3.0 mi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ore Component Library 3.0 under Q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e-tendering, CFEM, CII 3.0 for public review April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2. Security for XML documents and Messages (SDDI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 team has completed its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Discussion under separate agenda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3. Maintenance of Code 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cedures under revi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Rec 21 and Rec 23 will be submitted for intersessional approval in the course of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ublication as XML (11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5562720" y="609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Methodology &amp; Technology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Date Placeholder 1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4. Publication of UN/EDIFACT D.11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Update to R.1023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ublished in April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5. Business Document Hea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Draft for review by April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6. Core Component Business Document Assem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irst public review immin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7. Context Methodology v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Extending implementation verification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"/>
          <p:cNvSpPr/>
          <p:nvPr/>
        </p:nvSpPr>
        <p:spPr>
          <a:xfrm>
            <a:off x="5562720" y="609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Methodology &amp; Technology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onu</cp:lastModifiedBy>
  <dcterms:modified xsi:type="dcterms:W3CDTF">2012-02-14T16:09:47Z</dcterms:modified>
  <cp:revision>252</cp:revision>
  <dc:subject>PPT Template</dc:subject>
  <dc:title>United Nations Economic Commssion for Europe</dc:title>
</cp:coreProperties>
</file>