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AC73-1ED7-449F-B7CF-22D2B0BE3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A330-46C7-451B-BED8-85E2882ECC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0D038-D15D-4B6D-A0A6-4F3CD64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21F3C-928A-4099-9E9B-44BA1A8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C6AFF-7E56-43EA-B4F1-EF8BF393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0536D-CA1D-4817-9A96-1B9F8A6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5CB09-4583-475B-AF14-1D62DEB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6D442-8B30-463A-B9BF-6EAE327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C00E8-FCCF-42E0-A9F7-FBF667A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EC90F-87F8-4741-85D9-4A53D0A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C9769-99F9-4437-96B7-8FA77033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BF505-4170-41AF-AD1F-8F43D0FF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EF50-485B-4768-B745-7865943C92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A652A-83B6-49AF-9167-0F3946D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1E864-77DA-43CF-98AC-863CEA9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F7877-27C4-413E-91EE-78945781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9D51C-AFB4-40F6-8AB2-E49B63D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D9E00-9D46-44FE-BED7-2D0323E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63084-A774-4DD8-803D-6E7964C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E25BC-7120-46E6-8690-E5B8A0A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BED7B-0C63-4BDE-93A9-54C437E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DDB74-BF20-4C2A-86EC-51AB568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E1CA0-5227-45E5-9FF3-2291B653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620C-8EED-4DE5-91CB-857F6882A6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36707-A6CC-4BD8-A327-0660AFA1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348E52-FD70-4E75-BB9D-08204BCD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6587EB-AD9B-4667-8F28-11A60BA3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8F1655-04D9-4BFB-9343-CF17EA68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01CC58-7D92-478E-8BE5-FD3AC922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CA79C-ED38-4C06-A2A3-97E9CE8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2199E3-A182-4803-92FE-62425577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981AB3-56FA-4465-9702-A5EE011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132CC1-B421-4376-8183-8D0EEB9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92D497-9E82-4EA6-85F7-B4BEA89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21787-9E34-43C2-AABE-7BFDAF16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6569B7-AD52-4079-A509-67253E8C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F83D16-4C68-47B2-8A64-CF0B79D7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E7081-248B-46CE-BE47-F43F1D43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7C82B-ADF8-4358-B2DF-B83F3D10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81E09-E58F-401B-BB60-74042EC5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F7B57-51DF-4D3B-986D-B6651CA7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E10E1-99A3-4395-91F1-38D6184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A0E44-5C95-43A4-B333-B757EAE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5BA7E-CFF0-4A50-89E5-B0B3B98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BD48D-B0E1-4F58-99F8-D124D08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80BB6-6B97-42FC-A8F6-95F91243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467F2-7753-4A29-B6DA-1394631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5D52D-78C5-4AFB-B11C-08B3F32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E463E-16A9-4A04-AF29-4CD3531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D77C1-8155-42FC-9F69-7CAF7DEC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A233B-6EA5-44D3-B550-71E8801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898AE-222D-4E4C-91B8-219CAE0D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21061-5235-452E-AF73-AE389913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5A681-5A51-4BD3-9635-A5F81A99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F3176-2A0D-4920-8888-913FC94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BD544-F042-4A2F-8405-52D3769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3E6A-8094-404A-9DAD-251EFB815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5D0A2-E8BE-4B83-8AF1-5F01D60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4624D-BB7F-43D7-9F54-F7018BA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82ADB-F4D9-4903-A658-CEE4B5B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7381E-DE55-4501-BC6B-B523C4F8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5B2E8-3729-405B-AC93-8D3760A4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5D2A4-BC32-477B-8482-08BD4C6A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7811F-7133-4F20-9850-DB0B07C6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665E6-FD8B-4BE4-8AE7-5715CA6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9576D-5BF0-44A8-B582-2EEC70E9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290C0-093F-4AB9-82E6-3EB05770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ED20-5490-4A09-9914-DDE08B230B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27BF-E9F8-4CB1-B5F0-C5E24CF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8D469-689B-445A-AE07-D7228F7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3A626-D3E7-4BDC-B96C-0B1F5E1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AE108-C68D-46E6-9E07-3DBDE57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0F9D9-DE9B-4491-B1F6-B894822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DE212-6BF6-4AC9-B815-CEF024CA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56D23-A529-4EA5-9E3D-8FFC936A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026BA-CF17-4FB5-AB1F-1687E5B6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B20DC-B558-4FB1-B85B-49E04696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C17A7-AF0D-4F05-A8A7-939D7B6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FA55-7EDC-459D-964C-E7FA52EF26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130C3-491B-4E7B-B0F2-D1D787A4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C424B-C0FE-494E-9527-F5A4D34C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B943D-1377-45F8-8463-F97A338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DF6AE-803A-4CF3-B6D8-4CD21926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C014F-B567-4FB7-A0F4-63AF1EA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C1EAC-1FBA-4948-8FD1-6AE74D4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4973F-6384-43B4-956E-3385354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F89BD-18AD-4034-AD1B-2B7DAA2A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FB063-744B-4A49-9992-6FCC3558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BDBDC-9F65-4686-82E2-6274B88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C0E8-3900-49CE-BA0D-FB505B7395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0ECD0-89DA-400F-A679-D5A770F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6BE99-78F6-4E09-80CD-866ABC4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57405-B5B7-4F35-8B34-D78EF4A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B0A1DA-3B2C-403B-8ACB-DD4FECCE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E2906-76DF-42AE-B7E2-4267D0E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FB41E-107E-4A97-82FC-634FA35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952BFE-0F03-4DAC-B940-80B256C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3A4E0-CF51-4925-8421-E21C7CE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A1F4D-4FF5-4691-96F1-2D4F6E1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4D99DA-36B7-4821-84F9-8692E5BC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2A23-C855-4D57-B587-48C8966C3B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6536E-4B34-4493-B91B-2B69AF24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C5BBE-70EF-4A7C-AA58-2CA78614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28CA2-A059-402D-A4BC-C708C4F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08AB29-8FEF-4D32-9E00-4749544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1A88A-F937-45A7-9BF1-97C2F38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050D9-CAD8-4A69-B84D-173EE6DA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36C87-1500-43D6-9010-7CAA6D0F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44B5ED-7DD6-4413-8C96-1C8428C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943B5-AD17-4058-AB6D-EA777AF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D30527-BDD3-48C3-8C55-2111579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3A46-8DCF-476D-9A14-408D012EE2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3C4E9-2603-4306-BE77-024975F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AB67A3-3D5F-46C0-87CE-DAD606D4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8FA9D0-BA7A-4AC0-A9C6-F2212D60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D8FFA-D098-497E-9FCC-972CF839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5DD65-C391-404B-9FCA-1391C925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00712A-97DA-4C69-A134-3CE1FD8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D34A0-58C9-4680-A883-E73D8DA5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675D7-7682-4E39-AE8D-48A81C1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B6FD5-8733-4077-9CCF-D2E5985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CE1A9-17B7-4291-8557-CBA510D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CAB2-E6A5-46C2-B869-CB6DC74857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5CCA2B-1023-4DC8-A7AF-01CAC2F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AF2EA-3768-49CD-90A3-2F35FF1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2B9512-4660-421B-8244-D7370174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4F02C5-F34F-4E1A-91A6-CD6D9B22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D2833-A59F-4110-B83F-AE155D8B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5698F-B8E3-4CF3-B37C-B188053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E18501-4ADC-4B4F-AFE8-C72968C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FCEE1-030F-488D-9027-1F3E255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D1AF4-348D-4E53-B2D2-05BA2F1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A679FC-3F84-43CF-A39C-B289218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2932-0F65-45E7-9742-03F4476D89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3FFAB-DB2E-43D2-848D-77CCBBF6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41581-55FE-4A46-9A22-0F4D26D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1201DF-F376-47A2-92FF-4397A377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795E9C-0B16-404B-AA93-873F792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C1823-BEF5-4161-A08A-9ACC9BA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8999CB-B093-40E3-999A-C6B28945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6249A-2F26-42F8-A5C8-04C20BCF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16958-5D1D-4096-BE9E-5B2E47D3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6EA5C-2299-4429-9156-AE4113F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2A30A-CF8A-4663-AC6E-930081E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845-3A29-4810-98E4-CD22499A03A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875-19FD-4962-B725-8A74AE89E9D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59B0-CC55-4EA3-AB12-F082CE2E41F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924-DA86-435A-A4FE-C9527E2D82AB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9th Novem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DB6-751E-4AFD-ADD3-7BB7AF43A47D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A7C-F47B-4B1B-A0C1-7F5C1C102ED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C561-9FFE-4A71-9DEE-61CA159FFBF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B92-76E8-4B88-8B47-875FCD7E153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FE4E-DB1D-492B-B69C-F33B3212589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25E5-C91A-4671-BC39-A3A02A355BD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302-EAE4-4535-B021-425C0EBA0E8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E74A-15DF-471F-A507-FF2EA0ABCC3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A31D-1AF8-4321-8692-3DDB6B03157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.wrs.yahoo.com/S=2114716005/K=poign&#233;e+de+main/v=2/SID=e/l=II/R=16/SS=i/OID=7026b4109bd4c406/;_ylt=Anwfzr8mgO0NAT_lbRQ7kmRlAQx.;_ylu=X3oDMTA2bTQ0OXZjBHNlYwNzcg--/SIG=1i6ea57ih/EXP=1113493179/*-http:/fr.search.yahoo.com/search/images/view?back=http://fr.search.yahoo.com/search/images?p=poign&#233;e+de+main+&amp;ei=UTF-8&amp;fr=FP-tab-img-t&amp;fl=0&amp;x=wrt&amp;h=101&amp;w=150&amp;imgcurl=www.amities-loisirs.org/images/poignee_main.jpg&amp;imgurl=www.amities-loisirs.org/images/poignee_main.jpg&amp;size=4.0kB&amp;name=poignee_main.jpg&amp;rcurl=http://www.amities-loisirs.org/site/presentation-association.htm&amp;rurl=http://www.amities-loisirs.org/site/presentation-association.htm&amp;p=poign&#233;e+de+main&amp;type=jpeg&amp;no=16&amp;tt=39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0.wmf"/><Relationship Id="rId17" Type="http://schemas.openxmlformats.org/officeDocument/2006/relationships/image" Target="../media/image11.jpeg"/><Relationship Id="rId18" Type="http://schemas.openxmlformats.org/officeDocument/2006/relationships/hyperlink" Target="http://fr.wrs.yahoo.com/S=2114716014/K=ordinateur/v=2/SID=e/l=IVI/;_ylt=ArgGpPV9_4voh7uk0QcNOPJuAQx.;_ylu=X3oDMTA4NDgyNWN0BHNlYwNwcm9m/SIG=1231cdkra/EXP=1113474829/*-http:/www.dicofr.com/def2/image/ordinateur.jpg" TargetMode="External"/><Relationship Id="rId19" Type="http://schemas.openxmlformats.org/officeDocument/2006/relationships/image" Target="../media/image12.jpeg"/><Relationship Id="rId20" Type="http://schemas.openxmlformats.org/officeDocument/2006/relationships/image" Target="../media/image13.jpeg"/><Relationship Id="rId2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1640" y="804600"/>
            <a:ext cx="4125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Plen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BD63-D0EA-4A03-9D5E-FC2AA05098D3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520" y="3124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Programme Development Area 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5 – 17 February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kstvak 2"/>
          <p:cNvSpPr/>
          <p:nvPr/>
        </p:nvSpPr>
        <p:spPr>
          <a:xfrm>
            <a:off x="2209680" y="39625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runo Prépin &amp; Harm Jan van 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nt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imal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sh fruits and vegetables, flowe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iry industry, meat processing industr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sh,  shellfish, sea plant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e in primary agricultural products and food products, the agricultural processing industry and the supply chai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14440" y="620640"/>
            <a:ext cx="4489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e of standards in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ntegrated support  of information exchange for all parties  involved in the agricultural food business, both governmental and private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e of standards in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cking and tracing of agricultural food product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c requirement for food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ytosanitar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terinar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t safe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tion, processing, storage and transport 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783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786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789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30"/>
          <p:cNvSpPr/>
          <p:nvPr/>
        </p:nvSpPr>
        <p:spPr>
          <a:xfrm>
            <a:off x="2782800" y="3141720"/>
            <a:ext cx="14288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11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795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ZoneTexte 80"/>
          <p:cNvSpPr/>
          <p:nvPr/>
        </p:nvSpPr>
        <p:spPr>
          <a:xfrm>
            <a:off x="5929200" y="785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00240" y="620640"/>
            <a:ext cx="414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xisting agri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C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DAPL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animal pas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data exchang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vestock liv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a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icing  fresh fruits and vegetables  and cutflowers  (e-trade a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i product and  processing information at 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lk and dai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omain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Andreas Schul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495320" y="804600"/>
            <a:ext cx="4202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Dom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e domain insurance is a joint work between  ACORD - USA, and the European eBusiness Expert Group for Insurance (eEG7) with members from BiPRO - Germany, SIVI – The Netherlands, Telebib - Belgium, GS4eB – Ger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42782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Work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jects are plann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mercial line business (from small commercial up to large industri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ivat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ogether with the healthcare domain for exchange between healthcare professionals, patients and health insurance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160020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toral P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ain Travel/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76000" y="3429000"/>
            <a:ext cx="6767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Domain Coordin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) Small scaled Lodging House Reservation Information Process will be finalized (by March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) New project proposals will be discussed among the experts. And they will be proposed to be in time for the next forum when they are agreed upon by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) Collaboration with such organizations as OTA,  AFACT, other international or national bodies will be well checked and negotiated, if needed, by the experts of the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) Capacity building activity will be considered especially for Asian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4B34-A604-4E04-81D1-B7FE2C8BDDA8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93480" y="17521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main 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ans van Di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55EC-3387-49D5-B096-A8CA5BFDE3B6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73400" y="652320"/>
            <a:ext cx="4918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7F5-8AFE-42F4-BBA5-81471CFE8C0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3801960" y="1214280"/>
            <a:ext cx="1127160" cy="842040"/>
            <a:chOff x="3801960" y="1214280"/>
            <a:chExt cx="1127160" cy="842040"/>
          </a:xfrm>
        </p:grpSpPr>
        <p:sp>
          <p:nvSpPr>
            <p:cNvPr id="539" name="Text Box 4"/>
            <p:cNvSpPr/>
            <p:nvPr/>
          </p:nvSpPr>
          <p:spPr>
            <a:xfrm>
              <a:off x="3801960" y="159732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5" descr="Afficher l'image en pleine taill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911400" y="121428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7" descr="C:\Documents and Settings\gcheruy\Application Data\Microsoft\Media Catalog\Downloaded Clips\cl3b\j0149651.wmf"/>
          <p:cNvPicPr/>
          <p:nvPr/>
        </p:nvPicPr>
        <p:blipFill>
          <a:blip r:embed="rId3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4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3" descr="C:\Documents and Settings\gcheruy\Application Data\Microsoft\Media Catalog\Downloaded Clips\cl0\BL01058_.wmf"/>
          <p:cNvPicPr/>
          <p:nvPr/>
        </p:nvPicPr>
        <p:blipFill>
          <a:blip r:embed="rId5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558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559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690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99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02" descr="C:\Documents and Settings\gcheruy\Application Data\Microsoft\Media Catalog\Downloaded Clips\cl5a\j0226844.wmf"/>
          <p:cNvPicPr/>
          <p:nvPr/>
        </p:nvPicPr>
        <p:blipFill>
          <a:blip r:embed="rId7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05" descr="C:\Documents and Settings\gcheruy\Application Data\Microsoft\Media Catalog\Downloaded Clips\cl3b\j0149651.wmf"/>
          <p:cNvPicPr/>
          <p:nvPr/>
        </p:nvPicPr>
        <p:blipFill>
          <a:blip r:embed="rId8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739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1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7" name="Picture 213" descr=""/>
          <p:cNvPicPr/>
          <p:nvPr/>
        </p:nvPicPr>
        <p:blipFill>
          <a:blip r:embed="rId11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19" descr=""/>
          <p:cNvPicPr/>
          <p:nvPr/>
        </p:nvPicPr>
        <p:blipFill>
          <a:blip r:embed="rId12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753" name="Object 225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4" name="Object 2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758" name="Object 23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9" name="Object 2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762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7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64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765" name="Picture 240" descr="http://www.dicofr.com/def2/image/ordinateur.jpg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4" descr="Afficher l'image en pleine taille"/>
          <p:cNvPicPr/>
          <p:nvPr/>
        </p:nvPicPr>
        <p:blipFill>
          <a:blip r:embed="rId20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769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t  and animal production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 land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man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aw materials for industry / proces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 energy, fibers, timber, chemical industry, pharmacy, medical , food indus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onu</cp:lastModifiedBy>
  <dcterms:modified xsi:type="dcterms:W3CDTF">2012-02-14T16:37:29Z</dcterms:modified>
  <cp:revision>93</cp:revision>
  <dc:subject/>
  <dc:title>Slide 1</dc:title>
</cp:coreProperties>
</file>