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D90F-71D9-4CB9-AB8B-A24DDCE080F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9C92-D792-4155-9509-4452C346851C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1FB2-CE0F-4B44-8ED9-7C63566026E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F37E-CA78-4B89-B2BB-F4A889025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B21F-6E74-4715-A07B-45422FB03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2916-B059-480B-B26C-57AF88C29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E0CD-48B3-4D77-B434-64FC08883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24C5-39FF-4C40-8019-5965285B61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EC4C-8197-41ED-966C-B4596A53A2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00B7-4252-4167-B3D8-67AAD1B718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BFC8-9AD8-48CE-AAB5-9FA42AD6D9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E1FB-1863-45F0-AD9F-BBB51D0EEA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66F3-1C11-451B-8E67-345CBB9E6A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62AE-479D-472F-A7DA-79303851C5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99EE-F4C9-4117-92DD-37E136AE4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2F5C-B6F1-44CB-9BA9-BBA43222A7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EE1A-E301-4B35-BC8D-8EA044AFF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706F-A8DB-4852-A5CB-2E4A01D712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9D08-D951-4A4F-8A2B-D66D2FE394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E868-BA90-4AE4-86B8-51FEE7AF55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436D-F863-4C4D-A81B-480EA6BEA4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9C68-91B5-47FF-9E0B-5DB59210B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A575-092A-44EC-BC4C-A927A5D0A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E95E-C25C-44DD-BCDE-09566096F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6E39-AF71-4002-8BED-0C7FA280E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EF11-082F-418B-8C52-9C389ABA4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EC45-2532-43AF-9A3B-A430BE88B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2699-92B7-4ACE-BDEB-30E798F03A8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585F-6167-477D-9EB2-2EB0968F1E0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440" y="1294920"/>
            <a:ext cx="35067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Regulatory P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743200" y="5783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http://i.telegraph.co.uk/multimedia/archive/01796/RedTape_1796038c.jpg"/>
          <p:cNvPicPr/>
          <p:nvPr/>
        </p:nvPicPr>
        <p:blipFill>
          <a:blip r:embed="rId1"/>
          <a:stretch/>
        </p:blipFill>
        <p:spPr>
          <a:xfrm>
            <a:off x="2438280" y="1981080"/>
            <a:ext cx="4381560" cy="27338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2971800" y="4800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Tahseen K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7F62-0D64-4F9B-B941-1AB2DF6C7BF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4.bp.blogspot.com/_mveHL3n_4ME/S9OlF6ddbYI/AAAAAAAADik/Nc7VCbb0dDQ/s1600/regulations.jpg"/>
          <p:cNvPicPr/>
          <p:nvPr/>
        </p:nvPicPr>
        <p:blipFill>
          <a:blip r:embed="rId1"/>
          <a:stretch/>
        </p:blipFill>
        <p:spPr>
          <a:xfrm>
            <a:off x="533520" y="1752480"/>
            <a:ext cx="80010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Environmental Management – Delta Pelgr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Government – Ray Pisa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Customs – SP Sa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F42D-753C-4C03-8327-3CB25BD7555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27CC-E687-4A05-8D15-D7A124EC565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533520" y="167652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armonization of classification of chemical products and hazardous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angerous goods declar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aste management a possible area if experts could be ident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372-71D0-4537-8BB7-C5EEA170829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685800" y="16765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Procurement </a:t>
            </a: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hosted under Supply Chain PDA in a cross-domain collaboration eff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8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385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CD7A-9371-4A8B-BB3E-81AA76F1F258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152280" y="167652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-to-G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assenger, Baggage and Passenger Name Record (PNR) information in the marine mode; harmonization with the Advance Passenger Information (API) PAXLS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maining Revised Kyoto Convention (RKC) Procedures, i.a. warehousing, Inward/Outward Processing (IPR/OPR) &amp; Temporary Im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CEA2-AFCC-4212-B3F6-2EC2BF19D1D4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://www.smallbusiness.co.uk/article_images/articledir_3222/1611478/1_landscape.jpg"/>
          <p:cNvPicPr/>
          <p:nvPr/>
        </p:nvPicPr>
        <p:blipFill>
          <a:blip r:embed="rId1"/>
          <a:stretch/>
        </p:blipFill>
        <p:spPr>
          <a:xfrm>
            <a:off x="1295280" y="1752480"/>
            <a:ext cx="66294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onu</cp:lastModifiedBy>
  <dcterms:modified xsi:type="dcterms:W3CDTF">2012-02-14T15:00:32Z</dcterms:modified>
  <cp:revision>235</cp:revision>
  <dc:subject>PPT Template</dc:subject>
  <dc:title>United Nations Economic Commssion for Europe</dc:title>
</cp:coreProperties>
</file>