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6A41-0040-4F23-9218-01BF5282B0B9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4928-B799-4826-B3E2-44B4F4D3D634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5119-E51D-4055-AC98-A0F11DA638BC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2897-8D4A-451F-BAEA-566F91123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26B9-43BE-43A7-8881-CCFD3907C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84A3-B286-4B30-9079-C2B0A2042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E014-9F8D-4A88-B8ED-1EEC19EA7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947E-58C4-48C8-8D1C-527148FE1F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E0FE-9F88-46BC-A8EC-5FAF83CF50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E5AD-6F96-4962-BFC5-9B1B663A4D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7CFC-7365-4EAD-A09F-5A61256777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3FFA-6D86-4053-AD89-A51B067D45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2F44-5BE1-4326-9CAE-10BAF9C4E7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15DF-7550-43A3-9535-4D3BF5156C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A53A-EA1E-499B-B2CF-B9390498C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122A-B0D4-46B3-90EC-663FB02597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E918-5596-4C08-8942-B67085C31E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F90A-B55F-47DD-BE79-FFC938FD4D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6D40-C86C-4064-93E3-0627C813F9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F081-3C71-4B0F-AA2E-AA4BA5423C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2C46-8DF8-493F-AC7C-5B5BBCFA25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797B-3221-4955-A9D0-A3C8B6B89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7FF2-DAE3-41CA-8F76-790DDECCB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6E35-8350-4169-8339-2AEF4F64B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B7AA-0BB2-468A-B02C-E0D567CAA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7349-6D10-48DE-ABBE-C426FE5BB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4FE4-78BC-4261-9EB1-1B3B40C0C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709A-65F7-41FC-83DF-7C2BAC69284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D66F-32FB-4B3D-8A8E-F6D6B968FBD7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440" y="1294920"/>
            <a:ext cx="35067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Arial"/>
              </a:rPr>
              <a:t>Regulatory P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743200" y="5783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18th UN/CEFACT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15-17 Febr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1f497d"/>
                </a:solidFill>
                <a:latin typeface="Arial"/>
              </a:rPr>
              <a:t>Palais des Nations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http://i.telegraph.co.uk/multimedia/archive/01796/RedTape_1796038c.jpg"/>
          <p:cNvPicPr/>
          <p:nvPr/>
        </p:nvPicPr>
        <p:blipFill>
          <a:blip r:embed="rId1"/>
          <a:stretch/>
        </p:blipFill>
        <p:spPr>
          <a:xfrm>
            <a:off x="2438280" y="1981080"/>
            <a:ext cx="4381560" cy="27338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2971800" y="4800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Tahseen K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1f497d"/>
                </a:solidFill>
                <a:latin typeface="Arial"/>
              </a:rPr>
              <a:t>Mr. Mats Wic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9F5E-0135-4E1C-9E5A-0695F7C8BB3A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4.bp.blogspot.com/_mveHL3n_4ME/S9OlF6ddbYI/AAAAAAAADik/Nc7VCbb0dDQ/s1600/regulations.jpg"/>
          <p:cNvPicPr/>
          <p:nvPr/>
        </p:nvPicPr>
        <p:blipFill>
          <a:blip r:embed="rId1"/>
          <a:stretch/>
        </p:blipFill>
        <p:spPr>
          <a:xfrm>
            <a:off x="533520" y="1752480"/>
            <a:ext cx="80010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Environmental Management – Delta Pelgr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Government – Ray Pisa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1f497d"/>
                </a:solidFill>
                <a:latin typeface="Calibri"/>
              </a:rPr>
              <a:t>Customs – SP Sa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C196-48BE-4FDF-80E4-B41DA1C87F4D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327B-49FD-4338-8491-F4CB37F30100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533520" y="167652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armonization of classification of chemical products and hazardous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angerous goods decla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aste management a possible area if experts could be ident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58D0-6E43-419D-9691-EA561979BD39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685800" y="16765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Procurement </a:t>
            </a:r>
            <a:r>
              <a:rPr b="1" lang="de-CH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hosted under Supply Chain PDA in a cross-domain collaboration eff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8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385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1943-4466-411B-A11A-4ECA3D7FC2E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5791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152280" y="167652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-to-G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Passenger, Baggage and Passenger Name Record (PNR) information in the marine mode; harmonization with the Advance Passenger Information (API) PAXLS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2919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maining Revised Kyoto Convention (RKC) Procedures, i.a. warehousing, Inward/Outward Processing (IPR/OPR) &amp; Temporary Im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6D18-D46B-4A38-97F9-55AE6AD1B84E}" type="slidenum">
              <a:rPr b="0" lang="de-CH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://www.smallbusiness.co.uk/article_images/articledir_3222/1611478/1_landscape.jpg"/>
          <p:cNvPicPr/>
          <p:nvPr/>
        </p:nvPicPr>
        <p:blipFill>
          <a:blip r:embed="rId1"/>
          <a:stretch/>
        </p:blipFill>
        <p:spPr>
          <a:xfrm>
            <a:off x="1295280" y="1752480"/>
            <a:ext cx="66294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onu</cp:lastModifiedBy>
  <dcterms:modified xsi:type="dcterms:W3CDTF">2012-02-14T15:00:32Z</dcterms:modified>
  <cp:revision>235</cp:revision>
  <dc:subject>PPT Template</dc:subject>
  <dc:title>United Nations Economic Commssion for Europe</dc:title>
</cp:coreProperties>
</file>