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CC02-6195-4C59-A98A-9A3515EEBB59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9B73-6800-4175-99FE-0ECE25D9085A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338E-0ED5-4359-8107-577AAC3544B1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37F3-24A9-4284-A46F-236E0C189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018C-2291-40C2-9BAD-491221FF7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EEC4-473C-40F1-8484-C857EA0E3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C534-C845-4C78-9B22-C1693CE3F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7702-E1BF-417A-B675-61616145E4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F6A3-402D-4DD9-87F8-75CAC146DF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5E7D-6352-4B15-9CF0-E79F4F8849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80BA-D939-4A15-9100-DEF9377452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89300-390B-45D3-BB2A-44F6CB47F8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2C8E-3763-414B-9A8F-4B57829AB1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0D1C-BCC2-4D17-A382-26D9B8496C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2712-6FBC-490F-B965-F3DA7B2ED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9DBF-04AF-4350-B9A5-A07060F5B6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CF44-994A-4631-913D-F9FC2F3CBD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2F42-6F51-4D53-B65B-39EB24A1E0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A196-493B-4356-9C37-80882C49F1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8D3D-45E1-426A-B36F-F531DA2418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22C0-A94E-4138-81AD-9F48474117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B3B9-4D72-4D40-A9FC-F9CE64D68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20DA-48CE-40D7-BF4A-2B23E1C13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9D52-65C0-4EE9-89D5-06DBBA61A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5AC7-5329-4799-8A4B-8230E6909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2FE9-8541-4C1B-8058-A7F856707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4E52-8C30-4AEC-AA03-FE745C672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CE60-2CCD-49A6-AB44-59175E60B577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B49A-D4E7-4FDD-A4DB-CB5C749E78B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923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Trade and Transport Facilitation P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743200" y="5029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Viktor Dravit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895480" y="56023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http://incite-consulting.com/wp-content/uploads/2011/04/iStock_facilitation.jpg"/>
          <p:cNvPicPr/>
          <p:nvPr/>
        </p:nvPicPr>
        <p:blipFill>
          <a:blip r:embed="rId1"/>
          <a:stretch/>
        </p:blipFill>
        <p:spPr>
          <a:xfrm>
            <a:off x="1989000" y="1981080"/>
            <a:ext cx="45640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F02F-C3B7-46E7-A911-2FC0DBE4A00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www.thesocialpenguinblog.com/cms/wp-content/uploads/2011/09/simple-is-beautiful.jpg"/>
          <p:cNvPicPr/>
          <p:nvPr/>
        </p:nvPicPr>
        <p:blipFill>
          <a:blip r:embed="rId1"/>
          <a:srcRect l="0" t="3367" r="0" b="9667"/>
          <a:stretch/>
        </p:blipFill>
        <p:spPr>
          <a:xfrm>
            <a:off x="1143000" y="1447920"/>
            <a:ext cx="6759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International Trade Procedures – Johan Ponté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Transport –Dominique Vankemm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Customs – SP Sa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DE9C-0BF2-400C-84A2-4BFCA98B9DF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638680" y="762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2EA3-9E26-45A5-ACF1-EA618F52A5C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304920" y="1905120"/>
            <a:ext cx="853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Single Window Interoperability – first draft being developed and project group meeting planned week after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Recommendation on Consultation Models - first draft being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PrivatePublicPartnership Recommendation – first discussions in order to prepare project proposal under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Trade Facilitation Implementation Guide – comments on first draft from CEFACT project team to UNECE consultants team provided during F2F-meeting 13-14 Febr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8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385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C2EA-4395-452F-AC7D-B392638E3873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0" y="144792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Interim meeting Transport Domain in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Valencia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eeting with Tim McGrath CEFACT Bureau: reorganization issues and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 “Cargo Tracing and Tracking” progressing well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 “Status Report and Transport Instructions” scar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ulti Modal Transport (MMT) structure prog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ojects for Transport Waybill and Dangerous Goods 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ssessment/approval of DMR’s from the Maritime Transport Industry (SMD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ending iss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duced resources of the Transport/Logistics Group delaying furthe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eking Experts especially new Projects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ure support to CEFACT from International Transpor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Transport Domain meeting not fixed, likely in Paris May/June 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85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385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B507-1A3F-4002-9460-CF2120FB70E8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380880" y="182880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28600" y="160020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solution on Natural Disaster Relie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xpress Cargo – Immediate Release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Single Window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  C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  Non-preferential Cert. of Ori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  Veterinary, phytosanit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  Intellectual Property Reg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D9FC-24A7-4BDF-AF69-4C7E2A7FD21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http://www.mangoorange.com/wp-content/uploads/2010/02/easy-button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onu</cp:lastModifiedBy>
  <dcterms:modified xsi:type="dcterms:W3CDTF">2012-02-14T14:11:00Z</dcterms:modified>
  <cp:revision>230</cp:revision>
  <dc:subject>PPT Template</dc:subject>
  <dc:title>United Nations Economic Commssion for Europe</dc:title>
</cp:coreProperties>
</file>