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4620-4491-4CBA-9433-4E2D65FE205A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ACA6-DA3E-4048-AA9D-8A261056EB7F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AD79-D251-45A3-B8A2-843861E2D27D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B79A-BE37-47CC-91F9-3B2C7ACB4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6774-EBF8-4DA1-A6C0-B193A4B50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AB59-BDF1-4970-B8F7-6276FB806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5E71-05C3-4283-A7DA-01E98C560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4F2EF-D1AA-409A-8BC9-25C97721B5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96B4D-F0E4-4F54-BBF0-FBA523A058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3D597-8DC4-40D2-AD16-C5DA7E85B1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55FB1-B88F-4FF8-80D1-9FB95A5D88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4837F-BD6F-479A-B7AF-5AE45F198C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DF99E-C846-48A9-9159-3F4CD36DCA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6E3D3-F1ED-4A7E-8DF5-53BC65D679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5D6A-7E6F-48D3-953A-4F2B2E2B3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6C14-D2E8-4FF6-8943-D2B0EC1201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B1E73-446D-4DFD-A0CE-DF84D2877B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961B1-0469-4971-A6DB-C381B21E17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1FF7B-E43C-41B4-8EF2-63E95162EE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74B5-3F25-4A01-BBA7-B35B4F9748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3A59-6AA5-47AF-92A6-E9685D56A7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769E-C10F-41B2-9EA2-17135A1A3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6E52-F04C-4679-AB9A-5F1CCD145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1502-F6AA-4668-B82C-552FE9319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481F-246D-44AB-9E8C-157C152B8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A42B-93DF-4801-A55D-BAFF9E643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1EA5-9C51-42EB-A47D-4EBD712A2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DFFA-387D-42A7-8F5F-148F72E0D83F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F079-2EB5-4BE1-A9CB-915AE30C1A2B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7923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Trade and Transport Facilitation P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743200" y="5029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r. Viktor Dravit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r. Mats Wic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895480" y="56023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http://incite-consulting.com/wp-content/uploads/2011/04/iStock_facilitation.jpg"/>
          <p:cNvPicPr/>
          <p:nvPr/>
        </p:nvPicPr>
        <p:blipFill>
          <a:blip r:embed="rId1"/>
          <a:stretch/>
        </p:blipFill>
        <p:spPr>
          <a:xfrm>
            <a:off x="1989000" y="1981080"/>
            <a:ext cx="45640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891F-7100-4F47-863E-CCE792DB59C8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www.thesocialpenguinblog.com/cms/wp-content/uploads/2011/09/simple-is-beautiful.jpg"/>
          <p:cNvPicPr/>
          <p:nvPr/>
        </p:nvPicPr>
        <p:blipFill>
          <a:blip r:embed="rId1"/>
          <a:srcRect l="0" t="3367" r="0" b="9667"/>
          <a:stretch/>
        </p:blipFill>
        <p:spPr>
          <a:xfrm>
            <a:off x="1143000" y="1447920"/>
            <a:ext cx="6759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International Trade Procedures – Johan Ponté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Transport –Dominique Vankemm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Customs – SP Sah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A4D0-90DC-4D1B-AB80-AC06B55DB89A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5638680" y="7621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ord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6B19-6921-4B54-9CE4-EE95D1E2C1A3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304920" y="1905120"/>
            <a:ext cx="853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Single Window Interoperability – first draft being developed and project group meeting planned week after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Recommendation on Consultation Models - first draft being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PrivatePublicPartnership Recommendation – first discussions in order to prepare project proposal under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Trade Facilitation Implementation Guide – comments on first draft from CEFACT project team to UNECE consultants team provided during F2F-meeting 13-14 Februar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85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385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38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38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77E0-0C6A-42C9-9A41-E8A1F0EF5D4A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0" y="144792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Interim meeting Transport Domain in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Valencia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ov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eeting with Tim McGrath CEFACT Bureau: reorganization issues and ques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roject “Cargo Tracing and Tracking” progressing well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roject “Status Report and Transport Instructions” scarc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ulti Modal Transport (MMT) structure prog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rojects for Transport Waybill and Dangerous Goods 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ssessment/approval of DMR’s from the Maritime Transport Industry (SMD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ending iss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duced resources of the Transport/Logistics Group delaying furthe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eking Experts especially new Projects L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ure support to CEFACT from International Transpor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Transport Domain meeting not fixed, likely in Paris May/June 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85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385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38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38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7D4A-25BA-4DBD-A7E7-30FA9938717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380880" y="182880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28600" y="160020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solution on Natural Disaster Relie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xpress Cargo – Immediate Release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Single Window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  C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  Non-preferential Cert. of Ori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  Veterinary, phytosanit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  Intellectual Property Reg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8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385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C5F7-D07C-498C-9C22-740C0302E2C6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http://www.mangoorange.com/wp-content/uploads/2010/02/easy-button.jpg"/>
          <p:cNvPicPr/>
          <p:nvPr/>
        </p:nvPicPr>
        <p:blipFill>
          <a:blip r:embed="rId1"/>
          <a:stretch/>
        </p:blipFill>
        <p:spPr>
          <a:xfrm>
            <a:off x="2286000" y="16002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onu</cp:lastModifiedBy>
  <dcterms:modified xsi:type="dcterms:W3CDTF">2012-02-14T14:11:00Z</dcterms:modified>
  <cp:revision>230</cp:revision>
  <dc:subject>PPT Template</dc:subject>
  <dc:title>United Nations Economic Commssion for Europe</dc:title>
</cp:coreProperties>
</file>