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75463" cy="96551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76000" cy="965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9720" cy="4827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3"/>
          </p:nvPr>
        </p:nvSpPr>
        <p:spPr>
          <a:xfrm>
            <a:off x="3895560" y="-360"/>
            <a:ext cx="2980080" cy="4827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025280" y="723960"/>
            <a:ext cx="4825800" cy="362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4320" rIns="9432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6880" y="4586400"/>
            <a:ext cx="5502600" cy="43466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4"/>
          </p:nvPr>
        </p:nvSpPr>
        <p:spPr>
          <a:xfrm>
            <a:off x="-360" y="9172080"/>
            <a:ext cx="2979720" cy="4827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5"/>
          </p:nvPr>
        </p:nvSpPr>
        <p:spPr>
          <a:xfrm>
            <a:off x="3895560" y="9172080"/>
            <a:ext cx="2980080" cy="4827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E7845-056C-4AC0-A24B-293016D706E2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025640" y="723960"/>
            <a:ext cx="4825800" cy="36208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6880" y="4586400"/>
            <a:ext cx="550260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95560" y="9172440"/>
            <a:ext cx="29800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C62D9-24E7-4EF5-91F2-7436F02E2811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025640" y="723960"/>
            <a:ext cx="4825800" cy="362088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6880" y="4586400"/>
            <a:ext cx="550260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95560" y="9172440"/>
            <a:ext cx="29800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C9907-9A1D-4DCB-AD1A-026DB2F20E6B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025640" y="723960"/>
            <a:ext cx="4825800" cy="36208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6880" y="4586400"/>
            <a:ext cx="550260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95560" y="9172440"/>
            <a:ext cx="29800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FA9AA-1B90-4975-A504-8D9C340A19B8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025640" y="723960"/>
            <a:ext cx="4825800" cy="362088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6880" y="4586400"/>
            <a:ext cx="550260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95560" y="9172440"/>
            <a:ext cx="29800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6DC7A-26D4-4B80-9A04-915D91C2F4D3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025640" y="723960"/>
            <a:ext cx="4825800" cy="36208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6880" y="4586400"/>
            <a:ext cx="550260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95560" y="9172440"/>
            <a:ext cx="29800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1806F-4B9C-42F2-98D0-72B069D1D0CD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52647-3896-4F5E-80EE-A569C39BE7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AADB6-7072-4DAD-8537-F8A93053BF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B05E7-C9CE-452C-9F87-9A7696AB12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86E30-4469-4206-A69D-506148170D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ACDA9-19B1-4E9B-8F8A-FE7EABA03D2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452D6-84D4-40BE-B3F1-600DACCE407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44BAB-7DCD-4454-8246-1BEE7B457BF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9D41D-EA81-48A1-95F3-321C0F7F090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72735-31CD-414E-813A-783546A820A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F1964-7562-4EC8-B557-BDB10535FB7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03A7F-25CC-4EE8-8347-19CCB3CFD7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A3E42-3178-44AD-84BC-58DFED2FE0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A6070-7E20-4434-BBDC-6FB3B3CFA18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CEFDF-7ABC-4A66-9B41-195DAC280C8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B1D4C-0BFF-4E01-97D8-83B8D4AD8D1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2E168-DF92-4CAD-973F-D5E63BA4F15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66C1B-3D2F-4B82-8575-F0060084965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BC996-484F-4597-AEB6-63FAC5F2F9E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24D4A-358D-453C-A0CF-D19B630574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C33CE-396C-4A83-A88F-54B0B39974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E38F1-0A1B-413F-9D68-50D25F4659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A56FB-7CF8-41A4-9805-F43C2099F2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81713-0144-47AE-8B65-095728C3E3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E9203-15D2-45EC-B96B-80C2CC8726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1434A-CF52-42CF-9279-C7A6BEFABA4C}" type="slidenum">
              <a:rPr b="0" lang="de-CH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8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cefact_forum"/>
          <p:cNvPicPr/>
          <p:nvPr/>
        </p:nvPicPr>
        <p:blipFill>
          <a:blip r:embed="rId2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4879A-BA65-413F-B2EE-814BC60F9226}" type="slidenum">
              <a:rPr b="0" lang="de-CH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4"/>
          <p:cNvSpPr/>
          <p:nvPr/>
        </p:nvSpPr>
        <p:spPr>
          <a:xfrm>
            <a:off x="2743200" y="545004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1f497d"/>
                </a:solidFill>
                <a:latin typeface="Arial"/>
              </a:rPr>
              <a:t>18th UN/CEFACT Ple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800" spc="-1" strike="noStrike">
                <a:solidFill>
                  <a:srgbClr val="1f497d"/>
                </a:solidFill>
                <a:latin typeface="Arial"/>
              </a:rPr>
              <a:t>15-17 February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800" spc="-1" strike="noStrike">
                <a:solidFill>
                  <a:srgbClr val="1f497d"/>
                </a:solidFill>
                <a:latin typeface="Arial"/>
              </a:rPr>
              <a:t>Palais des Nations, Gen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itle 5"/>
          <p:cNvSpPr/>
          <p:nvPr/>
        </p:nvSpPr>
        <p:spPr>
          <a:xfrm>
            <a:off x="941040" y="2971800"/>
            <a:ext cx="755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Arial"/>
              </a:rPr>
              <a:t>Bureau Overview of Develop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62655-923F-4260-9D08-741E958581AF}" type="slidenum">
              <a:rPr b="0" lang="de-CH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2"/>
          <p:cNvSpPr/>
          <p:nvPr/>
        </p:nvSpPr>
        <p:spPr>
          <a:xfrm>
            <a:off x="1219320" y="2514600"/>
            <a:ext cx="73911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What we‘ve been do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How we‘ve been do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Lessons learn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What we can do bet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How we see the way forw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5257800" y="73980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Key the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3CCAA-378F-419F-B23D-0355FCF375A4}" type="slidenum">
              <a:rPr b="0" lang="de-CH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3"/>
          <p:cNvSpPr/>
          <p:nvPr/>
        </p:nvSpPr>
        <p:spPr>
          <a:xfrm>
            <a:off x="5791320" y="7621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Bure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4"/>
          <p:cNvSpPr/>
          <p:nvPr/>
        </p:nvSpPr>
        <p:spPr>
          <a:xfrm>
            <a:off x="2819520" y="1841400"/>
            <a:ext cx="73911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Mr. Peter Amstut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Calibri"/>
                <a:ea typeface="Arial"/>
              </a:rPr>
              <a:t>Mr. Harm Jan van Bu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Mr. Pier Alberto Cuci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Mr. Mike Dor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Mr. Victor Dravit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Mr. Stuart Feder, Ch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Mr. Tahseen A. Kh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Mr. Tim McGr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Mr. Bruno Prep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Mr. Mats Wick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2662C-0E93-45EE-86CA-FAED6D3B2FA0}" type="slidenum">
              <a:rPr b="0" lang="de-CH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3"/>
          <p:cNvSpPr/>
          <p:nvPr/>
        </p:nvSpPr>
        <p:spPr>
          <a:xfrm>
            <a:off x="5791320" y="7621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Secreta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4"/>
          <p:cNvSpPr/>
          <p:nvPr/>
        </p:nvSpPr>
        <p:spPr>
          <a:xfrm>
            <a:off x="2286000" y="2438280"/>
            <a:ext cx="7391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Ms. Virginia Cram-Mar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Mr. Tom Butt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Mr. Mika Vepsäläi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Mr. Tauno Kang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A4CDD-68C0-49D4-A95B-B0C3BED74BB6}" type="slidenum">
              <a:rPr b="0" lang="de-CH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3"/>
          <p:cNvSpPr/>
          <p:nvPr/>
        </p:nvSpPr>
        <p:spPr>
          <a:xfrm>
            <a:off x="5791320" y="7621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Rapport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1752480" y="289548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Mr. Ibrahima Diange –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Dr. Ajin Jirachiefpattana –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2BCD5-88D3-4BEA-BA5C-C7AF64C6B46B}" type="slidenum">
              <a:rPr b="0" lang="de-CH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"/>
          <p:cNvSpPr/>
          <p:nvPr/>
        </p:nvSpPr>
        <p:spPr>
          <a:xfrm>
            <a:off x="990720" y="1905120"/>
            <a:ext cx="8153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Streamlined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Project-ori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Strategic Direction and Programme of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291960">
              <a:lnSpc>
                <a:spcPct val="100000"/>
              </a:lnSpc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</a:t>
            </a:r>
            <a:r>
              <a:rPr b="0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Recommendations and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291960">
              <a:lnSpc>
                <a:spcPct val="100000"/>
              </a:lnSpc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</a:t>
            </a:r>
            <a:r>
              <a:rPr b="0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Mainte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Outreach and Co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onsen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4"/>
          <p:cNvSpPr/>
          <p:nvPr/>
        </p:nvSpPr>
        <p:spPr>
          <a:xfrm>
            <a:off x="5486400" y="76212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Key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08D11-8AB4-484B-AD99-D3CF095D47FF}" type="slidenum">
              <a:rPr b="0" lang="de-CH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3"/>
          <p:cNvSpPr/>
          <p:nvPr/>
        </p:nvSpPr>
        <p:spPr>
          <a:xfrm>
            <a:off x="5257800" y="7621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  </a:t>
            </a:r>
            <a:r>
              <a:rPr b="0" lang="de-CH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Transi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2514600" y="2514600"/>
            <a:ext cx="457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457200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hallen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6T08:26:57Z</dcterms:created>
  <dc:creator>UNECE</dc:creator>
  <dc:description/>
  <dc:language>en-US</dc:language>
  <cp:lastModifiedBy>csd</cp:lastModifiedBy>
  <dcterms:modified xsi:type="dcterms:W3CDTF">2012-02-15T09:09:07Z</dcterms:modified>
  <cp:revision>231</cp:revision>
  <dc:subject>PPT Template</dc:subject>
  <dc:title>United Nations Economic Commssion for Europe</dc:title>
</cp:coreProperties>
</file>