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75463" cy="9655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76000" cy="965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482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3"/>
          </p:nvPr>
        </p:nvSpPr>
        <p:spPr>
          <a:xfrm>
            <a:off x="3895560" y="-360"/>
            <a:ext cx="2980080" cy="482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025280" y="723960"/>
            <a:ext cx="4825800" cy="362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6880" y="4586400"/>
            <a:ext cx="5502600" cy="4346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4"/>
          </p:nvPr>
        </p:nvSpPr>
        <p:spPr>
          <a:xfrm>
            <a:off x="-360" y="9172080"/>
            <a:ext cx="2979720" cy="482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5"/>
          </p:nvPr>
        </p:nvSpPr>
        <p:spPr>
          <a:xfrm>
            <a:off x="3895560" y="9172080"/>
            <a:ext cx="2980080" cy="482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320E-6E99-47AF-80A0-E0AA6A9C7DF0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025640" y="723960"/>
            <a:ext cx="4825800" cy="3620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6880" y="4586400"/>
            <a:ext cx="550260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95560" y="9172440"/>
            <a:ext cx="29800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2235-636B-4C4E-95E5-9CB709B6B88E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025640" y="723960"/>
            <a:ext cx="4825800" cy="36208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6880" y="4586400"/>
            <a:ext cx="550260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95560" y="9172440"/>
            <a:ext cx="29800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8E25-F08A-405B-933F-056AE1AD2257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25640" y="723960"/>
            <a:ext cx="4825800" cy="3620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6880" y="4586400"/>
            <a:ext cx="550260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95560" y="9172440"/>
            <a:ext cx="29800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EB5C-BF69-4FD3-A4AE-8EFB583248EA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025640" y="723960"/>
            <a:ext cx="4825800" cy="36208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6880" y="4586400"/>
            <a:ext cx="550260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95560" y="9172440"/>
            <a:ext cx="29800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B066-7AB8-4F41-A3C7-B8CD6F672B08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025640" y="723960"/>
            <a:ext cx="4825800" cy="3620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6880" y="4586400"/>
            <a:ext cx="550260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95560" y="9172440"/>
            <a:ext cx="29800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9FE2-0EFA-498E-AF3D-3B527679D4AA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FA233-C082-461D-9A42-E67636174A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5FB4B-825F-48E0-AD5A-3643BD5BEF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44C93-09DE-4FD7-A8A9-31AEAFA5EB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6BEF0-7B0D-47CB-AF4B-A17B548ABB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91367-4D8A-4FA0-8673-EDE94248FB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E1C0C-9EA1-4060-B95A-51E5336807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F5E12-C4B6-4B26-9B8A-408E6715F6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7DB34-3F6F-4BC7-8EC8-CDCFE357A4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8B52B-01AA-4EB0-BA57-3F495F530E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8A7EE-CFFF-488D-A95E-C705BD844E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AD763-8723-43E8-B239-7C23184AA1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148F2-A4C2-4153-A922-FD938509DF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F0B64-0508-4BA4-88E9-5161637643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5FCDB-7630-41CC-BC46-5669746E90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E7559-6734-4999-AD04-F3452DAD44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56A6E-8635-4930-A234-7504987F71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3190C-044F-44D0-AD36-1EFA059CB68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9659E-682C-405C-9A39-6A8AACDF5CC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06914-6AD2-4D9B-ABBC-0174D20A4C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3D259-EB3C-4F5C-B377-92B451F010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4EB55-6A45-492D-8C4C-707BC2B4C6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BD175-5448-4872-B6B9-B520C89529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64336-7E5E-4D01-8FE0-5DEC2797DA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6333C-BB70-4075-95D0-06C1A2743E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8756-054A-4C46-8A71-4723F1B636F0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cefact_forum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BBB6-E3EA-4084-AF1D-422C2214EF32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4"/>
          <p:cNvSpPr/>
          <p:nvPr/>
        </p:nvSpPr>
        <p:spPr>
          <a:xfrm>
            <a:off x="2743200" y="545004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1f497d"/>
                </a:solidFill>
                <a:latin typeface="Arial"/>
              </a:rPr>
              <a:t>18th UN/CEFACT 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800" spc="-1" strike="noStrike">
                <a:solidFill>
                  <a:srgbClr val="1f497d"/>
                </a:solidFill>
                <a:latin typeface="Arial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800" spc="-1" strike="noStrike">
                <a:solidFill>
                  <a:srgbClr val="1f497d"/>
                </a:solidFill>
                <a:latin typeface="Arial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itle 5"/>
          <p:cNvSpPr/>
          <p:nvPr/>
        </p:nvSpPr>
        <p:spPr>
          <a:xfrm>
            <a:off x="941040" y="2971800"/>
            <a:ext cx="755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Arial"/>
              </a:rPr>
              <a:t>Bureau Overview of Develop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8856-1D9F-4B1B-A917-FC7FBF27820D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1219320" y="2514600"/>
            <a:ext cx="7391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What we‘ve been do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ow we‘ve been do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Lessons learn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What we can do bet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ow we see the way for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5257800" y="7398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Key t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A41F-2F1A-4AFA-8ED9-AA3DCA3D3D52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Bur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2819520" y="1841400"/>
            <a:ext cx="7391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r. Peter Amstu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Arial"/>
              </a:rPr>
              <a:t>Mr. Harm Jan van 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r. Pier Alberto Cuc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r. Mike Do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r. Victor Dravit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r. Stuart Feder, Ch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r. Tahseen A. K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r. Tim McGr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r. Bruno Pre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r. Mats Wick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EAA4-044E-4DD4-974F-0ED43DFFFBA9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Secret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2286000" y="2438280"/>
            <a:ext cx="7391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s. Virginia Cram-Mar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r. Tom Butt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r. Mika Vepsälä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r. Tauno Kang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8D90-0451-4CFE-B44F-B59A99532A36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Rapport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1752480" y="289548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r. Ibrahima Diange –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r. Ajin Jirachiefpattana –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3B34-6CE7-46CA-B520-927B7DE0618D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990720" y="1905120"/>
            <a:ext cx="8153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treamlined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Project-ori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trategic Direction and Programme of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9196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Recommendations and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9196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Outreach and 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nsen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5486400" y="7621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Key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82E4-6285-4381-B9FC-B0EF3FCA6A93}" type="slidenum">
              <a:rPr b="0" lang="de-CH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5257800" y="7621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  </a:t>
            </a: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rans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2514600" y="251460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457200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8:26:57Z</dcterms:created>
  <dc:creator>UNECE</dc:creator>
  <dc:description/>
  <dc:language>en-US</dc:language>
  <cp:lastModifiedBy>csd</cp:lastModifiedBy>
  <dcterms:modified xsi:type="dcterms:W3CDTF">2012-02-15T09:09:07Z</dcterms:modified>
  <cp:revision>231</cp:revision>
  <dc:subject>PPT Template</dc:subject>
  <dc:title>United Nations Economic Commssion for Europe</dc:title>
</cp:coreProperties>
</file>