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907588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14240" y="740880"/>
            <a:ext cx="535320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3040" cy="444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-360" y="9383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39760" y="9383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B4A8E1-C9CE-4259-8E8E-9BA8E29AB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16040" y="741240"/>
            <a:ext cx="5349960" cy="3705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erbaijan, Belarus, Georgia, Kazakhstan, Moldova, Russia, Tajikistan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-Logo" descr=""/>
          <p:cNvPicPr/>
          <p:nvPr/>
        </p:nvPicPr>
        <p:blipFill>
          <a:blip r:embed="rId2"/>
          <a:stretch/>
        </p:blipFill>
        <p:spPr>
          <a:xfrm>
            <a:off x="560520" y="0"/>
            <a:ext cx="8854920" cy="6986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40880" y="6453360"/>
            <a:ext cx="79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N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962920" y="4950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2a3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-360" y="5950080"/>
            <a:ext cx="9906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5925960"/>
            <a:ext cx="9905760" cy="932040"/>
            <a:chOff x="0" y="5925960"/>
            <a:chExt cx="9905760" cy="9320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5991120"/>
              <a:ext cx="99057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5925960"/>
              <a:ext cx="990576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426600" y="6097680"/>
              <a:ext cx="1544400" cy="558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2a3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7680"/>
            <a:ext cx="842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5925960"/>
            <a:ext cx="9905760" cy="932040"/>
            <a:chOff x="0" y="5925960"/>
            <a:chExt cx="9905760" cy="9320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5991120"/>
              <a:ext cx="99057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0" y="5925960"/>
              <a:ext cx="990576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433080" y="6093000"/>
              <a:ext cx="1928160" cy="563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hyperlink" Target="http://www.google.ch/imgres?imgurl=http://iisdrs.iisd.org/files/organizations/uneca.jpg&amp;imgrefurl=http://climate-l.iisd.org/category/actors/un-regional-economic-social-commission/uneca/&amp;usg=__sWXJ7TsKw95J6nNl58qn4JpeNoQ=&amp;h=93&amp;w=89&amp;sz=19&amp;hl=en&amp;start=4&amp;zoom=1&amp;tbnid=cIgCV76rQ4eO8M:&amp;tbnh=80&amp;tbnw=77&amp;ei=yKLwTeLOK82cOvCf0ecC&amp;prev=/search%3Fq%3DUNECA%26hl%3Den%26sa%3DN%26gbv%3D2%26tbm%3Disch&amp;itbs=1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www.google.ch/imgres?imgurl=http://www.mdgasiapacific.org/files/shared_folder/FINAL_ESCAP_LOGO_2008.jpg&amp;imgrefurl=http://www.mdgasiapacific.org/about_us&amp;usg=__KHJ6zfyCxwg5maLXmPh9Qdjv5rc=&amp;h=130&amp;w=500&amp;sz=22&amp;hl=en&amp;start=4&amp;zoom=1&amp;tbnid=UVnixcNHc5MCSM:&amp;tbnh=34&amp;tbnw=130&amp;ei=bqLwTdbMK8SUOqa4iPEC&amp;prev=/search%3Fq%3Descap%2Blogo%26hl%3Den%26sa%3DN%26gbv%3D2%26tbm%3Disch&amp;itbs=1" TargetMode="External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39440" y="1413000"/>
            <a:ext cx="67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genda item 2 : Matters arising since the fifteenth sess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retariat Capacity Building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d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pport to Transition Economi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3800" y="2636640"/>
            <a:ext cx="662436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193ff"/>
                </a:solidFill>
                <a:latin typeface="Arial"/>
              </a:rPr>
              <a:t>Presented by the UNECE secretari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93ff"/>
                </a:solidFill>
                <a:latin typeface="Arial"/>
              </a:rPr>
              <a:t>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12520" y="404640"/>
            <a:ext cx="626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pacity-building/enhancing involvement of countries in transi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0880" y="1484280"/>
            <a:ext cx="83469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ional Commonwealth for Communication (Ministries of Communication of 11 CIS countries): Meeting in Belarus in April  2011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ppoint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CC group to work with UN/CEFA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IS Interstate Council on Standardization, Metrology and Certification (Standardization bodies of 11 CIS states): Meeting in Turkmenistan in May 2011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quested UN/CEFACT to assist in preparing proposals for a potential regional standardization programme on information standards based on UN/CEFACT too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SCE Border Management College (Dushanbe): Training courses in November 2010, March 2011, June 2011, September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12520" y="0"/>
            <a:ext cx="6480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pacity-building by Regional Advi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0880" y="980640"/>
            <a:ext cx="8640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B workshops on TF, Single Window and data harmonization (using UN standards): Bishkek, Moscow, Ode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arliamentary Assembly of EurAsEC: after 4 seminars, joint studies and a publication: included TF &amp; SW in its work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erence on TF &amp; SW with the Commission of the Customs Union of BY, KZ &amp; RU, Moscow, 7-8 April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studies on the readiness of Russia for the S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ew version of the English-Russian Glossary of TF terms (after Russia acceded to the Kyoto Convention and translated 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ade policy advisory serv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A Aid-for-Trade roadmap initiative: Ministerial in Baku (1 Dec. 2010) =&gt; Ministerial Declaration &amp; AfT monitoring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retariat support to the SPECA Working Group on T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 and strategy paper for cooperation with SE Eur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44520" y="0"/>
            <a:ext cx="511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99"/>
                </a:solidFill>
                <a:latin typeface="Arial"/>
              </a:rPr>
              <a:t>Regional Adviser plans for 201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76160" y="1196640"/>
            <a:ext cx="849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PECA PWG on Trade – sixth meeting (Ashgabat 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– another meeting in SEE (Bosnia and Herzegovi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AsEC / Customs Union – support to IISVV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16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Z PROJECT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ollow-up seminar in Ukr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16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U PROJECT on national TF mechanism &amp; the Single Windo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tana seminar / Customs Un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lize the 3 studies on Russia for publication in Russian &amp; Engl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137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T Needs 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137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THER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stain initiatives in SE Europe (as the focal point for SE Europe), South Caucasus,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2760" y="4357800"/>
            <a:ext cx="5635800" cy="78084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2760" y="1776240"/>
            <a:ext cx="5635800" cy="78120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2760" y="2637000"/>
            <a:ext cx="5635800" cy="78084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2760" y="3505320"/>
            <a:ext cx="5635800" cy="78264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2760" y="5234040"/>
            <a:ext cx="5635800" cy="78084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1960" y="4357800"/>
            <a:ext cx="1569960" cy="7808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1960" y="1776240"/>
            <a:ext cx="1569960" cy="7812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6320" y="1900080"/>
            <a:ext cx="10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Tools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Gu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1960" y="2637000"/>
            <a:ext cx="1569960" cy="7808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1960" y="3505320"/>
            <a:ext cx="1569960" cy="7826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5234040"/>
            <a:ext cx="1569960" cy="7808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5240" y="2840040"/>
            <a:ext cx="7308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apa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8400" y="3708360"/>
            <a:ext cx="898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Knowled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h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1920" y="4454640"/>
            <a:ext cx="741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Reg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Advis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6960" y="5424480"/>
            <a:ext cx="8406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Resear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amp;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1482000">
            <a:off x="8475480" y="1952280"/>
            <a:ext cx="1106280" cy="1363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 rot="1742400">
            <a:off x="8356320" y="3468600"/>
            <a:ext cx="1041480" cy="13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 rot="1672800">
            <a:off x="8280360" y="5060520"/>
            <a:ext cx="1046160" cy="1287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45920" y="1784520"/>
            <a:ext cx="426024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Business Process Analysis (BPA)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Document Harmonization Guide for Single Wind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Legal Guide for Single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Data Harmonization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71760" y="2637000"/>
            <a:ext cx="552276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National Workshops on BPA, Mongoli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Nepal, Cambodia,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Regional workshops in Central Asian countries in Bangkok and Ast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08400" y="3500280"/>
            <a:ext cx="54306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UNNExT Brief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Regional Meeting of Central Asian countries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Kuala Lumpur (Oct 2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Asia Pacific Trade Facilitation Forum (2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75080" y="4594320"/>
            <a:ext cx="4230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Mongolia Single Window Master Plan Peer Revie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Nepal: Towards Single Window Environ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03160" y="5315040"/>
            <a:ext cx="46933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Regional Study on Improving Trade Proce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(Using BPA Gu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Single Window Implementation framework (EU ITA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rot="1385400">
            <a:off x="7527960" y="1166760"/>
            <a:ext cx="2220840" cy="365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31800" y="333360"/>
            <a:ext cx="8667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5560" algn="ctr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NNEx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9000" y="6093000"/>
            <a:ext cx="1570320" cy="780840"/>
          </a:xfrm>
          <a:custGeom>
            <a:avLst/>
            <a:gdLst>
              <a:gd name="textAreaLeft" fmla="*/ 0 w 1570320"/>
              <a:gd name="textAreaRight" fmla="*/ 1570680 w 157032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76040" y="6308640"/>
            <a:ext cx="625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01840" y="6103800"/>
            <a:ext cx="5635800" cy="78120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3880" y="6059520"/>
            <a:ext cx="358992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Legal Frameworks for Single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Enterprise Architecture for Single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46320" y="1102680"/>
            <a:ext cx="9530640" cy="5855400"/>
            <a:chOff x="346320" y="1102680"/>
            <a:chExt cx="9530640" cy="5855400"/>
          </a:xfrm>
        </p:grpSpPr>
        <p:sp>
          <p:nvSpPr>
            <p:cNvPr id="173" name=""/>
            <p:cNvSpPr/>
            <p:nvPr/>
          </p:nvSpPr>
          <p:spPr>
            <a:xfrm>
              <a:off x="1559520" y="2167200"/>
              <a:ext cx="7104600" cy="4258440"/>
            </a:xfrm>
            <a:prstGeom prst="rect">
              <a:avLst/>
            </a:prstGeom>
            <a:solidFill>
              <a:srgbClr val="c0c0c0">
                <a:alpha val="36000"/>
              </a:srgbClr>
            </a:solidFill>
            <a:ln cap="rnd" w="2232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4520" y="1546200"/>
              <a:ext cx="2599200" cy="532080"/>
            </a:xfrm>
            <a:prstGeom prst="downArrowCallout">
              <a:avLst>
                <a:gd name="adj1" fmla="val 121955"/>
                <a:gd name="adj2" fmla="val 122124"/>
                <a:gd name="adj3" fmla="val 25000"/>
                <a:gd name="adj4" fmla="val 6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7680" y="1723680"/>
              <a:ext cx="2079360" cy="532080"/>
            </a:xfrm>
            <a:prstGeom prst="downArrowCallout">
              <a:avLst>
                <a:gd name="adj1" fmla="val 97709"/>
                <a:gd name="adj2" fmla="val 97700"/>
                <a:gd name="adj3" fmla="val 16667"/>
                <a:gd name="adj4" fmla="val 6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7680" y="1546200"/>
              <a:ext cx="2426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robl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FAQ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66880" y="1901160"/>
              <a:ext cx="8661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38080" y="1723680"/>
              <a:ext cx="8661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53240" y="1812600"/>
              <a:ext cx="12128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77760" y="1546200"/>
              <a:ext cx="2599200" cy="354600"/>
            </a:xfrm>
            <a:prstGeom prst="flowChartProcess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77760" y="1546200"/>
              <a:ext cx="242604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Case Studies on good TF pract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5000" y="2256120"/>
              <a:ext cx="6584760" cy="381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F Generic Approa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Ho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840" y="2699640"/>
              <a:ext cx="6584760" cy="88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F Business Domai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Wher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35000" y="3675600"/>
              <a:ext cx="6584760" cy="80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How and Wher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35000" y="4563000"/>
              <a:ext cx="6584760" cy="354600"/>
            </a:xfrm>
            <a:prstGeom prst="rect">
              <a:avLst/>
            </a:prstGeom>
            <a:solidFill>
              <a:srgbClr val="ff33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TO TF Top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Wha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1320" y="3054600"/>
              <a:ext cx="1357200" cy="44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rocurement 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ov </a:t>
              </a:r>
              <a:r>
                <a:rPr b="0" lang="fr-CH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&amp;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61040" y="3232080"/>
              <a:ext cx="1732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2040" y="3054600"/>
              <a:ext cx="1212840" cy="44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Shipping &amp; 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1440" y="3054600"/>
              <a:ext cx="1386000" cy="44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ayment and Tra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in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32680" y="1102680"/>
              <a:ext cx="6758280" cy="354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F theory and practice over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Wh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200880" y="3466080"/>
              <a:ext cx="1330560" cy="1039680"/>
            </a:xfrm>
            <a:prstGeom prst="downArrowCallout">
              <a:avLst>
                <a:gd name="adj1" fmla="val 31950"/>
                <a:gd name="adj2" fmla="val 31994"/>
                <a:gd name="adj3" fmla="val 25000"/>
                <a:gd name="adj4" fmla="val 6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Organi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35000" y="5095080"/>
              <a:ext cx="7104600" cy="532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05840" y="5006520"/>
              <a:ext cx="6757920" cy="709560"/>
            </a:xfrm>
            <a:prstGeom prst="ellipse">
              <a:avLst/>
            </a:prstGeom>
            <a:solidFill>
              <a:srgbClr val="00cc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2040" y="5006520"/>
              <a:ext cx="2945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ikipedia lookalike database of TF instru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With Wha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840" y="5805000"/>
              <a:ext cx="6584760" cy="443520"/>
            </a:xfrm>
            <a:prstGeom prst="rect">
              <a:avLst/>
            </a:prstGeom>
            <a:solidFill>
              <a:srgbClr val="3366ff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ey TF Organis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Wh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98400" y="3054600"/>
              <a:ext cx="1559520" cy="44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Customs &amp; Cross Border 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0800000">
              <a:off x="3465360" y="6426000"/>
              <a:ext cx="2945880" cy="532080"/>
            </a:xfrm>
            <a:prstGeom prst="downArrowCallout">
              <a:avLst>
                <a:gd name="adj1" fmla="val 138221"/>
                <a:gd name="adj2" fmla="val 138413"/>
                <a:gd name="adj3" fmla="val 25000"/>
                <a:gd name="adj4" fmla="val 6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Instru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8691840" y="3377520"/>
              <a:ext cx="1330560" cy="1039680"/>
            </a:xfrm>
            <a:prstGeom prst="downArrowCallout">
              <a:avLst>
                <a:gd name="adj1" fmla="val 31950"/>
                <a:gd name="adj2" fmla="val 31994"/>
                <a:gd name="adj3" fmla="val 25000"/>
                <a:gd name="adj4" fmla="val 6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omain/Ar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24160" y="3860640"/>
            <a:ext cx="3743280" cy="514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72880" y="189000"/>
            <a:ext cx="9296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rade Facilitation Implementation Gu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4520" y="475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  <a:ea typeface="Arial Unicode MS"/>
              </a:rPr>
              <a:t>UN Global Conference on Single Window</a:t>
            </a:r>
            <a:br>
              <a:rPr sz="2200"/>
            </a:br>
            <a:r>
              <a:rPr b="1" lang="en-GB" sz="2200" spc="-1" strike="noStrike">
                <a:solidFill>
                  <a:srgbClr val="ff3300"/>
                </a:solidFill>
                <a:latin typeface="Arial"/>
                <a:ea typeface="Arial Unicode MS"/>
              </a:rPr>
              <a:t>in International Trad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8520" y="1889280"/>
            <a:ext cx="9001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1250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 years of S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have we achiev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works and what does no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could be the agendas for the next ten yea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are future requiremen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ch technologies will shape S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250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?  10-14 December 2011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250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a broader joint UNRC project to enhance participation of developing countries in global supply chains (ECA, ECE, ESCAP, ESCWA, ECLAC and UN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79360" y="189000"/>
            <a:ext cx="1793880" cy="477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2880" y="765000"/>
            <a:ext cx="650880" cy="624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905600" y="100080"/>
            <a:ext cx="1873440" cy="44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8697960" y="83664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1249200" y="706320"/>
            <a:ext cx="750960" cy="70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7977240" y="692280"/>
            <a:ext cx="490320" cy="92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05240" y="47628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ittee on Trad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2449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acilitation Audit of Bela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21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and procedural obstacles to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2449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udy: Kazakh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TBWA</dc:creator>
  <dc:description/>
  <dc:language>en-US</dc:language>
  <cp:lastModifiedBy>Vivekanantham</cp:lastModifiedBy>
  <cp:lastPrinted>2001-03-15T16:33:27Z</cp:lastPrinted>
  <dcterms:modified xsi:type="dcterms:W3CDTF">2011-07-15T13:40:13Z</dcterms:modified>
  <cp:revision>213</cp:revision>
  <dc:subject/>
  <dc:title>Sin título de diapositiva</dc:title>
</cp:coreProperties>
</file>