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907588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8397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714240" y="740880"/>
            <a:ext cx="535320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3040" cy="444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-360" y="93837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839760" y="93837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4CE5784-8FE0-48EF-A5D0-37AF804C2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16040" y="741240"/>
            <a:ext cx="5349960" cy="37054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erbaijan, Belarus, Georgia, Kazakhstan, Moldova, Russia, Tajikistan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29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53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088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29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53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21240" y="0"/>
            <a:ext cx="5384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429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653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2088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429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653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21240" y="0"/>
            <a:ext cx="5384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429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653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2088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429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653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21240" y="0"/>
            <a:ext cx="5384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UN-Logo" descr=""/>
          <p:cNvPicPr/>
          <p:nvPr/>
        </p:nvPicPr>
        <p:blipFill>
          <a:blip r:embed="rId2"/>
          <a:stretch/>
        </p:blipFill>
        <p:spPr>
          <a:xfrm>
            <a:off x="560520" y="0"/>
            <a:ext cx="8854920" cy="6986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840880" y="6453360"/>
            <a:ext cx="799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N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962920" y="49500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2a3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-360" y="5950080"/>
            <a:ext cx="99061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5925960"/>
            <a:ext cx="9905760" cy="932040"/>
            <a:chOff x="0" y="5925960"/>
            <a:chExt cx="9905760" cy="93204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5991120"/>
              <a:ext cx="99057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5925960"/>
              <a:ext cx="990576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426600" y="6097680"/>
              <a:ext cx="1544400" cy="558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2a3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607680"/>
            <a:ext cx="842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5925960"/>
            <a:ext cx="9905760" cy="932040"/>
            <a:chOff x="0" y="5925960"/>
            <a:chExt cx="9905760" cy="93204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0" y="5991120"/>
              <a:ext cx="99057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0" y="5925960"/>
              <a:ext cx="990576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433080" y="6093000"/>
              <a:ext cx="1928160" cy="563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39440" y="1413000"/>
            <a:ext cx="67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genda item 2 : Matters arising since the fifteenth sess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39800" y="2491920"/>
            <a:ext cx="66247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193ff"/>
                </a:solidFill>
                <a:latin typeface="Arial"/>
              </a:rPr>
              <a:t>Presented by the UNECE secretari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93ff"/>
                </a:solidFill>
                <a:latin typeface="Arial"/>
              </a:rPr>
              <a:t>f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8880" y="333360"/>
            <a:ext cx="907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y-fourth session of UNECE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rch 2011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8347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0080" indent="-34596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Year Review will take place in 2011-2012 (following UNECE reform in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-34596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/CEFACT Review will be within the frame of the review by the Committee on Trade of its three Subsidiary Bodies (UN/CEFACT, WP.6 Regulatory Cooperation and Standardization and WP.7 Agricultural Stand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-34596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will be on transparency, delivery, coherence and programme of work based on member States priorities and nee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2520" y="476280"/>
            <a:ext cx="7345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mittee on Trade sessi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4-15 June 2011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0880" y="1844640"/>
            <a:ext cx="8346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by FMG Chai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s since last CT session (February 2009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EXCOM recommend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iat report on capacity-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52520" y="260280"/>
            <a:ext cx="7345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mittee on Trade session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4-15 June 2011 …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20880" y="1457280"/>
            <a:ext cx="8346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Aft>
                <a:spcPts val="2999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CT deci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Aft>
                <a:spcPts val="2999"/>
              </a:spcAft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ed 2009 and 2010 UN/CEFACT Plenary reports, 2010-11 work program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Aft>
                <a:spcPts val="2999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d EXCOM’s extension of Permanent Groups’ mandates and its Recommendations concerning UN/CEFACT, reports to EXCOM on the implementation of Recomme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2520" y="260280"/>
            <a:ext cx="7345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99"/>
                </a:solidFill>
                <a:latin typeface="Arial"/>
              </a:rPr>
              <a:t>Committee on Trade session </a:t>
            </a:r>
            <a:br>
              <a:rPr sz="2800"/>
            </a:br>
            <a:r>
              <a:rPr b="1" lang="fr-CH" sz="2800" spc="-1" strike="noStrike">
                <a:solidFill>
                  <a:srgbClr val="333399"/>
                </a:solidFill>
                <a:latin typeface="Arial"/>
              </a:rPr>
              <a:t>14-15 June 2011 …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20880" y="1457280"/>
            <a:ext cx="8346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Aft>
                <a:spcPts val="2999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CT deci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Aft>
                <a:spcPts val="2999"/>
              </a:spcAft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k note of revision of UN/CEFACT's structure, mandate, terms of reference and procedures (document ECE/TRADE/C/2009/15/Rev.2)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greed to consider it intersessionally after receiving the assessment of advantages and disadvantages of proposed restructu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red to in para. 29 of 2010 Plenary Report (ECE/TRADE/C/CEFACT/2010/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Aft>
                <a:spcPts val="2999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secretariat to respond directly to enquiries from member States to the greatest exten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39800" y="40464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COM Meeting December 201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20880" y="14130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noted with satisfaction the progress made to date (in implementing the EXCOM Recommendations regarding UN/CEFACT) and looked forward to further work being undertaken to complete the tas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cognized the positive work in capacity building and encouraging the participation of transition economies in the work of UN/CEFACT and requested that this be continued and strength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39800" y="40464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COM Meeting December 201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20880" y="14130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lso acknowledged the greater cooperation between UN/CEFACT and the secretari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elegation underlined the need to ensure that the work of UN/CEFACT corresponds to priorities of member St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nother delegation stressed the importance of ensuring that the ongoing restructuring of UN/CEFACT be in line with the aims and tasks as set out by the recommendations of EXCOM for UN/CEFA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39800" y="40464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COM Meeting December 201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20880" y="14130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OM requested UN/CEFACT and the secretariat to report back on the outcome of the UN/CEFACT Plenary to take place in July 2011 with respect to the restructuring of UN/CEFACT and on further actions to implement the EXCOM recommend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EXCOM meeting: Sept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6160" y="404640"/>
            <a:ext cx="80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pacity-building/enhancing involvement of countries in transit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2160" y="2781360"/>
            <a:ext cx="83469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will be delivered under Item 7 – Other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TBWA</dc:creator>
  <dc:description/>
  <dc:language>en-US</dc:language>
  <cp:lastModifiedBy>Vivekanantham</cp:lastModifiedBy>
  <cp:lastPrinted>2001-03-15T16:33:27Z</cp:lastPrinted>
  <dcterms:modified xsi:type="dcterms:W3CDTF">2011-07-15T13:39:52Z</dcterms:modified>
  <cp:revision>214</cp:revision>
  <dc:subject/>
  <dc:title>Sin título de diapositiva</dc:title>
</cp:coreProperties>
</file>