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B1B2-60F6-4A03-A600-1EEC3F77B53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4273-96F1-4366-BEAC-32E0AEED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B75-46E9-463D-925D-9BEC94702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DF54-0F00-462D-8758-043B75A9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2C9A-C14D-45A8-995C-CC182D30D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CE1F-D2B3-45C8-B9F8-7D1C1B2768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6312D-E415-4C47-9E98-9D9B073B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20C83-CC8F-4A02-8F6F-584BE93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BE515-BAA6-44D8-9F2B-617371F4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7AE0D-99A3-4C3C-8AC4-5AE1A0C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5D601-7E8B-4CF7-A66E-8F72146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29356-159B-4D55-A429-BC2D1A1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CE9A6-7399-4D09-9C03-DC9033B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0B2C5-CF62-4603-8EB8-BE7B321B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0E8D2-075F-49DC-9D9A-5F5D02E6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AE71C-F0E3-4E34-AD00-3A870CBF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7939-7095-405F-AB2F-69408189F8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69FAF-FE8F-4760-9FBC-CFAF954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3580E-368B-4AC1-B34D-D9BB89EB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76773-0C94-4F2B-AFE4-3C39955E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7561F-AFBA-4893-AA70-5284FD0D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72EB0-3C64-4921-9F85-E0AC4D62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CD010-DA78-4E05-8738-4527017E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360A4-EC16-4A0B-BC99-D9B4ACC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AB5CD-3669-4AD7-8641-D4D6B3C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E4341-A138-47E7-B04E-364122A8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E06AB-68CE-4B02-8109-5CCE134F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6F13-95BE-4DF9-B5B7-5F665121ED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01770-5A4B-4129-AE72-F2FF5C21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71AC45-B89A-475D-8DA3-46C2112E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E9424D-42DA-41FA-8B12-C022F25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2B812C-C396-45E0-A8A0-366A69A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6AF5DD-3FF8-4AE0-A7D3-7F42BCC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B5C587-06C3-4C14-A194-5223E897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9A8B4D-E232-48C6-A074-BF6626F7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29CA7F-8542-4F81-82A8-CF01A10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E5D463-E723-4080-881F-5751CB8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9F15B0-84AD-4C08-B70B-3F8F549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8DE42-DFE5-48CD-A075-4BEFF809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5F77EA-9C5F-4EE2-A863-9077633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52F03D-0DB3-4DB0-A0E3-3670522A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FA8DE6-C9D3-411E-BE78-7250D160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59EF1-0896-4C9A-BCE3-45DB289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D9F16-D47B-4F07-BB8C-415735A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58B3B-35B7-4781-86EF-811FBF5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15AEF-F620-4657-B98D-6B80ECE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B5258-E18E-46F5-BF84-4BA15E9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FDB4E-B9C1-4C0D-BE88-F62677E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C104-1F79-456C-A02B-C92844E32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3978B-0DF4-481F-A8DD-6F0FC59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AF3AA-8394-4714-8262-2D80A0B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328D9-DBDB-45D9-94BB-4D48AADD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0DB8B-04E0-45E0-9F5A-57AF6FBA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915B3-9FFA-4C39-A035-3A4E08CB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19AE6-421A-4DF8-9362-FFBBB513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FEB57-5148-4CDD-A850-D2B1FDF2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FF818-120B-41B9-9B32-6EED1D04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59D54-0B4F-4A36-A2EF-7A33D5A0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453D3-49DD-426C-95E6-13EE2AE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3200-D38A-460B-BAC6-0E0F451CD5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8152F-BE0F-4016-9B74-0E1B325A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066A1-3CF7-416F-94E5-265CC63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9388E-4CB1-4A46-B623-5AB075E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C11C3-0677-487C-A6B9-C28CBD8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BE20E-8AAA-4436-921F-B65794D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C8A1ED-A629-4DF9-98E5-15D6E6AF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9B28F-1E57-4256-BD95-673686AB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4481E-87ED-4F48-8D64-01521E64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FAB7A-58BC-4D05-95F7-494D33C8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14200-BE66-49FC-A92C-1ABBBA6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976B-5896-43D1-AE82-47397EFCAB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7488C-15CE-4E84-9311-529DB7D4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B8879-887C-410D-988E-03320E9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29A84-ADF7-4C5C-863E-2CACE1B6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F0E19A-E6A5-4AC9-8DF6-ED8CC5C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07AFC-CE23-49DB-9DA8-C5DD823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AEB50-DE02-41C0-9E93-F3106AFF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9D9E2-10C0-4DC5-9D35-DF5B788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BC5F6-40D8-4F8A-9C80-E1B9E08C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E8E05-EC7B-4D4B-B617-6464F9E6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9E34B6-6BB1-40B1-8CCB-284A4017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EF0A-3B71-413D-866B-DD1C0AAFD4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77FBE-C4DF-4097-B43C-AA0E5F27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CA215-E06A-4059-A8F6-0CFEACA5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C7612-80E2-4336-95AC-0F491D1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BAD72-2987-4EA2-8F18-3BB7259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D4F1E4-C09D-4934-B56C-8551C59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2C998E-F997-47E2-BA59-5F1FBB9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6C6FC7-11FA-4CA5-8B2D-4204249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835C0-E29F-4F6C-84CC-504EC9A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CBE329-A0C1-483B-B52F-C269990C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659D2-F8AF-4957-9D02-85257318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3C72-1322-4193-8B67-1C6F04C8FE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1D118-607B-42F8-90EF-0797245E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33774-8F36-4A22-B908-454F34E7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CB77A-7DCE-480E-86CA-2C99FDB9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70168-9CD3-4168-AE0B-00BED869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05C44-49C9-4F91-8C84-51C4C291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5CF7D-EE91-4985-8DDD-78791BB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1B2E86-A968-4FB4-984A-8C7F2E2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C475D-BD6A-4D5D-8AF1-8632CC5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46309-1572-4382-B844-3EC5FF25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FF491-10C9-4506-A9ED-F145B63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EA56-7005-4D91-AAC6-D4D0E4E73A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EF16C-DAA9-442E-A6DE-0C04481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25429-601C-400C-8F76-386DECC6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FBE20-30AC-4DA6-B354-A5757B78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B7304E-D981-4BC5-8696-5D2B1307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FA4752-693F-4AB0-8932-96B318B8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92BC19-2DB1-44B5-BB47-86ABE5C1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EF788-07C7-47D8-B232-9F3EFF3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F5D73B-55BA-4D1B-8939-FFDE78E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DFA3C-D070-4A7C-8A56-13209D2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3E29C-F99D-4317-B559-8A6F3D0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1C4F-06D9-4AF0-A496-78DA902164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75B830-1156-42E0-85EA-CA3924C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214F7-45F0-4DC0-9FC4-880B9A71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834119-3C67-43C9-811A-773729A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CEDA5-F996-410D-B6B1-6299E77F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5188E-1F88-4CD8-B18F-3AAC2800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7CA06A-998C-449F-8610-A80A7634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B0355-F75B-4FDC-B40E-5E163EC1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A71C51-7B56-4632-AE96-BFABB728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03C142-65F1-44FA-9096-74A92E4F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9AEBAE-E3C6-4F89-95AE-79E80C6A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5F34-46B7-4E2F-906D-FE26E673E3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07264-171A-48B9-9BB9-051779DE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68BA62-2D03-40BA-AD6A-9ED1367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A95FAC-A9BB-448C-A545-24339DB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901AD-603D-4043-8468-EE0C855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1E1AC1-FD55-46FC-B446-CD3B694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8E96F-CA1B-47FC-9198-4E8D5993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C686C-7E14-46E6-892E-BCCB7264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72662-0936-4D02-87DA-74500C4B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8A07E-5681-44CD-A360-BBD1DF2A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5F53B-365F-45C0-9443-0C831747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A98-AB12-4F49-95D8-06CFA62ADF0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6A3-B7A5-4673-ABC6-5B1B16F0745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5338-6663-4C2E-A58D-8BB9DF07A2E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6BEF-9E53-4116-A7D9-65D125844A04}" type="slidenum"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B752-0E35-4B68-B93F-AE1CBA06945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2F5-FB26-4518-BD4B-CF95BA9594D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0048-1BCC-4FD7-AB9D-A622DFC4BB4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713-E4A7-475B-BD5F-1C0CCEC4DF4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F05A-6CE8-4C3B-8BA9-5C55B4FCADA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310-4F23-4534-899E-A2AA59C8D18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823A-DC19-4A57-97FC-2D21F73BBB5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1981080" y="59436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8 - 10 Dec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UN/CEFACT Sixteen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Palais des Nations, Geneva, Switz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33640" y="2935440"/>
            <a:ext cx="687384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Arial"/>
              </a:rPr>
              <a:t>Bureau Overview of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4FD-FC7D-437E-9BB7-2673F1EF6D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03920" y="836280"/>
            <a:ext cx="38592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riefing co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hat‘s happened since last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hat‘s ahead in this year‘s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350E-9024-46A0-81CC-0741B791C0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2860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ince our last meeting in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Major focus on stakeholder outrea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Forums: Bangkok in April cancelled for safety, Geneva in Augu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eBGT developments – gap analyses, technical alterna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Host Country Agre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Meetings with Extended Bureau to reach consensus on chan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Key decision: Bureau to propose change to Plenary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5644800" y="9144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Some key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6F4A-68FB-4932-BA2F-81B3D6168B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15807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hat‘s ahead during this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Agenda topic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Activities of groups and sub-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Bureau proposal for chan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Exchange of views on the way forwa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5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5572440" y="92556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At 16th Plenary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Admin</cp:lastModifiedBy>
  <dcterms:modified xsi:type="dcterms:W3CDTF">2010-12-08T05:46:29Z</dcterms:modified>
  <cp:revision>77</cp:revision>
  <dc:subject>PPT Template</dc:subject>
  <dc:title>United Nations Economic Commssion for Europe</dc:title>
</cp:coreProperties>
</file>