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4000-6742-415D-B996-D8886C87C182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8BF9-8823-472B-BCA5-E56055E70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29D5-C0D8-480C-8654-3F63C71DB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B4B0-EDA9-47AA-8C21-79D742629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494D-F533-4F77-94E7-A98314D44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D045-C40F-4256-B57E-9FB60346264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C8DBD-E807-4604-868D-BBE0DAE3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284D7-B20C-4370-B04C-E09E9DD6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C3E93-90C4-4A35-BE22-7A3DB32A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E5633-5E86-44DF-BD9D-383A96E8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663C4-2840-4F67-9DFB-3A73C65D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57F3A-82DA-4942-8E11-1F86CF96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CD46E-D521-4E8A-B189-FB980C1D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9FA47-14E3-49C0-9B03-BC560E7A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DCA06-3D7C-4554-9936-EE2B6C8C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0BA79-461B-46D4-9619-BE28CE7D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D5C5-3405-4C74-8076-8662B8CA0B8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41514-91EA-4339-83EE-3AE9C610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CD852-2775-4EFF-A262-F4AEEDF1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568B4-7D0C-4A11-B2E8-5B4EF040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83665-07DB-441C-93DA-44D05705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FA6C8-B78C-4184-8D37-C01775EB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586B6-74DD-4DDA-B0A3-C06884C2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75C3A-526B-4E09-A09B-7F628C1C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9FD03-7370-41A5-9B74-3ED85AAC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B2F0D-6FC4-4C09-9A35-2FCE2481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BCDD4-7786-4E8C-954C-CEB9A676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3C20-44B3-442A-8CBD-ADFDD41B011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5AADA-7D18-435B-B587-FD76EC29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A80A01-7372-4EF3-864F-ECF0240B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957072-822B-49DF-A5A2-224F104C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527C55-5DE5-46C5-8A10-9F2FA49D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9FEB1D-C0B2-4CCC-9F41-48EB9058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BE6C8F-0C03-49B3-A405-2E601E9D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3EFBEE-4EDE-406F-8493-720292BE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B158DE-5BF2-4F30-8E2C-E1B5C0DB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42A66F-9D05-49B2-9D2E-4149AF4C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8C8672-54FD-4EB8-90E4-0AC2198C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CDADC-1BAF-491A-9A12-04DD3E59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42BB28-B75E-49B2-914E-5E4ABFA6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842216-B5EE-4559-8CA5-E3C934E0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218496-2048-4CFC-91D3-108C1BA4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30139-DCC5-4A18-A9B3-E1C99A0A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2DDF8-AAA7-45C4-9967-50298D34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27CE2-F5FC-4BF7-8714-557B915B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52129-89B3-481E-9F57-339A7F64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2A305-19BA-474C-97AB-92B385C8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3A210-F7CD-4788-B02E-AB5C350C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95A2-6686-4D56-8473-DA729F63C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BAD92-F1DB-49D1-84D4-F355AE1E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7391F-F61D-40B7-8B90-CAA34660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8D949-AEC0-4827-9DAF-7D5743A5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05137-CB6B-49A8-A96F-F29C9A2C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E1263-E953-405B-8527-80B60537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81CA2B-EC0F-43E0-BF1C-FE01F734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0121B7-E905-4FB1-ABC6-CDF61FE5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E862E2-65D9-4264-A2D7-686BD617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9E39A3-144B-4488-B4DB-7F1A1674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CA9CAB-D1CF-48B9-BFA1-F485F9C3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558A-11EF-40BE-93A4-CBF6CE5E8A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BAA521-9FAD-4C86-B25E-D4DB294D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28332F-6737-4695-BF11-95F9EF81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852BA1-CE33-4ED1-ADD4-7EE6C7C2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8C4F77-874D-4324-9302-2AB32989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B4F929-AC73-4EC9-ABF7-8BFCE6D7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87FDD-A51E-49EF-9C94-579D4BBA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D11305-62F1-44EB-BAEA-E6C7439C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2329C3-54E0-482D-9F23-56168A73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30CEB4-D174-406C-968B-23CE358B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15A738-53BE-42FA-9B1E-0ADEAF82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2DBA-1E54-4179-9381-64270E79DD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ADD9EB-DB68-46D6-AD30-18C5FDB5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4479A7-B755-435B-B9F5-33A116F4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489C6-1D1E-47B9-9D87-69DAAB92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28CAEA-E4B0-4CA6-8E7C-6904A554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B95964-9CFD-4E58-AB1A-46BADCFF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CB9408-43A6-4F84-A8F0-DBF49CF3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7A4870-DD02-435C-8413-F5DF7673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7055A6-3D97-458E-8825-B5CF0D51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A3056-8D27-496B-9418-51BAA3BD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3E33CD-EE2E-409B-8CAA-4BFFB4D4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2673-5205-4008-B66D-236ECA36F8C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B8AFBD-A9E5-4D67-9E66-E95FD354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E228B3-DE2E-41BA-BAED-7C6A1AA0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647C6C-6E28-4DE6-B425-2CB5E0EC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3BF3DF-FCD8-47BB-98D4-5C8C2630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3549F4-F864-489D-BA61-79BE61E4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9C31A4-9CB3-4357-BAEA-4A6BF0A8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3770ED-8EBE-4B42-92FD-946A89FA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33991C-F44F-484C-9169-E537FA92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33E8D8-3A9C-4500-A0CA-5E42E053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3A1083-F299-4653-83AC-AAFDF8CD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F902-A310-4CDD-AB09-AACD22431D5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F15205-69D3-41F4-885B-F5FE8D21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B8F083-520E-497C-94AB-16FEB083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B3364F-4026-4D17-892D-BF36F32D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0DC229-3DA4-413B-9AE1-8C1A7129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2E5CE5-C7F5-4D27-8593-BC188618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5317A3-99B8-460B-A1E8-44B934F4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D7E7C0-5AF8-4270-B203-7FD14B16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AD1E59-7CFB-460B-92EE-F1ABAD93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AF0C4F-1D0A-4F7B-B59F-8F27D4D5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67F48A-31A9-4BF7-A816-F89333A8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D1CE-CEEC-45A0-8C06-861AB54CF91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FD2F3F-3781-4C2B-BA0A-BEA569BF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64C8B4-94F3-4E09-B071-ECCA2E6A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9655C0-1242-4B3C-B92B-D4262804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C82897-B759-4ADF-A10B-72F36B2C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F5FAB3-06AC-4BC8-B4D6-DD3A0912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70667E-6D4A-4FA8-AD97-21EA76F8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1721AE-83C1-4082-94DA-C69FB08C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48E1BC-D8CA-428C-A354-6347F668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16DA46-B2B1-42D1-B866-56FF78C4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07898A-AC9F-449E-A6B6-2DD55016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D0F8-C1F8-4072-910B-606D910F7A2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91AC6B-CC95-4EB9-A5BD-9B059B32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9CBA56-F948-443A-8095-0BAFF709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96BDDE-9E48-408D-928C-F7311419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0DA7A4-4BCB-402D-B7C3-2DE88149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F28EF6-B47D-4549-8497-7A68A30B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054AAA-9371-43AC-A094-A131ECF6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8CC9BF-0B12-4E67-A2CB-52ED1E77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ACCDFC-4E85-4C50-A422-855F3624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8F0AD9-DF0D-46DD-B1C1-0ACDE88F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D9A566-9BB8-49C2-B91E-C2D773CB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595B-DD4A-4525-A9F9-EB6ACF229FD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4E452D-4986-4641-A640-7C7CD2EB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12FB41-CE8F-47AE-9011-655AF3CD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080DE1-E35C-4259-B524-6AFF36CF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16B11D-5493-4D44-AB45-89DB8290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6EC277-EEC8-45B1-B6A6-B071F196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F678AE-0297-45AB-83A0-6D7F9970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A4ED22-6159-4F81-A88D-E831B65E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53F04-C83F-4FB5-88A5-84C7F742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22B2E-E0E1-442C-BEAB-27A2EB93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4412D-AB6D-4D31-8077-63387817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5367-14B1-49F1-A9A8-0BA9BB6CA3DD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E49B-4034-466C-8741-9C210D96493C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407E-CB50-4E3C-9DDF-CBCB7C21BC56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9055-F48D-46A3-A73C-9F290720E436}" type="slidenum"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AD6E-DB7D-452B-8697-40678C536773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767B-04FB-4684-975E-883A2D4774A5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951E-C447-43CD-8EC1-AC99D6516AFE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1218-51A4-4DA7-A873-D6D4993A1B28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7622-465E-4000-ABBD-B426D0A89904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4C51-123C-46A8-B2BB-5209AC6E5817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970C-46CC-40DD-A726-1C90AB9DC67F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5"/>
          <p:cNvSpPr/>
          <p:nvPr/>
        </p:nvSpPr>
        <p:spPr>
          <a:xfrm>
            <a:off x="1981080" y="5943600"/>
            <a:ext cx="502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8 - 10 Decembe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UN/CEFACT Sixteenth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Palais des Nations, Geneva, Switzer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33640" y="2935440"/>
            <a:ext cx="687384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1f497d"/>
                </a:solidFill>
                <a:latin typeface="Calibri"/>
                <a:ea typeface="Arial"/>
              </a:rPr>
              <a:t>Bureau Overview of Develop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4BA6-74A0-4F6A-A1F6-9CBA7FB00D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03920" y="836280"/>
            <a:ext cx="38592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riefing cove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What‘s happened since last Ple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What‘s ahead in this year‘s Ple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9708-0973-40DB-A1B9-D4C679DEB1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2860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Since our last meeting in November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Major focus on stakeholder outreac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Forums: Bangkok in April cancelled for safety, Geneva in Augus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eBGT developments – gap analyses, technical alternativ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Host Country Agre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Meetings with Extended Bureau to reach consensus on chan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Key decision: Bureau to propose change to Plenary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5644800" y="91440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Some key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C610-2194-4021-AD79-D03BCF7B3F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7200" y="158076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What‘s ahead during this Ple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Agenda topic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Activities of groups and sub-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Bureau proposal for chan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Exchange of views on the way forwa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5572440" y="92556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At 16th Plenary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Admin</cp:lastModifiedBy>
  <dcterms:modified xsi:type="dcterms:W3CDTF">2010-12-08T05:46:29Z</dcterms:modified>
  <cp:revision>77</cp:revision>
  <dc:subject>PPT Template</dc:subject>
  <dc:title>United Nations Economic Commssion for Europe</dc:title>
</cp:coreProperties>
</file>