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EA7-6F5A-4236-BA19-0B0279C4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CF1-E26D-46BD-B1A1-B3049ED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CC-8BFB-40DB-923A-D702880C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CEE-D72F-4330-ADDB-C1BAD404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21B-C11A-488D-B890-E51D348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F8B-FE5D-4C9A-A8BA-C3FB6E93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756-EFC4-44AE-B31C-5D6A262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DE-B57B-4440-8CDB-C168B78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721-CA81-4FFA-B794-0B2CD78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FE0-F30C-464F-8A14-E5C0938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99E-9CD7-47FF-A19C-DDD8256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FD6-1AA5-408C-A9A9-7383F25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F5B7-DEAB-413D-BB34-4F8DFEDE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00"/>
                </a:solidFill>
                <a:latin typeface="Arial"/>
              </a:rPr>
              <a:t>ISO/TC 1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es, data elements and documents in commerce, industry and admin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Mission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undertake and facilitate development and maintenance of international standards for data exchange in the value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O/TC 154 standards cover data exchange regardless of media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O/TC 154 fosters harmonization between and within international standards development organizations, particularly through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-business MoU M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tructure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1 Joint syntax working group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2 SDM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3 CCTS - Core Component Technical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4 eLK (electronic Layout Key)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D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aintenance Agency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358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collaborations (2 joint WG &amp; 1 MA) between ISO/TC 154 and UN/C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ipation of UN/CEFACT experts in WG2 (SDMX) and WG3 (C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plenary meeting (August 2010): many participants also participate in UN/CEFA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1196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collaboration betwee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use of opportunities that ISO/TC 154 off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O = a well known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pt ISO standards on national/regional level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[e.g. EN ISO standard -&gt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ndato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doption of EN ISO standard by all CEN members (= 30 European countries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pt UN/CEFACT standards as ISO standards by ISO/TC 154 -&gt; so other ISO/TCs don’t develop ISO standards that duplicate work of/conflict with existing UN/CEFAC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435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O/TC 154 is in the process of ap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laus-Dieter Naujok as Convenor to TC 154/Joint WG 1 Joint syntax working group (with UN/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O/TC 154 resolution for TC Sec to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nd out New Work Item proposal for revision of ISO 7372, as soon as proposal is drafted by TDED joint 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352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r Brian Sta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chnical Programm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 Central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41 22 749 03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nton@is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716360" y="2708280"/>
            <a:ext cx="3959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Mr Tim Kn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ecretary to ISO/TC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tandardisation Consultant 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+31-15269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tim.kniep@nen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2:57:56Z</dcterms:created>
  <dc:creator>Automatisering</dc:creator>
  <dc:description/>
  <dc:language>en-US</dc:language>
  <cp:lastModifiedBy>STANTON Brian</cp:lastModifiedBy>
  <dcterms:modified xsi:type="dcterms:W3CDTF">2010-12-09T16:52:06Z</dcterms:modified>
  <cp:revision>24</cp:revision>
  <dc:subject/>
  <dc:title>Slide 1</dc:title>
</cp:coreProperties>
</file>