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A384C-F0FA-4A0C-B6D2-D23BDE12F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9415C-C47A-44D3-823D-4066B3E31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7D493-1E30-4FC0-984D-54E4BAB6A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BCB19-A7EB-4D64-87ED-52D7E7E67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1A998-BA78-4B10-BC3F-2F86BD4F3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4FFBD-7FD1-4A87-95FC-B1C5DA942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DC2FF-04E8-41EA-A80C-F5F1C1311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FC418-7465-47B0-9196-7D50C727A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DBA09-B832-45CF-BBD2-0DB0200E4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55AAA-2ECB-4D91-BDC0-5AD44A274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65E94-5694-4CA0-96C1-293CF0A83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17928-B328-439A-A4D2-9FFF32A25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DD6D1-12F2-42C9-B69F-02C55F4323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>
                <a:solidFill>
                  <a:srgbClr val="ffff00"/>
                </a:solidFill>
                <a:latin typeface="Arial"/>
              </a:rPr>
              <a:t>ISO/TC 15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3357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Processes, data elements and documents in commerce, industry and administr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logo_iso"/>
          <p:cNvPicPr/>
          <p:nvPr/>
        </p:nvPicPr>
        <p:blipFill>
          <a:blip r:embed="rId1"/>
          <a:stretch/>
        </p:blipFill>
        <p:spPr>
          <a:xfrm>
            <a:off x="0" y="0"/>
            <a:ext cx="2916360" cy="836640"/>
          </a:xfrm>
          <a:prstGeom prst="rect">
            <a:avLst/>
          </a:prstGeom>
          <a:ln w="0">
            <a:noFill/>
          </a:ln>
        </p:spPr>
      </p:pic>
      <p:sp>
        <p:nvSpPr>
          <p:cNvPr id="44" name="Text Box 5"/>
          <p:cNvSpPr/>
          <p:nvPr/>
        </p:nvSpPr>
        <p:spPr>
          <a:xfrm>
            <a:off x="0" y="907920"/>
            <a:ext cx="26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ISO/TC 1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00"/>
                </a:solidFill>
                <a:latin typeface="Arial"/>
              </a:rPr>
              <a:t>Mission ISO/TC 154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6840" y="2133360"/>
            <a:ext cx="84358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o undertake and facilitate development and maintenance of international standards for data exchange in the value chai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ISO/TC 154 standards cover data exchange regardless of media used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ISO/TC 154 fosters harmonization between and within international standards development organizations, particularly through the </a:t>
            </a: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e-business MoU MG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logo_iso"/>
          <p:cNvPicPr/>
          <p:nvPr/>
        </p:nvPicPr>
        <p:blipFill>
          <a:blip r:embed="rId1"/>
          <a:stretch/>
        </p:blipFill>
        <p:spPr>
          <a:xfrm>
            <a:off x="0" y="0"/>
            <a:ext cx="2916360" cy="836640"/>
          </a:xfrm>
          <a:prstGeom prst="rect">
            <a:avLst/>
          </a:prstGeom>
          <a:ln w="0">
            <a:noFill/>
          </a:ln>
        </p:spPr>
      </p:pic>
      <p:sp>
        <p:nvSpPr>
          <p:cNvPr id="48" name="Text Box 5"/>
          <p:cNvSpPr/>
          <p:nvPr/>
        </p:nvSpPr>
        <p:spPr>
          <a:xfrm>
            <a:off x="0" y="907920"/>
            <a:ext cx="26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ISO/TC 1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00"/>
                </a:solidFill>
                <a:latin typeface="Arial"/>
              </a:rPr>
              <a:t>Structure ISO/TC 154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2133360"/>
            <a:ext cx="84358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C 154/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Joint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WG 1 Joint syntax working group (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with UN/ECE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C 154/WG 2 SDMX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C 154/WG 3 CCTS - Core Component Technical Spec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C 154/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 Joint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WG 4 eLK (electronic Layout Key) (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with UN/ECE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DED 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Joint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Maintenance Agency (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with UN/ECE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logo_iso"/>
          <p:cNvPicPr/>
          <p:nvPr/>
        </p:nvPicPr>
        <p:blipFill>
          <a:blip r:embed="rId1"/>
          <a:stretch/>
        </p:blipFill>
        <p:spPr>
          <a:xfrm>
            <a:off x="0" y="0"/>
            <a:ext cx="2916360" cy="836640"/>
          </a:xfrm>
          <a:prstGeom prst="rect">
            <a:avLst/>
          </a:prstGeom>
          <a:ln w="0">
            <a:noFill/>
          </a:ln>
        </p:spPr>
      </p:pic>
      <p:sp>
        <p:nvSpPr>
          <p:cNvPr id="52" name="Text Box 5"/>
          <p:cNvSpPr/>
          <p:nvPr/>
        </p:nvSpPr>
        <p:spPr>
          <a:xfrm>
            <a:off x="0" y="907920"/>
            <a:ext cx="26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ISO/TC 1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141300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SO/TC 154 and UN/CEFA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94920" y="2276640"/>
            <a:ext cx="8435880" cy="43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3 collaborations (2 joint WG &amp; 1 MA) between ISO/TC 154 and UN/CEFA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articipation of UN/CEFACT experts in WG2 (SDMX) and WG3 (CCT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Last plenary meeting (August 2010): many participants also participate in UN/CEFACT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logo_iso"/>
          <p:cNvPicPr/>
          <p:nvPr/>
        </p:nvPicPr>
        <p:blipFill>
          <a:blip r:embed="rId1"/>
          <a:stretch/>
        </p:blipFill>
        <p:spPr>
          <a:xfrm>
            <a:off x="0" y="0"/>
            <a:ext cx="2916360" cy="836640"/>
          </a:xfrm>
          <a:prstGeom prst="rect">
            <a:avLst/>
          </a:prstGeom>
          <a:ln w="0">
            <a:noFill/>
          </a:ln>
        </p:spPr>
      </p:pic>
      <p:sp>
        <p:nvSpPr>
          <p:cNvPr id="56" name="Text Box 5"/>
          <p:cNvSpPr/>
          <p:nvPr/>
        </p:nvSpPr>
        <p:spPr>
          <a:xfrm>
            <a:off x="0" y="907920"/>
            <a:ext cx="26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ISO/TC 1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79480" y="119664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Future collaboration between 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ISO/TC 154 and UN/CEFAC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23640" y="2565360"/>
            <a:ext cx="843588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Make use of opportunities that ISO/TC 154 offers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ISO = a well known br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dopt ISO standards on national/regional level</a:t>
            </a: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[e.g. EN ISO standard -&gt; </a:t>
            </a: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mandatory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adoption of EN ISO standard by all CEN members (= 30 European countries)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dopt UN/CEFACT standards as ISO standards by ISO/TC 154 -&gt; so other ISO/TCs don’t develop ISO standards that duplicate work of/conflict with existing UN/CEFACT stand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logo_iso"/>
          <p:cNvPicPr/>
          <p:nvPr/>
        </p:nvPicPr>
        <p:blipFill>
          <a:blip r:embed="rId1"/>
          <a:stretch/>
        </p:blipFill>
        <p:spPr>
          <a:xfrm>
            <a:off x="0" y="0"/>
            <a:ext cx="2916360" cy="836640"/>
          </a:xfrm>
          <a:prstGeom prst="rect">
            <a:avLst/>
          </a:prstGeom>
          <a:ln w="0">
            <a:noFill/>
          </a:ln>
        </p:spPr>
      </p:pic>
      <p:sp>
        <p:nvSpPr>
          <p:cNvPr id="60" name="Text Box 5"/>
          <p:cNvSpPr/>
          <p:nvPr/>
        </p:nvSpPr>
        <p:spPr>
          <a:xfrm>
            <a:off x="0" y="907920"/>
            <a:ext cx="26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ISO/TC 1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5280" y="155700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New develop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23640" y="2707920"/>
            <a:ext cx="843588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00"/>
                </a:solidFill>
                <a:latin typeface="Arial"/>
              </a:rPr>
              <a:t>ISO/TC 154 is in the process of appro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Klaus-Dieter Naujok as Convenor to TC 154/Joint WG 1 Joint syntax working group (with UN/EC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00"/>
                </a:solidFill>
                <a:latin typeface="Arial"/>
              </a:rPr>
              <a:t>ISO/TC 154 resolution for TC Sec to </a:t>
            </a: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send out New Work Item proposal for revision of ISO 7372, as soon as proposal is drafted by TDED joint M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logo_iso"/>
          <p:cNvPicPr/>
          <p:nvPr/>
        </p:nvPicPr>
        <p:blipFill>
          <a:blip r:embed="rId1"/>
          <a:stretch/>
        </p:blipFill>
        <p:spPr>
          <a:xfrm>
            <a:off x="0" y="0"/>
            <a:ext cx="2916360" cy="836640"/>
          </a:xfrm>
          <a:prstGeom prst="rect">
            <a:avLst/>
          </a:prstGeom>
          <a:ln w="0">
            <a:noFill/>
          </a:ln>
        </p:spPr>
      </p:pic>
      <p:sp>
        <p:nvSpPr>
          <p:cNvPr id="64" name="Text Box 5"/>
          <p:cNvSpPr/>
          <p:nvPr/>
        </p:nvSpPr>
        <p:spPr>
          <a:xfrm>
            <a:off x="0" y="907920"/>
            <a:ext cx="26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ISO/TC 1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5280" y="155700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ontact detai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16000" y="2707920"/>
            <a:ext cx="352728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Mr Brian Stan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echnical Programme 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SO Central Secretari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+41 22 749 03 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tanton@iso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logo_iso"/>
          <p:cNvPicPr/>
          <p:nvPr/>
        </p:nvPicPr>
        <p:blipFill>
          <a:blip r:embed="rId1"/>
          <a:stretch/>
        </p:blipFill>
        <p:spPr>
          <a:xfrm>
            <a:off x="0" y="0"/>
            <a:ext cx="2916360" cy="836640"/>
          </a:xfrm>
          <a:prstGeom prst="rect">
            <a:avLst/>
          </a:prstGeom>
          <a:ln w="0">
            <a:noFill/>
          </a:ln>
        </p:spPr>
      </p:pic>
      <p:sp>
        <p:nvSpPr>
          <p:cNvPr id="68" name="Text Box 5"/>
          <p:cNvSpPr/>
          <p:nvPr/>
        </p:nvSpPr>
        <p:spPr>
          <a:xfrm>
            <a:off x="0" y="907920"/>
            <a:ext cx="26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ISO/TC 1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6"/>
          <p:cNvSpPr/>
          <p:nvPr/>
        </p:nvSpPr>
        <p:spPr>
          <a:xfrm>
            <a:off x="4716360" y="2708280"/>
            <a:ext cx="3959280" cy="36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00"/>
                </a:solidFill>
                <a:latin typeface="Arial"/>
              </a:rPr>
              <a:t>Mr Tim Kni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00"/>
                </a:solidFill>
                <a:latin typeface="Arial"/>
              </a:rPr>
              <a:t>Secretary to ISO/TC1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00"/>
                </a:solidFill>
                <a:latin typeface="Arial"/>
              </a:rPr>
              <a:t>Standardisation Consultant N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00"/>
                </a:solidFill>
                <a:latin typeface="Arial"/>
              </a:rPr>
              <a:t>+31-152690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00"/>
                </a:solidFill>
                <a:latin typeface="Arial"/>
              </a:rPr>
              <a:t>tim.kniep@nen.n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9T12:57:56Z</dcterms:created>
  <dc:creator>Automatisering</dc:creator>
  <dc:description/>
  <dc:language>en-US</dc:language>
  <cp:lastModifiedBy>STANTON Brian</cp:lastModifiedBy>
  <dcterms:modified xsi:type="dcterms:W3CDTF">2010-12-09T16:52:06Z</dcterms:modified>
  <cp:revision>24</cp:revision>
  <dc:subject/>
  <dc:title>Slide 1</dc:title>
</cp:coreProperties>
</file>