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98C-146E-46EF-B875-72EBCFE8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6DF-F59A-4697-91A8-2937E483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011-0C1B-42AF-B372-7427B897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EF6-F48C-4DEA-919B-41B8D716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656-6931-42A7-9E5F-AE7B620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F4B-780F-448E-BB78-D1C8FE0A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05E-89E6-47FE-B5A6-C03DB5F5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B12-DBC6-463F-92AE-E155F8E2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319-E985-4942-891B-95FC56E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808-18AF-4B1D-8E79-77EA07DE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030-7393-4F6D-89E3-CA488EE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1CC-A2A2-481C-8D93-E1EFB20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092-11E3-48A3-A202-2C339289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00"/>
                </a:solidFill>
                <a:latin typeface="Arial"/>
              </a:rPr>
              <a:t>ISO/TC 1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es, data elements and documents in commerce, industry and admin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Mission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ission of ISO/TC 154 is both to undertake and to facilitate the development and maintenance of international standards for data exchange in the value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andards cover data exchange regardless of the media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rever possible, ISO/TC 154 fosters harmonisation between and within international standards development organizations, particularly through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-business MoU M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tructure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1 Joint syntax working group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2 SDM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2 eLK (electronic Layout Key)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3 CCTS - Core Component technical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DED Maintenance Agency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358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joint working groups between ISO/TC 154 and UN/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ipation of UN/CEFACT people in WG2 (SDMX) and WG3 (C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plenary meeting: 80% of participants also participate in UN/CEFA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portunities for future collaboration between ISO/TC 154 and UN/CEF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3257280"/>
            <a:ext cx="84358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ke use of opportunities that ISO/TC 154 off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: a well known 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 standards may be adopted on a national or regional le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example EN ISO standard -&gt;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doption of EN ISO standard by all CEN members (CEN members: 30 European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option of certain UN/CEFACT standards as ISO standards by ISO/TC 154 could prevent that other ISO technical committees start to develop ISO standards that duplicate the work of UN/CEFACT or that are in conflict with existing UN/CEFACT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2:57:56Z</dcterms:created>
  <dc:creator>Automatisering</dc:creator>
  <dc:description/>
  <dc:language>en-US</dc:language>
  <cp:lastModifiedBy>anders.grangard</cp:lastModifiedBy>
  <dcterms:modified xsi:type="dcterms:W3CDTF">2009-11-11T10:46:03Z</dcterms:modified>
  <cp:revision>12</cp:revision>
  <dc:subject/>
  <dc:title>Slide 1</dc:title>
</cp:coreProperties>
</file>