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881-FAA5-4F34-B178-9DD7748E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EC6-108B-4C9B-B5C2-F920C57A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030-7BBB-46BA-9145-75E55156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84E-C17B-42A7-B12C-F567C3A1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452-596E-4FBE-9C47-40B02E59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939-2FDA-4495-9661-0E1374B9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239-F1E5-435D-AA62-E407D8ED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69A-5771-4251-A06E-D10C890B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441-9423-4B55-B167-4FB67604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67E-09C0-434C-9395-9D904D5D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56B-57DF-4CCF-8F93-955B6682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2EE-3064-4F7B-8DF5-1EE3039B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34C9-4A02-47E7-B324-2C9CD6E25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00"/>
                </a:solidFill>
                <a:latin typeface="Arial"/>
              </a:rPr>
              <a:t>ISO/TC 1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cesses, data elements and documents in commerce, industry and adminis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Mission ISO/TC 154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mission of ISO/TC 154 is both to undertake and to facilitate the development and maintenance of international standards for data exchange in the value ch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se standards cover data exchange regardless of the media us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rever possible, ISO/TC 154 fosters harmonisation between and within international standards development organizations, particularly through the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-business MoU M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Structure ISO/TC 154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Joi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WG 1 Joint syntax working group (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th UN/E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WG 2 SDM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Joi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WG 2 eLK (electronic Layout Key) (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th UN/E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WG 3 CCTS - Core Component technical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DED Maintenance Agency (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th UN/E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SO/TC 154 and UN/CEF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843588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joint working groups between ISO/TC 154 and UN/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icipation of UN/CEFACT people in WG2 (SDMX) and WG3 (C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t plenary meeting: 80% of participants also participate in UN/CEFAC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portunities for future collaboration between ISO/TC 154 and UN/CEF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3257280"/>
            <a:ext cx="84358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ke use of opportunities that ISO/TC 154 off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O: a well known b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O standards may be adopted on a national or regional lev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example EN ISO standard -&gt;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mandator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doption of EN ISO standard by all CEN members (CEN members: 30 European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option of certain UN/CEFACT standards as ISO standards by ISO/TC 154 could prevent that other ISO technical committees start to develop ISO standards that duplicate the work of UN/CEFACT or that are in conflict with existing UN/CEFACT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2:57:56Z</dcterms:created>
  <dc:creator>Automatisering</dc:creator>
  <dc:description/>
  <dc:language>en-US</dc:language>
  <cp:lastModifiedBy>anders.grangard</cp:lastModifiedBy>
  <dcterms:modified xsi:type="dcterms:W3CDTF">2009-11-11T10:46:03Z</dcterms:modified>
  <cp:revision>12</cp:revision>
  <dc:subject/>
  <dc:title>Slide 1</dc:title>
</cp:coreProperties>
</file>