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23F4D0-9DA1-43FD-8E63-27B9D17EB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Num" idx="14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6B6C30-20E0-4FEB-AB13-B69A0FECE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3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Num" idx="15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D69CD0-302B-418F-B903-3220A1C3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3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B92-8EF1-46C8-9303-399D9A0F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0B3-16CC-4CDD-851D-C96CEEA0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8D5-26D4-40BB-85F4-4531D0BF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5B3-7E0A-49D9-9AE1-AB9E8446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5ACD-F7D0-4048-8123-013AEA5D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D1BC-931C-4AAE-B961-EE86CAB7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D328-4026-4C46-997E-F5359E09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FF9A-96A2-43F9-B672-460D038D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5074-A68D-429B-8966-829B0079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0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051B-3087-4FF0-8A47-6437B4BC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9034-588C-4F40-8A7A-0B2757DB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211-7D6F-4CF8-B586-29B6305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7930-FCA7-469C-8E84-C2805D67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487F-9A94-4E35-8D18-B9896F3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D04B-4129-4E04-8FE5-0DEEC9F1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BC5F-8D2F-4546-94BF-F5BC7411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FAB1-7CAC-4E79-9527-E6488201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4BA-8ACC-4A6D-A3DA-54832871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2E4-82D5-42B5-B7A9-B346B6D9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258-3045-495B-862E-DBD5B4C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0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00E-47DC-491B-8BDD-E1D529B6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5EB-8FA1-4A7B-BFA3-322775C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8A3-B86F-43AD-8A08-54EBEAC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7A8-DC87-4520-AF11-B4B67DC2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5640" cy="113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88000" y="623736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B74787-099A-40CA-A69C-DEB2A9AE47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uncefact_header_0p2"/>
          <p:cNvPicPr/>
          <p:nvPr/>
        </p:nvPicPr>
        <p:blipFill>
          <a:blip r:embed="rId3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040" cy="193320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5640" cy="1133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4B6BFD-2F95-4890-8A29-EA2F132595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040" cy="193320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 UN/CEFACT Plenary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Geneva, 09-12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773480" cy="247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vision of r.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ers Grang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/CEFACT Vice-C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09-12 Novem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60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650 - Mandate and Terms of Reference of 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 version of R.650 approved in September 1996 by WP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version, TRADE/R.650/Rev. 4, was approved by UN/CEFACT Plenary in Jun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documents published as attachment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Development Process, O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sessional approv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llectual Property Rights Policy for UN/CE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les of Procedure of the Bu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61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de of Condu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rms of Reference of Rappor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th UN/CEFACT Plenary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AAF1-BC80-4F0D-B8BB-8A23DACEC525}" type="slidenum">
              <a:t>2</a:t>
            </a:fld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Reasons for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P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Doc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um workflow &amp;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puts from FMG, the Bureau, EXCOM and the UNECE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09-12 Novem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th UN/CEFACT Plenary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FBA0-DDD8-4164-920D-F8C653C7FB82}" type="slidenum">
              <a:t>3</a:t>
            </a:fld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tatus &amp; Way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changes gathered and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ly 66 proposed areas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rify IPR milestones in 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Code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keholder support requirement (EX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grow as review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sion started during the Forum meeting in Sapp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sessional approval i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12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09-12 Novem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th UN/CEFACT Plenary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A53-E2AE-4694-846A-555101A7222F}" type="slidenum">
              <a:t>4</a:t>
            </a:fld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For Plenar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ewal of the Permanent Groups’ Terms of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3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09-12 Novem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th UN/CEFACT Plenary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EA76-A6CD-497B-B0A9-E7CDC2A74325}" type="slidenum">
              <a:t>5</a:t>
            </a:fld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1_UNCEFACT2005">
  <a:themeElements>
    <a:clrScheme name="1_UNCEFACT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cccff"/>
      </a:accent1>
      <a:accent2>
        <a:srgbClr val="d9d8ec"/>
      </a:accent2>
      <a:accent3>
        <a:srgbClr val="ffffff"/>
      </a:accent3>
      <a:accent4>
        <a:srgbClr val="000000"/>
      </a:accent4>
      <a:accent5>
        <a:srgbClr val="e2e2ff"/>
      </a:accent5>
      <a:accent6>
        <a:srgbClr val="c4c4d6"/>
      </a:accent6>
      <a:hlink>
        <a:srgbClr val="6767ff"/>
      </a:hlink>
      <a:folHlink>
        <a:srgbClr val="9933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UNCEFACT2005">
  <a:themeElements>
    <a:clrScheme name="1_UNCEFACT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cccff"/>
      </a:accent1>
      <a:accent2>
        <a:srgbClr val="d9d8ec"/>
      </a:accent2>
      <a:accent3>
        <a:srgbClr val="ffffff"/>
      </a:accent3>
      <a:accent4>
        <a:srgbClr val="000000"/>
      </a:accent4>
      <a:accent5>
        <a:srgbClr val="e2e2ff"/>
      </a:accent5>
      <a:accent6>
        <a:srgbClr val="c4c4d6"/>
      </a:accent6>
      <a:hlink>
        <a:srgbClr val="6767ff"/>
      </a:hlink>
      <a:folHlink>
        <a:srgbClr val="9933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ccccff"/>
      </a:accent1>
      <a:accent2>
        <a:srgbClr val="d9d8ec"/>
      </a:accent2>
      <a:accent3>
        <a:srgbClr val="ffffff"/>
      </a:accent3>
      <a:accent4>
        <a:srgbClr val="000000"/>
      </a:accent4>
      <a:accent5>
        <a:srgbClr val="e2e2ff"/>
      </a:accent5>
      <a:accent6>
        <a:srgbClr val="c4c4d6"/>
      </a:accent6>
      <a:hlink>
        <a:srgbClr val="6767ff"/>
      </a:hlink>
      <a:folHlink>
        <a:srgbClr val="9933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  <Words>195</Words>
  <Paragraphs>51</Paragraphs>
  <Company>Dick  Rama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ers.grangard</cp:lastModifiedBy>
  <cp:lastPrinted>2007-05-11T14:05:54Z</cp:lastPrinted>
  <dcterms:modified xsi:type="dcterms:W3CDTF">2009-11-11T09:14:01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5</vt:r8>
  </property>
</Properties>
</file>