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797675" cy="9926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B55D6D-1CF0-4695-8346-C1955BEBC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Num" idx="14"/>
          </p:nvPr>
        </p:nvSpPr>
        <p:spPr>
          <a:xfrm>
            <a:off x="3850560" y="9428760"/>
            <a:ext cx="2945160" cy="496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00E923C-8198-4F08-9CB6-E1AD1483A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3"/>
          <p:cNvSpPr>
            <a:spLocks noGrp="1"/>
          </p:cNvSpPr>
          <p:nvPr>
            <p:ph type="body"/>
          </p:nvPr>
        </p:nvSpPr>
        <p:spPr>
          <a:xfrm>
            <a:off x="679680" y="4715280"/>
            <a:ext cx="5437800" cy="446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Num" idx="15"/>
          </p:nvPr>
        </p:nvSpPr>
        <p:spPr>
          <a:xfrm>
            <a:off x="3850560" y="9428760"/>
            <a:ext cx="2945160" cy="496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4F16BF3-441A-41B3-BB93-F2AAB8291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3"/>
          <p:cNvSpPr>
            <a:spLocks noGrp="1"/>
          </p:cNvSpPr>
          <p:nvPr>
            <p:ph type="body"/>
          </p:nvPr>
        </p:nvSpPr>
        <p:spPr>
          <a:xfrm>
            <a:off x="679680" y="4715280"/>
            <a:ext cx="5437800" cy="446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9BA7-A0A2-4636-9BF5-3F4F998D1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0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5D92-3CFA-4E24-9D99-9FD7E579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0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8B8F-4F14-4E2F-A562-E90CB0D7E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0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F8AD-E9EA-4519-A8C2-FA6143012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55EB-EE0F-4D55-9350-2821A0B95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0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C65B-2E1B-4CBD-B4B1-EFB41A0D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0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6A8C-8EB3-466A-B2D3-FEA0ACD3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0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E8F0-B3F8-4079-B2C9-F3D36E43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0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ADD92-1527-4BC7-B8B0-35E219B5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003640" y="620640"/>
            <a:ext cx="360000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35D8-2C07-4D5C-9DAA-C8B4E243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0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6074A-ACFC-4580-ADCB-AED3ED59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0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77AD-90EE-4E1F-8900-BF41F8BF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0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4852-ACD2-4B7A-A955-2A99722C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0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6923-8DD4-44A2-9B0F-471650CE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0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2EED3-9D87-4656-85ED-358C9340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0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4422-ABAA-4491-87B1-954509E39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0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907D-41E7-4BF1-B6C0-D7B22AB62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0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AE08-6CA2-41B9-AD15-08A48D93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0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303A-C3E4-4C3F-A498-40205094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0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83D9-5D2A-4196-B654-14141717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03640" y="620640"/>
            <a:ext cx="360000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6232-20F6-4647-A107-6FA46619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0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A205-691C-4873-B4AC-2D40C284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0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B9F3-D36C-44EC-A748-99548B6B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0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6133-3A04-47B4-A5B7-B54DA340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uncefact_header_0p2"/>
          <p:cNvPicPr/>
          <p:nvPr/>
        </p:nvPicPr>
        <p:blipFill>
          <a:blip r:embed="rId2"/>
          <a:stretch/>
        </p:blipFill>
        <p:spPr>
          <a:xfrm>
            <a:off x="468360" y="189000"/>
            <a:ext cx="8135640" cy="1133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88000" y="623736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D17DC17-0655-4793-A4F5-4148FC9D627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uncefact_header_0p2"/>
          <p:cNvPicPr/>
          <p:nvPr/>
        </p:nvPicPr>
        <p:blipFill>
          <a:blip r:embed="rId3"/>
          <a:stretch/>
        </p:blipFill>
        <p:spPr>
          <a:xfrm>
            <a:off x="611280" y="1052640"/>
            <a:ext cx="7921440" cy="2206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040" cy="1933200"/>
          </a:xfrm>
          <a:prstGeom prst="rect">
            <a:avLst/>
          </a:prstGeom>
          <a:noFill/>
          <a:ln w="9360">
            <a:noFill/>
          </a:ln>
          <a:effectLst>
            <a:outerShdw dist="35638" dir="2700000" blurRad="0" rotWithShape="0">
              <a:srgbClr val="000000"/>
            </a:outerShdw>
          </a:effectLst>
        </p:spPr>
        <p:txBody>
          <a:bodyPr numCol="1" spcCol="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" descr="uncefact_header_0p2"/>
          <p:cNvPicPr/>
          <p:nvPr/>
        </p:nvPicPr>
        <p:blipFill>
          <a:blip r:embed="rId2"/>
          <a:stretch/>
        </p:blipFill>
        <p:spPr>
          <a:xfrm>
            <a:off x="468360" y="189000"/>
            <a:ext cx="8135640" cy="1133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000" cy="718920"/>
          </a:xfrm>
          <a:prstGeom prst="rect">
            <a:avLst/>
          </a:prstGeom>
          <a:noFill/>
          <a:ln w="9360">
            <a:noFill/>
          </a:ln>
          <a:effectLst>
            <a:outerShdw dist="35638" dir="2700000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Master title sty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95da5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395da5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95da5"/>
              </a:buClr>
              <a:buFont typeface="Symbol" charset="2"/>
              <a:buChar char=""/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395da5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395da5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B01C4B-BE22-400B-B07E-6F2B429E360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040" cy="1933200"/>
          </a:xfrm>
          <a:prstGeom prst="rect">
            <a:avLst/>
          </a:prstGeom>
          <a:noFill/>
          <a:ln w="9360">
            <a:noFill/>
          </a:ln>
          <a:effectLst>
            <a:outerShdw dist="35638" dir="2700000" blurRad="0" rotWithShape="0">
              <a:srgbClr val="000000"/>
            </a:outerShdw>
          </a:effectLst>
        </p:spPr>
        <p:txBody>
          <a:bodyPr numCol="1" spcCol="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1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 Black"/>
              </a:rPr>
              <a:t>th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 UN/CEFACT Plenary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Geneva, 09-12 Novem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55640" y="3500280"/>
            <a:ext cx="7773480" cy="2472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vision of r.6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ers Grang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/CEFACT Vice-Ch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dt" idx="10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09-12 November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000" cy="718920"/>
          </a:xfrm>
          <a:prstGeom prst="rect">
            <a:avLst/>
          </a:prstGeom>
          <a:noFill/>
          <a:ln w="9360">
            <a:noFill/>
          </a:ln>
          <a:effectLst>
            <a:outerShdw dist="35638" dir="2700000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606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95da5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.650 - Mandate and Terms of Reference of UN/CEF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95da5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rst  version of R.650 approved in September 1996 by WP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95da5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urrent version, TRADE/R.650/Rev. 4, was approved by UN/CEFACT Plenary in June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95da5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tional documents published as attachment, includ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395da5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pen Development Process, O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395da5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tersessional approval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395da5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tellectual Property Rights Policy for UN/CEF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395da5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ules of Procedure of the Bure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261"/>
              </a:spcBef>
              <a:buClr>
                <a:srgbClr val="395da5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ode of Condu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395da5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rms of Reference of Rapporte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5th UN/CEFACT Plenary                       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9177-DC8B-4903-BD35-2EE2BE384A61}" type="slidenum">
              <a:t>2</a:t>
            </a:fld>
          </a:p>
        </p:txBody>
      </p:sp>
    </p:spTree>
  </p:cSld>
  <p:transition spd="med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000" cy="718920"/>
          </a:xfrm>
          <a:prstGeom prst="rect">
            <a:avLst/>
          </a:prstGeom>
          <a:noFill/>
          <a:ln w="9360">
            <a:noFill/>
          </a:ln>
          <a:effectLst>
            <a:outerShdw dist="35638" dir="2700000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Reasons for Re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95da5"/>
              </a:buClr>
              <a:buFont typeface="Symbol" charset="2"/>
              <a:buChar char="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P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95da5"/>
              </a:buClr>
              <a:buFont typeface="Symbol" charset="2"/>
              <a:buChar char="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eDoc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95da5"/>
              </a:buClr>
              <a:buFont typeface="Symbol" charset="2"/>
              <a:buChar char="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um workflow &amp;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95da5"/>
              </a:buClr>
              <a:buFont typeface="Symbol" charset="2"/>
              <a:buChar char="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puts from FMG, the Bureau, EXCOM and the UNECE Secret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11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09-12 November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5th UN/CEFACT Plenary                       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52A72-4C55-4178-9DCE-BE1F843BB112}" type="slidenum">
              <a:t>3</a:t>
            </a:fld>
          </a:p>
        </p:txBody>
      </p:sp>
    </p:spTree>
  </p:cSld>
  <p:transition spd="med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000" cy="718920"/>
          </a:xfrm>
          <a:prstGeom prst="rect">
            <a:avLst/>
          </a:prstGeom>
          <a:noFill/>
          <a:ln w="9360">
            <a:noFill/>
          </a:ln>
          <a:effectLst>
            <a:outerShdw dist="35638" dir="2700000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Status &amp; Way For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95da5"/>
              </a:buClr>
              <a:buFont typeface="Symbol" charset="2"/>
              <a:buChar char=""/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posed changes gathered and docum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395da5"/>
              </a:buClr>
              <a:buFont typeface="Symbol" charset="2"/>
              <a:buChar char=""/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rently 66 proposed areas, e.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395da5"/>
              </a:buClr>
              <a:buFont typeface="Symbol" charset="2"/>
              <a:buChar char=""/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rify IPR milestones in O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395da5"/>
              </a:buClr>
              <a:buFont typeface="Symbol" charset="2"/>
              <a:buChar char=""/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d Code of Con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395da5"/>
              </a:buClr>
              <a:buFont typeface="Symbol" charset="2"/>
              <a:buChar char=""/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keholder support requirement (EX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395da5"/>
              </a:buClr>
              <a:buFont typeface="Symbol" charset="2"/>
              <a:buChar char=""/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ll grow as review contin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95da5"/>
              </a:buClr>
              <a:buFont typeface="Symbol" charset="2"/>
              <a:buChar char=""/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vision started during the Forum meeting in Sappo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95da5"/>
              </a:buClr>
              <a:buFont typeface="Symbol" charset="2"/>
              <a:buChar char=""/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sessional approval i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12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09-12 November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5th UN/CEFACT Plenary                       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D9DB-4D8D-456B-831B-34AF121362A8}" type="slidenum">
              <a:t>4</a:t>
            </a:fld>
          </a:p>
        </p:txBody>
      </p:sp>
    </p:spTree>
  </p:cSld>
  <p:transition spd="med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000" cy="718920"/>
          </a:xfrm>
          <a:prstGeom prst="rect">
            <a:avLst/>
          </a:prstGeom>
          <a:noFill/>
          <a:ln w="9360">
            <a:noFill/>
          </a:ln>
          <a:effectLst>
            <a:outerShdw dist="35638" dir="2700000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For Plenary D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95da5"/>
              </a:buClr>
              <a:buFont typeface="Symbol" charset="2"/>
              <a:buChar char="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newal of the Permanent Groups’ Terms of 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13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09-12 November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5th UN/CEFACT Plenary                       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D0C8C-2B2E-4BAE-8B1B-59EE38887DD7}" type="slidenum">
              <a:t>5</a:t>
            </a:fld>
          </a:p>
        </p:txBody>
      </p:sp>
    </p:spTree>
  </p:cSld>
  <p:transition spd="med">
    <p:pull dir="d"/>
  </p:transition>
</p:sld>
</file>

<file path=ppt/theme/theme1.xml><?xml version="1.0" encoding="utf-8"?>
<a:theme xmlns:a="http://schemas.openxmlformats.org/drawingml/2006/main" name="1_UNCEFACT2005">
  <a:themeElements>
    <a:clrScheme name="1_UNCEFACT2005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ccccff"/>
      </a:accent1>
      <a:accent2>
        <a:srgbClr val="d9d8ec"/>
      </a:accent2>
      <a:accent3>
        <a:srgbClr val="ffffff"/>
      </a:accent3>
      <a:accent4>
        <a:srgbClr val="000000"/>
      </a:accent4>
      <a:accent5>
        <a:srgbClr val="e2e2ff"/>
      </a:accent5>
      <a:accent6>
        <a:srgbClr val="c4c4d6"/>
      </a:accent6>
      <a:hlink>
        <a:srgbClr val="6767ff"/>
      </a:hlink>
      <a:folHlink>
        <a:srgbClr val="9933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1_UNCEFACT2005">
  <a:themeElements>
    <a:clrScheme name="1_UNCEFACT2005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ccccff"/>
      </a:accent1>
      <a:accent2>
        <a:srgbClr val="d9d8ec"/>
      </a:accent2>
      <a:accent3>
        <a:srgbClr val="ffffff"/>
      </a:accent3>
      <a:accent4>
        <a:srgbClr val="000000"/>
      </a:accent4>
      <a:accent5>
        <a:srgbClr val="e2e2ff"/>
      </a:accent5>
      <a:accent6>
        <a:srgbClr val="c4c4d6"/>
      </a:accent6>
      <a:hlink>
        <a:srgbClr val="6767ff"/>
      </a:hlink>
      <a:folHlink>
        <a:srgbClr val="9933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ccccff"/>
      </a:accent1>
      <a:accent2>
        <a:srgbClr val="d9d8ec"/>
      </a:accent2>
      <a:accent3>
        <a:srgbClr val="ffffff"/>
      </a:accent3>
      <a:accent4>
        <a:srgbClr val="000000"/>
      </a:accent4>
      <a:accent5>
        <a:srgbClr val="e2e2ff"/>
      </a:accent5>
      <a:accent6>
        <a:srgbClr val="c4c4d6"/>
      </a:accent6>
      <a:hlink>
        <a:srgbClr val="6767ff"/>
      </a:hlink>
      <a:folHlink>
        <a:srgbClr val="9933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1</TotalTime>
  <Application>LibreOffice/7.4.7.2$Linux_X86_64 LibreOffice_project/40$Build-2</Application>
  <AppVersion>15.0000</AppVersion>
  <Words>195</Words>
  <Paragraphs>51</Paragraphs>
  <Company>Dick  Rama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ers.grangard</cp:lastModifiedBy>
  <cp:lastPrinted>2007-05-11T14:05:54Z</cp:lastPrinted>
  <dcterms:modified xsi:type="dcterms:W3CDTF">2009-11-11T09:14:01Z</dcterms:modified>
  <cp:revision>1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On-screen Show (4:3)</vt:lpwstr>
  </property>
  <property fmtid="{D5CDD505-2E9C-101B-9397-08002B2CF9AE}" pid="4" name="Slides">
    <vt:r8>5</vt:r8>
  </property>
</Properties>
</file>