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18AF-FCED-4FB5-AF75-177D68146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SYCUDA System provides fully automated data processing for Customs purposes and is based on open, international standards of the International Organization for Standardization (ISO), the United Nations and the World Customs Organization (W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face is based on definitions and data formats provided by the Core Component Library (CC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DDA0B-4382-466E-B054-1C37BA1B2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5D3E-54BA-4269-BF6A-01FA178C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A7AFA-EA39-489F-BD54-B4584D935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F4EA3-09FF-4ED9-9B95-55F5954D7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B05C6-94A7-4706-9ED5-CEFDDE6B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86FB-3BDB-4EC7-8EF6-99F29D17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51E0-B55D-476F-ADD8-FD8DD340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8701-7640-4DBA-86EC-E6D4E9BA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CA23-FA11-4739-99B0-3A948B752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B98D-3A4D-46DE-9BED-EE74C19F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0E51-A402-4151-BCBC-4127BFD6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2DF8-8947-4771-8224-42BB78A25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F3DD-6ED6-422D-916A-9EB8D0534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Capacity Building &amp; Standard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UNCTAD </a:t>
            </a:r>
            <a:br>
              <a:rPr sz="3200"/>
            </a:br>
            <a:r>
              <a:rPr b="0" lang="fr-CH" sz="3200" spc="-1" strike="noStrike">
                <a:solidFill>
                  <a:srgbClr val="ffffff"/>
                </a:solidFill>
                <a:latin typeface="Arial"/>
              </a:rPr>
              <a:t>Trade Facilitation Se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Birgit Vioh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How ? </a:t>
            </a:r>
            <a:endParaRPr b="0" lang="en-US" sz="4400" spc="-1" strike="noStrike">
              <a:solidFill>
                <a:srgbClr val="ffffff"/>
              </a:solidFill>
              <a:latin typeface="Arial"/>
            </a:endParaRPr>
          </a:p>
        </p:txBody>
      </p:sp>
      <p:sp>
        <p:nvSpPr>
          <p:cNvPr id="69" name="PlaceHolder 2"/>
          <p:cNvSpPr>
            <a:spLocks noGrp="1"/>
          </p:cNvSpPr>
          <p:nvPr>
            <p:ph/>
          </p:nvPr>
        </p:nvSpPr>
        <p:spPr>
          <a:xfrm>
            <a:off x="685800" y="1628640"/>
            <a:ext cx="777240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formation packag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raining packages and modules for specific target group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Case studies of use in developing countr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 collaboration with UN agencies working on the strategic and political lev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Regional commiss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UNCTAD (national trade facilitation working groups constitute fora of stakeholder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upport to initiatives raising the profile of standards in developing countries; e.g.Pan-African alliance for e-comme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Thank you?</a:t>
            </a:r>
            <a:endParaRPr b="0" lang="en-US" sz="44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Birgit.viohl@unctad.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Implementation</a:t>
            </a:r>
            <a:endParaRPr b="0" lang="en-US" sz="4400" spc="-1" strike="noStrike">
              <a:solidFill>
                <a:srgbClr val="ffffff"/>
              </a:solidFill>
              <a:latin typeface="Arial"/>
            </a:endParaRPr>
          </a:p>
        </p:txBody>
      </p:sp>
      <p:sp>
        <p:nvSpPr>
          <p:cNvPr id="51" name="PlaceHolder 2"/>
          <p:cNvSpPr>
            <a:spLocks noGrp="1"/>
          </p:cNvSpPr>
          <p:nvPr>
            <p:ph/>
          </p:nvPr>
        </p:nvSpPr>
        <p:spPr>
          <a:xfrm>
            <a:off x="685800" y="1699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rade Facilitation i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 public policy issue driven by urge for administrative effectiveness and pro-development growth strateg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 private sector issue driven by search for operating effeciency, quality &amp; innovation , and compliance effectiv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tandards are an important element of the implementation of trade facilitation refor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a:rPr>
              <a:t>Implementation and Standards</a:t>
            </a:r>
            <a:endParaRPr b="0" lang="en-US" sz="4000" spc="-1" strike="noStrike">
              <a:solidFill>
                <a:srgbClr val="ffffff"/>
              </a:solidFill>
              <a:latin typeface="Arial"/>
            </a:endParaRPr>
          </a:p>
        </p:txBody>
      </p:sp>
      <p:sp>
        <p:nvSpPr>
          <p:cNvPr id="53" name="PlaceHolder 2"/>
          <p:cNvSpPr>
            <a:spLocks noGrp="1"/>
          </p:cNvSpPr>
          <p:nvPr>
            <p:ph/>
          </p:nvPr>
        </p:nvSpPr>
        <p:spPr>
          <a:xfrm>
            <a:off x="468000" y="1557000"/>
            <a:ext cx="835164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Link between public policy and private sector operations. Drivers for standard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dustry’ s demand and industry itself which apply them de facto or formalise th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change in the regulatory context; e.g. security regul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developed to concretise certain abstract norms / rules in national regulation and int’l agreements (legal character if they are referred to in regulation or jurispru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TO and Standards</a:t>
            </a:r>
            <a:endParaRPr b="0" lang="en-US" sz="4400" spc="-1" strike="noStrike">
              <a:solidFill>
                <a:srgbClr val="ffffff"/>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TO « agreement » on trade facilitation will set basic general rules on TF. Countries will concretise their implement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here is a marge / scope for differences in implemen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Existing standards (int’l or regional) will be looked fo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Need for capacity building on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a:rPr>
              <a:t>UNCTAD’s work and standards</a:t>
            </a:r>
            <a:endParaRPr b="0" lang="en-US" sz="4000" spc="-1" strike="noStrike">
              <a:solidFill>
                <a:srgbClr val="ffffff"/>
              </a:solidFill>
              <a:latin typeface="Arial"/>
            </a:endParaRPr>
          </a:p>
        </p:txBody>
      </p:sp>
      <p:sp>
        <p:nvSpPr>
          <p:cNvPr id="57" name="PlaceHolder 2"/>
          <p:cNvSpPr>
            <a:spLocks noGrp="1"/>
          </p:cNvSpPr>
          <p:nvPr>
            <p:ph/>
          </p:nvPr>
        </p:nvSpPr>
        <p:spPr>
          <a:xfrm>
            <a:off x="685800" y="1628640"/>
            <a:ext cx="7772400" cy="522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UNCTAD has a global mandate for technical assistance and capacity building for the public sector in support of trade facil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TO negotiations related support (capacity building, institutional strengthening, needs assessments, adv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upport to national and regional trade facilitation programmes on the strategic lev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SYCUDA implementation (applies many of CEFACT standards (UN layout key, EDI, XML, C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Capacity building for TF</a:t>
            </a:r>
            <a:endParaRPr b="0" lang="en-US" sz="4400" spc="-1" strike="noStrike">
              <a:solidFill>
                <a:srgbClr val="ffffff"/>
              </a:solidFill>
              <a:latin typeface="Arial"/>
            </a:endParaRPr>
          </a:p>
        </p:txBody>
      </p:sp>
      <p:sp>
        <p:nvSpPr>
          <p:cNvPr id="59" name="PlaceHolder 2"/>
          <p:cNvSpPr>
            <a:spLocks noGrp="1"/>
          </p:cNvSpPr>
          <p:nvPr>
            <p:ph/>
          </p:nvPr>
        </p:nvSpPr>
        <p:spPr>
          <a:xfrm>
            <a:off x="684360" y="1915920"/>
            <a:ext cx="7772400" cy="1152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Training, Institutional building, Awareness raising</a:t>
            </a:r>
            <a:endParaRPr b="0" lang="en-US" sz="3200" spc="-1" strike="noStrike">
              <a:solidFill>
                <a:srgbClr val="ffffff"/>
              </a:solidFill>
              <a:latin typeface="Arial"/>
            </a:endParaRPr>
          </a:p>
        </p:txBody>
      </p:sp>
      <p:sp>
        <p:nvSpPr>
          <p:cNvPr id="60" name=""/>
          <p:cNvSpPr/>
          <p:nvPr/>
        </p:nvSpPr>
        <p:spPr>
          <a:xfrm>
            <a:off x="539640" y="3141720"/>
            <a:ext cx="799308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0000"/>
                </a:solidFill>
                <a:latin typeface="Arial"/>
                <a:ea typeface="Arial Unicode MS"/>
              </a:rPr>
              <a:t>How much do we touch upon the issue of standards?</a:t>
            </a:r>
            <a:r>
              <a:rPr b="0" lang="fr-CH" sz="3600" spc="-1" strike="noStrike">
                <a:solidFill>
                  <a:srgbClr val="ff0000"/>
                </a:solidFill>
                <a:latin typeface="Arial"/>
                <a:ea typeface="Arial Unicode MS"/>
              </a:rPr>
              <a:t> </a:t>
            </a:r>
            <a:endParaRPr b="0" lang="en-US" sz="3600" spc="-1" strike="noStrike">
              <a:solidFill>
                <a:srgbClr val="000000"/>
              </a:solidFill>
              <a:latin typeface="Times New Roman"/>
            </a:endParaRPr>
          </a:p>
        </p:txBody>
      </p:sp>
      <p:sp>
        <p:nvSpPr>
          <p:cNvPr id="61" name=""/>
          <p:cNvSpPr/>
          <p:nvPr/>
        </p:nvSpPr>
        <p:spPr>
          <a:xfrm>
            <a:off x="468360" y="4700520"/>
            <a:ext cx="799308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Unicode MS"/>
              </a:rPr>
              <a:t>…</a:t>
            </a:r>
            <a:r>
              <a:rPr b="0" lang="en-US" sz="3200" spc="-1" strike="noStrike">
                <a:solidFill>
                  <a:srgbClr val="ffffff"/>
                </a:solidFill>
                <a:latin typeface="Arial"/>
                <a:ea typeface="Arial Unicode MS"/>
              </a:rPr>
              <a:t>Not a lot but understanding of standards and standardisation process is necess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a:t>
            </a:r>
            <a:r>
              <a:rPr b="0" lang="fr-CH" sz="4400" spc="-1" strike="noStrike">
                <a:solidFill>
                  <a:srgbClr val="ffffff"/>
                </a:solidFill>
                <a:latin typeface="Arial"/>
              </a:rPr>
              <a:t>not a lot but why</a:t>
            </a:r>
            <a:endParaRPr b="0" lang="en-US" sz="4400" spc="-1" strike="noStrike">
              <a:solidFill>
                <a:srgbClr val="ffffff"/>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olitical level and technical level seems to be disconnect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Reactive approach to standards. Reliance on tf projects and tools which are based on standar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Fundamental capacity building questions: What ? , Who ?, How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hat ? </a:t>
            </a:r>
            <a:endParaRPr b="0" lang="en-US" sz="4400" spc="-1" strike="noStrike">
              <a:solidFill>
                <a:srgbClr val="ffffff"/>
              </a:solidFill>
              <a:latin typeface="Arial"/>
            </a:endParaRPr>
          </a:p>
        </p:txBody>
      </p:sp>
      <p:sp>
        <p:nvSpPr>
          <p:cNvPr id="65"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ensitivation on standard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 where do they come into play? What do they solve? What are the requirement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ensitivation on implementation of standard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e.g. how is the UN layout key used in a national contex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Regulatory actions necessa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formation on which standards are used by the industry in country x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How can the political level find out of the use and needs of standards on the national leve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ho ? </a:t>
            </a:r>
            <a:endParaRPr b="0" lang="en-US" sz="4400" spc="-1" strike="noStrike">
              <a:solidFill>
                <a:srgbClr val="ffffff"/>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ublic and private sect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ublic includes national standard setting body (very limited in developing count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Who need to know what and how much of standar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Flexible and adjust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0:17:07Z</dcterms:created>
  <dc:creator>DPAIS</dc:creator>
  <dc:description/>
  <dc:language>en-US</dc:language>
  <cp:lastModifiedBy> </cp:lastModifiedBy>
  <dcterms:modified xsi:type="dcterms:W3CDTF">2009-11-11T07:21:14Z</dcterms:modified>
  <cp:revision>3</cp:revision>
  <dc:subject/>
  <dc:title>PowerPoint Presentation</dc:title>
</cp:coreProperties>
</file>