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C62-FACA-4C80-85B9-81F6326B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D21-D04D-44D6-BA25-008D2D74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86A-95CF-478A-99B9-14E0B50F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08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36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08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36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81C-8950-40FA-8B97-66B1969F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D18-27AE-4DC2-BB81-91B55892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4E10-3E22-4B00-99F8-1B9C1CD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7B85-6CE7-46E1-8B8C-A8EF26ED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8E99-B1A1-46AE-A92E-A8BB6ECB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A966-B951-4AA3-84CF-81C860F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5712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69A4-C769-4D58-AFAB-B7ECE87C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23A-BEFF-44CB-84A9-2869EAF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442-6F04-4989-9822-103D914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10FE-8207-4761-8A50-D13C8A5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85EE-31CD-4D59-A364-4660A1B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AF4-1F06-465B-9784-DD1C34E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5D10-5FA7-48C3-BB13-C72C9209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08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36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08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36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C7AF-0CE1-4C59-91B6-788BBC97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6FE-3912-43AE-B201-29300AE4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AB7-D24B-4EFB-BDF7-ED346FFF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1F6-2B8A-4BE6-BBD4-55BC737E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712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4EF-6055-4E83-9AB1-897BB3B9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A47-7F51-44B0-B97E-4457D19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024-5A76-475C-A968-C5433A0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929-EAEB-4168-B576-A44F2EC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orld 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norstella_mid_firkantmal copy"/>
          <p:cNvPicPr/>
          <p:nvPr/>
        </p:nvPicPr>
        <p:blipFill>
          <a:blip r:embed="rId3"/>
          <a:stretch/>
        </p:blipFill>
        <p:spPr>
          <a:xfrm>
            <a:off x="8427960" y="0"/>
            <a:ext cx="716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b164c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712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9540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22440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4B0E-D11E-440A-94D0-12EA040853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World 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norstella_mid_firkantmal copy"/>
          <p:cNvPicPr/>
          <p:nvPr/>
        </p:nvPicPr>
        <p:blipFill>
          <a:blip r:embed="rId3"/>
          <a:stretch/>
        </p:blipFill>
        <p:spPr>
          <a:xfrm>
            <a:off x="8427960" y="0"/>
            <a:ext cx="716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b164c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452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78280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1180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A8DF-B6FF-4EA8-9F59-3DF98FBBB1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stella_mid_res"/>
          <p:cNvPicPr/>
          <p:nvPr/>
        </p:nvPicPr>
        <p:blipFill>
          <a:blip r:embed="rId1"/>
          <a:stretch/>
        </p:blipFill>
        <p:spPr>
          <a:xfrm>
            <a:off x="2882880" y="1066680"/>
            <a:ext cx="33750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0b164c"/>
                </a:solidFill>
                <a:latin typeface="Arial"/>
              </a:rPr>
              <a:t>Capacity Building</a:t>
            </a:r>
            <a:br>
              <a:rPr sz="3500"/>
            </a:br>
            <a:r>
              <a:rPr b="1" lang="fr-CH" sz="3500" spc="-1" strike="noStrike">
                <a:solidFill>
                  <a:srgbClr val="0b164c"/>
                </a:solidFill>
                <a:latin typeface="Arial"/>
              </a:rPr>
              <a:t> – from a practical perspective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rild Harald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eneral manager NorS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Private non-profit foundation for e-business and trade procedur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ice chair UN/CEFACT BU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500" spc="-1" strike="noStrike">
                <a:solidFill>
                  <a:srgbClr val="0b164c"/>
                </a:solidFill>
                <a:latin typeface="Arial"/>
              </a:rPr>
              <a:t>Global trade 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 prerequisite for global trade is standardisation and harmonisation of procedures world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is does not mean one common standard  nor on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 world of standards is a world of common denominators and bridgeheads fo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5158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Example: a common denominator for the exchange rate between dollars and swiss franc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ff0000"/>
                </a:solidFill>
                <a:latin typeface="Arial"/>
              </a:rPr>
              <a:t>Therefore: Globalisation</a:t>
            </a: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 is about </a:t>
            </a:r>
            <a:r>
              <a:rPr b="1" i="1" lang="nb-NO" sz="2000" spc="-1" strike="noStrike" u="sng">
                <a:solidFill>
                  <a:srgbClr val="ff0000"/>
                </a:solidFill>
                <a:uFillTx/>
                <a:latin typeface="Arial"/>
              </a:rPr>
              <a:t>glocalisation</a:t>
            </a:r>
            <a:r>
              <a:rPr b="1" i="1" lang="nb-NO" sz="2000" spc="-1" strike="noStrike">
                <a:solidFill>
                  <a:srgbClr val="ff0000"/>
                </a:solidFill>
                <a:latin typeface="Arial"/>
              </a:rPr>
              <a:t> – standards developed by local or regional demands o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5158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Example: a common eInvoice (datamodel) developed by UN/CEFACT used as a denominator for a syntaxic presentation adopted to national regulations for accounting 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is is in fact interoperability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100" spc="-1" strike="noStrike">
                <a:solidFill>
                  <a:srgbClr val="0b164c"/>
                </a:solidFill>
                <a:latin typeface="Arial"/>
              </a:rPr>
              <a:t>To achieve economical growth </a:t>
            </a:r>
            <a:br>
              <a:rPr sz="3100"/>
            </a:br>
            <a:r>
              <a:rPr b="1" lang="nb-NO" sz="3100" spc="-1" strike="noStrike">
                <a:solidFill>
                  <a:srgbClr val="0b164c"/>
                </a:solidFill>
                <a:latin typeface="Arial"/>
              </a:rPr>
              <a:t>world wide </a:t>
            </a:r>
            <a:endParaRPr b="1" lang="en-US" sz="31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hree ways to obta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y international agreements (WTO – DOHA-roun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y regulatory decisions made by each country that indicate progress towards large scale goal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 use a competent organisation such as UN/CEFACT and the </a:t>
            </a:r>
            <a:r>
              <a:rPr b="0" lang="en-GB" sz="2100" spc="-1" strike="noStrike" u="sng">
                <a:solidFill>
                  <a:srgbClr val="ff0000"/>
                </a:solidFill>
                <a:uFillTx/>
                <a:latin typeface="Arial"/>
              </a:rPr>
              <a:t>willingness of national institution(s) or actors to be part of a capacity development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N/CEFACT is not “just another” standardisation organisation – it is under the banner of UN, (UN/ECE) which covers more than 50 European countries. But in fact it has a global “market” with considerable support from Asia and part of Af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500" spc="-1" strike="noStrike">
                <a:solidFill>
                  <a:srgbClr val="0b164c"/>
                </a:solidFill>
                <a:latin typeface="Arial"/>
              </a:rPr>
              <a:t>Capacity building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Capacity Building is much more than training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and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900" spc="-1" strike="noStrike">
                <a:solidFill>
                  <a:srgbClr val="000000"/>
                </a:solidFill>
                <a:latin typeface="Arial"/>
              </a:rPr>
              <a:t>Human resource development,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 the process of equipping individuals with the understanding, skills and access to information, knowledge and training that enables them to perform effectivel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900" spc="-1" strike="noStrike">
                <a:solidFill>
                  <a:srgbClr val="000000"/>
                </a:solidFill>
                <a:latin typeface="Arial"/>
              </a:rPr>
              <a:t>Organizational development,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 the elaboration of management structures, processes and procedures, not only within organizations but also the management of relationships between the different organizations and sectors (public, private and community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900" spc="-1" strike="noStrike">
                <a:solidFill>
                  <a:srgbClr val="000000"/>
                </a:solidFill>
                <a:latin typeface="Arial"/>
              </a:rPr>
              <a:t>Institutional and legal framework development, 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making legal and regulatory changes to enable organizations, institutions and agencies at all levels and in all sectors to enhance their capa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000000"/>
                </a:solidFill>
                <a:latin typeface="Arial"/>
              </a:rPr>
              <a:t>Use of ICT-standards and UN recommendations. </a:t>
            </a: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ICT should be an enabler, and not a driver for Trade Facilitation, as stated earli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100" spc="-1" strike="noStrike">
                <a:solidFill>
                  <a:srgbClr val="0b164c"/>
                </a:solidFill>
                <a:latin typeface="Arial"/>
              </a:rPr>
              <a:t>Some facts about the norwegian approach</a:t>
            </a:r>
            <a:endParaRPr b="1" lang="en-US" sz="31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Norwegian Government as such does not give capacity-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Government gives « aid for trade » through multilateral organisations such as WCO and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t is up to the countries recieving this, to set up practical projec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y building is delivered from the customs departement through W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witzerland and Norway has pressed for setting up a TF Committe in W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100" spc="-1" strike="noStrike">
                <a:solidFill>
                  <a:srgbClr val="0b164c"/>
                </a:solidFill>
                <a:latin typeface="Arial"/>
              </a:rPr>
              <a:t>Bu NorStella is giving ”Capacity bulding” to norwegian SMEs on trade facilitation</a:t>
            </a:r>
            <a:endParaRPr b="1" lang="en-US" sz="31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pacity building for SMEs in international trade based on UN/CEFAC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Open course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1224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Busines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ternational delivering terms for goods to different regions Remburs/documentary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Contract t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1224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Technical cours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EDIFACT (Custo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ML (ShortseaXML, eInvo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odelling (BPMN, UML, UMI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ailored made courses on request by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Capacity building based on interactive discussions and specific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500" spc="-1" strike="noStrike">
                <a:solidFill>
                  <a:srgbClr val="0b164c"/>
                </a:solidFill>
                <a:latin typeface="Arial"/>
              </a:rPr>
              <a:t>Providing a solution: An Example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hortseaXML – a project to develop standardised XML-messages between all actors in the value chain of transport by sea or waterways. The project was lead by NorSt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messages are developed by using UN/CEFACT standards (Core Components, UMM,NDR, ebXML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ocus was shortsea-routes in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focus has expanded to routes from Europe to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northern parts of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re is also an interest in this in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South-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re is also a demand for this solution in Asia (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Taiwan, Korea, Japan, China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solution will be implemented by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norwegian port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as a first step to create a ”single window”-solution in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Lessons learned: Developing standards by the experts within UN/CEFACT, creates solutions for more efficient trade across borders in Europa, in Asia, i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0b164c"/>
                </a:solidFill>
                <a:latin typeface="Arial"/>
              </a:rPr>
              <a:t>What to do?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Economies in transition have asked for support to TF-projects as  implementing fx « Single window »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/ECE has raised the question of availability of «concrete expertise of practioners » that can help and support TF-projects « on the spot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uch experts are available in UN/CEFACT as such, with over 200 experts in area that can support those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is should be arranged in cooperation with the countries, UN/ECE and 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funding could come from « aid for trade » or other programs channelled through some mulilateral organisations (WCO, World Bank or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But it is of the outmost importance that economies in transitions also participate in the developement of standards inside UN/CEFACT in order to influence its content, and speed up the processes for « deliverence» to the market when the market needs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5:02:44Z</dcterms:created>
  <dc:creator>Olav Hermansen</dc:creator>
  <dc:description/>
  <dc:language>en-US</dc:language>
  <cp:lastModifiedBy>Library</cp:lastModifiedBy>
  <dcterms:modified xsi:type="dcterms:W3CDTF">2009-11-10T16:00:46Z</dcterms:modified>
  <cp:revision>254</cp:revision>
  <dc:subject/>
  <dc:title>PowerPoint Presentation</dc:title>
</cp:coreProperties>
</file>