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3C4-0AC2-45A6-9775-2CCCD799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100-9197-4127-B940-CB4C04B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162-B58D-4B04-A509-55C88537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08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36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08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36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17C-8BA6-402C-B843-F24C58D5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72A-1BB9-4EE1-8642-EAD2B48F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9008-24F6-42A8-881E-6C5734D2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FBBD-5E35-4CA8-A03D-6A09AE6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E27-76EB-461D-929F-DDEDBA3D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1CE2-C02C-43E9-8061-6B02C641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5712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5647-712D-488B-B390-E0520E84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3D76-6562-4047-8967-51FF9D7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298-94B4-4243-BF82-A485141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9D04-E5E6-40F0-A12C-301A468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B1A9-DC57-4A3D-B5DE-B8BFCD0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AB66-F405-45C6-A96C-488E693E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FC8-9BB5-42C3-A3C2-083FF72E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0888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36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0888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36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2C2F-D6E5-4DC0-B8BD-D1184306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07C-56AE-4975-A00B-668F9F77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134-9284-4099-86CF-66218A8D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D17-8180-4505-BBCB-248BAC3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712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CDB-8705-44B4-9BA0-44AB05C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A31-2189-4D3A-B5EB-2CE2760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356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916-E761-49B7-A131-EBD1F9BC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356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DDA-74E5-4DBA-AF7F-0758820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orld 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norstella_mid_firkantmal copy"/>
          <p:cNvPicPr/>
          <p:nvPr/>
        </p:nvPicPr>
        <p:blipFill>
          <a:blip r:embed="rId3"/>
          <a:stretch/>
        </p:blipFill>
        <p:spPr>
          <a:xfrm>
            <a:off x="8427960" y="0"/>
            <a:ext cx="716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b164c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712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9540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2440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BB8A-51C8-470A-AEAD-ABF8CEABB3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World 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norstella_mid_firkantmal copy"/>
          <p:cNvPicPr/>
          <p:nvPr/>
        </p:nvPicPr>
        <p:blipFill>
          <a:blip r:embed="rId3"/>
          <a:stretch/>
        </p:blipFill>
        <p:spPr>
          <a:xfrm>
            <a:off x="8427960" y="0"/>
            <a:ext cx="716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b164c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452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78280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1180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901-E81A-42F5-A5BE-0B85741759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stella_mid_res"/>
          <p:cNvPicPr/>
          <p:nvPr/>
        </p:nvPicPr>
        <p:blipFill>
          <a:blip r:embed="rId1"/>
          <a:stretch/>
        </p:blipFill>
        <p:spPr>
          <a:xfrm>
            <a:off x="2882880" y="1066680"/>
            <a:ext cx="33750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0b164c"/>
                </a:solidFill>
                <a:latin typeface="Arial"/>
              </a:rPr>
              <a:t>Capacity Building</a:t>
            </a:r>
            <a:br>
              <a:rPr sz="3500"/>
            </a:br>
            <a:r>
              <a:rPr b="1" lang="fr-CH" sz="3500" spc="-1" strike="noStrike">
                <a:solidFill>
                  <a:srgbClr val="0b164c"/>
                </a:solidFill>
                <a:latin typeface="Arial"/>
              </a:rPr>
              <a:t> – from a practical perspective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rild Harald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eneral manager NorS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Private non-profit foundation for e-business and trade procedur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ice chair UN/CEFACT BU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500" spc="-1" strike="noStrike">
                <a:solidFill>
                  <a:srgbClr val="0b164c"/>
                </a:solidFill>
                <a:latin typeface="Arial"/>
              </a:rPr>
              <a:t>Global trade 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 prerequisite for global trade is standardisation and harmonisation of procedures world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is does not mean one common standard  nor on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 world of standards is a world of common denominators and bridgeheads fo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5158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Example: a common denominator for the exchange rate between dollars and swiss franc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ff0000"/>
                </a:solidFill>
                <a:latin typeface="Arial"/>
              </a:rPr>
              <a:t>Therefore: Globalisation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 is about </a:t>
            </a:r>
            <a:r>
              <a:rPr b="1" i="1" lang="nb-NO" sz="2000" spc="-1" strike="noStrike" u="sng">
                <a:solidFill>
                  <a:srgbClr val="ff0000"/>
                </a:solidFill>
                <a:uFillTx/>
                <a:latin typeface="Arial"/>
              </a:rPr>
              <a:t>glocalisation</a:t>
            </a:r>
            <a:r>
              <a:rPr b="1" i="1" lang="nb-NO" sz="2000" spc="-1" strike="noStrike">
                <a:solidFill>
                  <a:srgbClr val="ff0000"/>
                </a:solidFill>
                <a:latin typeface="Arial"/>
              </a:rPr>
              <a:t> – standards developed by local or regional demands o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5158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Example: a common eInvoice (datamodel) developed by UN/CEFACT used as a denominator for a syntaxic presentation adopted to national regulations for accounting 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is is in fact interoperability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100" spc="-1" strike="noStrike">
                <a:solidFill>
                  <a:srgbClr val="0b164c"/>
                </a:solidFill>
                <a:latin typeface="Arial"/>
              </a:rPr>
              <a:t>To achieve economical growth </a:t>
            </a:r>
            <a:br>
              <a:rPr sz="3100"/>
            </a:br>
            <a:r>
              <a:rPr b="1" lang="nb-NO" sz="3100" spc="-1" strike="noStrike">
                <a:solidFill>
                  <a:srgbClr val="0b164c"/>
                </a:solidFill>
                <a:latin typeface="Arial"/>
              </a:rPr>
              <a:t>world wide </a:t>
            </a:r>
            <a:endParaRPr b="1" lang="en-US" sz="31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hree ways to obta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y international agreements (WTO – DOHA-roun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y regulatory decisions made by each country that indicate progress towards large scale goal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 use a competent organisation such as UN/CEFACT and the </a:t>
            </a:r>
            <a:r>
              <a:rPr b="0" lang="en-GB" sz="2100" spc="-1" strike="noStrike" u="sng">
                <a:solidFill>
                  <a:srgbClr val="ff0000"/>
                </a:solidFill>
                <a:uFillTx/>
                <a:latin typeface="Arial"/>
              </a:rPr>
              <a:t>willingness of national institution(s) or actors to be part of a capacity development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SzPct val="1224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N/CEFACT is not “just another” standardisation organisation – it is under the banner of UN, (UN/ECE) which covers more than 50 European countries. But in fact it has a global “market” with considerable support from Asia and part of Af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500" spc="-1" strike="noStrike">
                <a:solidFill>
                  <a:srgbClr val="0b164c"/>
                </a:solidFill>
                <a:latin typeface="Arial"/>
              </a:rPr>
              <a:t>Capacity building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Capacity Building is much more than training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and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900" spc="-1" strike="noStrike">
                <a:solidFill>
                  <a:srgbClr val="000000"/>
                </a:solidFill>
                <a:latin typeface="Arial"/>
              </a:rPr>
              <a:t>Human resource development,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 the process of equipping individuals with the understanding, skills and access to information, knowledge and training that enables them to perform effectivel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900" spc="-1" strike="noStrike">
                <a:solidFill>
                  <a:srgbClr val="000000"/>
                </a:solidFill>
                <a:latin typeface="Arial"/>
              </a:rPr>
              <a:t>Organizational development,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 the elaboration of management structures, processes and procedures, not only within organizations but also the management of relationships between the different organizations and sectors (public, private and community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900" spc="-1" strike="noStrike">
                <a:solidFill>
                  <a:srgbClr val="000000"/>
                </a:solidFill>
                <a:latin typeface="Arial"/>
              </a:rPr>
              <a:t>Institutional and legal framework development, 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making legal and regulatory changes to enable organizations, institutions and agencies at all levels and in all sectors to enhance their capa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353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900" spc="-1" strike="noStrike">
                <a:solidFill>
                  <a:srgbClr val="000000"/>
                </a:solidFill>
                <a:latin typeface="Arial"/>
              </a:rPr>
              <a:t>Use of ICT-standards and UN recommendations. </a:t>
            </a: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ICT should be an enabler, and not a driver for Trade Facilitation, as stated earli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100" spc="-1" strike="noStrike">
                <a:solidFill>
                  <a:srgbClr val="0b164c"/>
                </a:solidFill>
                <a:latin typeface="Arial"/>
              </a:rPr>
              <a:t>Some facts about the norwegian approach</a:t>
            </a:r>
            <a:endParaRPr b="1" lang="en-US" sz="31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Norwegian Government as such does not give capacity-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Government gives « aid for trade » through multilateral organisations such as WCO and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t is up to the countries recieving this, to set up practical projec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y building is delivered from the customs departement through W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witzerland and Norway has pressed for setting up a TF Committe in W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100" spc="-1" strike="noStrike">
                <a:solidFill>
                  <a:srgbClr val="0b164c"/>
                </a:solidFill>
                <a:latin typeface="Arial"/>
              </a:rPr>
              <a:t>Bu NorStella is giving ”Capacity bulding” to norwegian SMEs on trade facilitation</a:t>
            </a:r>
            <a:endParaRPr b="1" lang="en-US" sz="31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pacity building for SMEs in international trade based on UN/CEFAC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pen course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122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Busines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ternational delivering terms for goods to different regions Remburs/documentary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Contract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1224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Technical cours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EDIFACT (Custo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ML (ShortseaXML, eInvo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odelling (BPMN, UML, UMI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ailored made courses on request by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Capacity building based on interactive discussions and specific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500" spc="-1" strike="noStrike">
                <a:solidFill>
                  <a:srgbClr val="0b164c"/>
                </a:solidFill>
                <a:latin typeface="Arial"/>
              </a:rPr>
              <a:t>Providing a solution: An Example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hortseaXML – a project to develop standardised XML-messages between all actors in the value chain of transport by sea or waterways. The project was lead by NorS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messages are developed by using UN/CEFACT standards (Core Components, UMM,NDR, ebXML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ocus was shortsea-routes in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focus has expanded to routes from Europe to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northern parts of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re is also an interest in this in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South-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re is also a demand for this solution in Asia (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Taiwan, Korea, Japan, China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solution will be implemented by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norwegian port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as a first step to create a ”single window”-solution in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Lessons learned: Developing standards by the experts within UN/CEFACT, creates solutions for more efficient trade across borders in Europa, in Asia,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0b164c"/>
                </a:solidFill>
                <a:latin typeface="Arial"/>
              </a:rPr>
              <a:t>What to do?</a:t>
            </a:r>
            <a:endParaRPr b="1" lang="en-US" sz="3500" spc="-1" strike="noStrike">
              <a:solidFill>
                <a:srgbClr val="0b16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Economies in transition have asked for support to TF-projects as  implementing fx « Single window »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/ECE has raised the question of availability of «concrete expertise of practioners » that can help and support TF-projects « on the spot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uch experts are available in UN/CEFACT as such, with over 200 experts in area that can support those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is should be arranged in cooperation with the countries, UN/ECE and 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funding could come from « aid for trade » or other programs channelled through some mulilateral organisations (WCO, World Bank or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But it is of the outmost importance that economies in transitions also participate in the developement of standards inside UN/CEFACT in order to influence its content, and speed up the processes for « deliverence» to the market when the market needs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5:02:44Z</dcterms:created>
  <dc:creator>Olav Hermansen</dc:creator>
  <dc:description/>
  <dc:language>en-US</dc:language>
  <cp:lastModifiedBy>Library</cp:lastModifiedBy>
  <dcterms:modified xsi:type="dcterms:W3CDTF">2009-11-10T16:00:46Z</dcterms:modified>
  <cp:revision>254</cp:revision>
  <dc:subject/>
  <dc:title>PowerPoint Presentation</dc:title>
</cp:coreProperties>
</file>