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FCC-142E-47DB-8D93-0DA87085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75C-60A0-4EFD-93F3-16676232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AE2-1BDB-4154-9EBA-E909FDF7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C64-1C2B-4112-8E70-F83FBDE9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DBE2-9DD8-4B2E-8BB6-8885DB93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B378-1D4F-4F27-BDB1-8C6E9A90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4DBD-2EAF-42A4-BF71-AAAABCF3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9449-CBA4-450A-BCAB-854E8895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9154-A820-4A49-9DE8-E170995A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877C-7F43-4CBB-B48F-38CE4AB5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2E56-C781-4C6E-B628-79990964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838-BABB-4262-8A9E-B74DD99A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8144-B6FE-4F43-B93A-24DBAF1C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B80A-E33A-47B3-98C8-BE1297E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7882-2F83-4E07-99EA-E68AD3C4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3A10-F0EE-45EC-811E-2D1D64A9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BCB9-2362-4957-94DF-AD27AA28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197-6269-4C18-8329-AFA5E420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4BE-806D-458B-B635-5A1EDC6F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47B-1FEF-4E90-A677-953B5C2F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41B-069D-4B35-B2E1-C2A2FEFE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ED1-8E6E-4C87-97FD-E5766AA0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36B-1E84-49DF-A1CC-5C635E15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BEC-2CBE-4F2C-81A9-738D8AD9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ottom Lin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FD09-F9F9-4986-87CB-31631BE7CA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e/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ottom-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 Black"/>
              </a:rPr>
              <a:t>FAVORISER L’IMPLANTATION DE GUICHET UNIQUE EN AFRIQUE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brahima Nour Eddine DI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Vision et cohérence démar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apacités de mise en œuv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traintes institutionne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traintes lég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traintes technolog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LES LEVIE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ditions poli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ditions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ditions financiè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ROLES DES RE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mouvoir les Guichets .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artage des expé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opération entre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nstitution d’un pôle d’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nformation sensibilisation décideur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mouvoir les initiatives trans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pproches région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B appropr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76720" y="2276640"/>
            <a:ext cx="2417760" cy="1008000"/>
          </a:xfrm>
          <a:prstGeom prst="rect">
            <a:avLst/>
          </a:prstGeom>
          <a:solidFill>
            <a:srgbClr val="0099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erlin Sans FB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5229360"/>
            <a:ext cx="2417760" cy="1008000"/>
          </a:xfrm>
          <a:prstGeom prst="rect">
            <a:avLst/>
          </a:prstGeom>
          <a:solidFill>
            <a:srgbClr val="0099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"/>
              </a:rPr>
              <a:t>DONORS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"/>
              </a:rPr>
              <a:t>Techn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276640"/>
            <a:ext cx="2417760" cy="1008000"/>
          </a:xfrm>
          <a:prstGeom prst="rect">
            <a:avLst/>
          </a:prstGeom>
          <a:solidFill>
            <a:srgbClr val="0099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erlin Sans FB"/>
              </a:rPr>
              <a:t>PRIV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erlin Sans FB"/>
              </a:rPr>
              <a:t>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2276640"/>
            <a:ext cx="2417760" cy="1008000"/>
          </a:xfrm>
          <a:prstGeom prst="rect">
            <a:avLst/>
          </a:prstGeom>
          <a:solidFill>
            <a:srgbClr val="0099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erlin Sans FB"/>
              </a:rPr>
              <a:t>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04920"/>
            <a:ext cx="8153280" cy="642600"/>
          </a:xfrm>
          <a:prstGeom prst="rect">
            <a:avLst/>
          </a:prstGeom>
          <a:noFill/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ff"/>
                </a:solidFill>
                <a:latin typeface="Georgia"/>
              </a:rPr>
              <a:t>AFRICA T.F D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4427640" y="692640"/>
            <a:ext cx="216000" cy="5977080"/>
          </a:xfrm>
          <a:custGeom>
            <a:avLst/>
            <a:gdLst>
              <a:gd name="textAreaLeft" fmla="*/ 0 w 216000"/>
              <a:gd name="textAreaRight" fmla="*/ 78120 w 216000"/>
              <a:gd name="textAreaTop" fmla="*/ 155880 h 5977080"/>
              <a:gd name="textAreaBottom" fmla="*/ 5821200 h 597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4005360"/>
            <a:ext cx="2417760" cy="1008000"/>
          </a:xfrm>
          <a:prstGeom prst="rect">
            <a:avLst/>
          </a:prstGeom>
          <a:solidFill>
            <a:srgbClr val="0099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"/>
              </a:rPr>
              <a:t>Coordin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436572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5166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40000" y="4292640"/>
            <a:ext cx="792000" cy="576360"/>
          </a:xfrm>
          <a:prstGeom prst="rightArrow">
            <a:avLst>
              <a:gd name="adj1" fmla="val 50000"/>
              <a:gd name="adj2" fmla="val 34354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544500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57340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7920000" y="483192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335640" y="483192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7127640" y="4831920"/>
            <a:ext cx="792360" cy="576000"/>
          </a:xfrm>
          <a:prstGeom prst="rightArrow">
            <a:avLst>
              <a:gd name="adj1" fmla="val 50000"/>
              <a:gd name="adj2" fmla="val 34391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268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SPIRED BY WH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41:44Z</dcterms:created>
  <dc:creator>D029024</dc:creator>
  <dc:description/>
  <dc:language>en-US</dc:language>
  <cp:lastModifiedBy>Ibrahima DIAGNE</cp:lastModifiedBy>
  <dcterms:modified xsi:type="dcterms:W3CDTF">2009-11-10T13:58:01Z</dcterms:modified>
  <cp:revision>36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