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B35-24A6-44B9-81D3-1C4D86A9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445-19DE-4930-915D-48A8E0A4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255-5D72-4CD0-AEA5-74236029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ACF-2629-46D8-801F-AAC75C26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35AF-D795-49F3-B46F-A0664373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0E3C-FA36-436C-9D65-58A3D397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FF43-6C3F-4ADA-B502-DE80A6A7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9872-E954-4295-881B-0B30F9FE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AEB2-B7EB-4DF8-B14B-D658DCD9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B8FF-C3B1-4A6A-A646-A4EBEA07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0B2F-E1F8-4CBF-A607-88950AD9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223-E224-4B1A-9A31-F212AC85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7590-6BD7-4D88-BB3B-2FCDA242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E985-3E49-4BD2-80C7-9B7C1F3E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8F4A-607A-4290-8BA1-45BBB528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F77B-8562-4284-8DB7-C192FEFB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2239-C2EA-444E-9875-21E53CD2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3F9-DAD6-4808-BDC2-6249C332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E64-A298-45F9-B16D-B8BB45CD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5E8-9B7E-44BF-8BFF-B80D8282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D2B-395A-40D7-A0DD-324D9EAE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4AE-903A-4BAD-A85F-C25C6C87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AD6-06B0-4B44-BD59-9F630E57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477-43ED-4473-B882-8968779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ottom Lin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EEAB-2B26-4437-B76C-01539587F6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e/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ottom-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 Black"/>
              </a:rPr>
              <a:t>FAVORISER L’IMPLANTATION DE GUICHET UNIQUE EN AFRIQUE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brahima Nour Eddine DI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Vision et cohérence démar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apacités de mise en œuv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traintes institutionne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traintes lég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traintes technolog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LES LEVIE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ditions poli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ditions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ditions financiè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ROLES DES RE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mouvoir les Guichets .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artage des expé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opération entre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nstitution d’un pôle d’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nformation sensibilisation décideur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mouvoir les initiatives trans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pproches région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B appropr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76720" y="2276640"/>
            <a:ext cx="2417760" cy="1008000"/>
          </a:xfrm>
          <a:prstGeom prst="rect">
            <a:avLst/>
          </a:prstGeom>
          <a:solidFill>
            <a:srgbClr val="0099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erlin Sans FB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5229360"/>
            <a:ext cx="2417760" cy="1008000"/>
          </a:xfrm>
          <a:prstGeom prst="rect">
            <a:avLst/>
          </a:prstGeom>
          <a:solidFill>
            <a:srgbClr val="0099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"/>
              </a:rPr>
              <a:t>DONORS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"/>
              </a:rPr>
              <a:t>Techn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276640"/>
            <a:ext cx="2417760" cy="1008000"/>
          </a:xfrm>
          <a:prstGeom prst="rect">
            <a:avLst/>
          </a:prstGeom>
          <a:solidFill>
            <a:srgbClr val="0099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erlin Sans FB"/>
              </a:rPr>
              <a:t>PRIV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erlin Sans FB"/>
              </a:rPr>
              <a:t>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2276640"/>
            <a:ext cx="2417760" cy="1008000"/>
          </a:xfrm>
          <a:prstGeom prst="rect">
            <a:avLst/>
          </a:prstGeom>
          <a:solidFill>
            <a:srgbClr val="0099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erlin Sans FB"/>
              </a:rPr>
              <a:t>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04920"/>
            <a:ext cx="8153280" cy="642600"/>
          </a:xfrm>
          <a:prstGeom prst="rect">
            <a:avLst/>
          </a:prstGeom>
          <a:noFill/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9ff"/>
                </a:solidFill>
                <a:latin typeface="Georgia"/>
              </a:rPr>
              <a:t>AFRICA T.F D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4427640" y="692640"/>
            <a:ext cx="216000" cy="5977080"/>
          </a:xfrm>
          <a:custGeom>
            <a:avLst/>
            <a:gdLst>
              <a:gd name="textAreaLeft" fmla="*/ 0 w 216000"/>
              <a:gd name="textAreaRight" fmla="*/ 78120 w 216000"/>
              <a:gd name="textAreaTop" fmla="*/ 155880 h 5977080"/>
              <a:gd name="textAreaBottom" fmla="*/ 5821200 h 597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4005360"/>
            <a:ext cx="2417760" cy="1008000"/>
          </a:xfrm>
          <a:prstGeom prst="rect">
            <a:avLst/>
          </a:prstGeom>
          <a:solidFill>
            <a:srgbClr val="0099ff"/>
          </a:solidFill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"/>
              </a:rPr>
              <a:t>Coordin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436572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5166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40000" y="4292640"/>
            <a:ext cx="792000" cy="576360"/>
          </a:xfrm>
          <a:prstGeom prst="rightArrow">
            <a:avLst>
              <a:gd name="adj1" fmla="val 50000"/>
              <a:gd name="adj2" fmla="val 34354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544500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57340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7920000" y="483192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335640" y="483192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7127640" y="4831920"/>
            <a:ext cx="792360" cy="576000"/>
          </a:xfrm>
          <a:prstGeom prst="rightArrow">
            <a:avLst>
              <a:gd name="adj1" fmla="val 50000"/>
              <a:gd name="adj2" fmla="val 34391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268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SPIRED BY WH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41:44Z</dcterms:created>
  <dc:creator>D029024</dc:creator>
  <dc:description/>
  <dc:language>en-US</dc:language>
  <cp:lastModifiedBy>Ibrahima DIAGNE</cp:lastModifiedBy>
  <dcterms:modified xsi:type="dcterms:W3CDTF">2009-11-10T13:58:01Z</dcterms:modified>
  <cp:revision>36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