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70480" y="6068880"/>
            <a:ext cx="19731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implifying International 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EFACT and i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lcolm McKinn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hief Executive, SITPR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nderstanding stakeholder need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derstanding what border agencies wan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nsparency and consistency in decis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mplified border procedures, lower compliance cos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liance, revenue, secur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does SITPRO add value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dvice and information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t analysis, influence, balan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mplification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unication - sharing experiences  - alliance build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Delivering stakeholder need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municate what we 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inuous engagemen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ong term dialogue with trad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vidence of delive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ow to save traders mone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sitive responses from Governmen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ccess stor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eedback from stakehold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sitive and negativ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ITPRO and CEFAC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e are each other’s stakehol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at is SITPRO looking for from CEFAC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UN Layout Key for paper docu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DIFACT messag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XML ??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est practice guidance (recommendation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g Recommendation 33 (single window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etter understanding and delive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mand driven or supply driv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imely delivery – when the market needs i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akeholder managemen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Use the opin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most powerful stakeholders to shape activity at an early sta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kes it more likely that they will support activity, and their input can also improve its qual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Gain suppor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rom powerful stakeholder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lps to win more resources and make it more likely that activity will be successfu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ommunic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with stakeholders early and ofte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lps ensure that they know what’s happening and fully understand benefits of project – supporting actively when necessar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nticip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reactions, and build in the actions that will win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akeholder analysi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2057400"/>
          <a:ext cx="8229600" cy="4133880"/>
        </p:xfrm>
        <a:graphic>
          <a:graphicData uri="http://schemas.openxmlformats.org/drawingml/2006/table">
            <a:tbl>
              <a:tblPr/>
              <a:tblGrid>
                <a:gridCol w="1600200"/>
                <a:gridCol w="327672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tisfi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nag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el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 rowSpan="2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nit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form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             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EFACT and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ap analysi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ority stakeholder messa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o are “stakeholders”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Definition of stakeholder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yone that has an interest in a project or will be affected by its deliverables or outpu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ose who are affected by a project or other output, who have influence or power over it, or have an interest in its successful or unsuccessful conclu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nderstanding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wo major elements to stakeholder management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takeholder Analy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technique used to identify the key people who have to be won ov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takeholder Planning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technique to build the support that helps you succe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nderstanding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ortant to understand the values and issues that stakeholders have in order to address them and keep everyone on board for the duration of the pro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nderstanding key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Financial or emotional interest?   Positive or negative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at motivates them most of all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at do they want from you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Best way of communicating your message to them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urrent opinion of your work? Is it based on good information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at will win them around if they are not supportive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f they can’t be won round, how will you manage their opposition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o influences their opinions generally, and who influences their opinion of you?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o else might be influenced by their opinions?                 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o some of these influencers become important stakeholders in their own right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akeholder analysi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057400"/>
          <a:ext cx="8229600" cy="4133880"/>
        </p:xfrm>
        <a:graphic>
          <a:graphicData uri="http://schemas.openxmlformats.org/drawingml/2006/table">
            <a:tbl>
              <a:tblPr/>
              <a:tblGrid>
                <a:gridCol w="1600200"/>
                <a:gridCol w="327672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tisfi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nag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el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 rowSpan="2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nit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form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             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SITPRO’s key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360" y="1980720"/>
            <a:ext cx="57578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usine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Representative organisa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rading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olicy makers and form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nfrastructure provid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ultipli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Eg Pre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SITPRO’s key stakehold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14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olicy Makers and Form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K Government Depart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embers of Parliament including Select Committe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uropean Commiss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uropean Parliamen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reign Govern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TO Negotiato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/CEFAC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ther International Organisations (e.g. WCO and ICC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ther Trade Facilitation Organis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980720"/>
            <a:ext cx="3814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frastructure Provid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K Government Trade Interface Depart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K Government Systems Provid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n-UK Government Systems Provid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t Operato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unity Service Provid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de Document Print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de Systems Provid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36:28Z</dcterms:created>
  <dc:creator> </dc:creator>
  <dc:description/>
  <dc:language>en-US</dc:language>
  <cp:lastModifiedBy>Malcolm McKinnon</cp:lastModifiedBy>
  <dcterms:modified xsi:type="dcterms:W3CDTF">2009-11-10T08:22:53Z</dcterms:modified>
  <cp:revision>17</cp:revision>
  <dc:subject/>
  <dc:title>Slide 1</dc:title>
</cp:coreProperties>
</file>