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KASSAAPP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624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5936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568c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42336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624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489C-B3D4-432B-9508-6752E45BC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tshållare för bildnummer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3A9A-F083-4B49-BA79-BB27C6CEA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tshållare för bildnummer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BA32-289D-44D4-BC39-F81168C09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8D35-62EC-4017-ABB8-4A5B05BC5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084320" y="87012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04680" y="4716360"/>
            <a:ext cx="497988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tshållare för bildnummer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643B-346A-42A1-90EA-742130B62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D5805-D36C-4F5D-8734-07C2753FC3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9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539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B1082-2E3D-465C-8756-75A663EF00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23440" y="1600200"/>
            <a:ext cx="263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263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223440" y="3964320"/>
            <a:ext cx="263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A4E0A-393F-4A75-842D-7DE1EC457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173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82040" y="1600200"/>
            <a:ext cx="173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07600" y="1600200"/>
            <a:ext cx="173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173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282040" y="3964320"/>
            <a:ext cx="173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107600" y="3964320"/>
            <a:ext cx="173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28411-DA2F-40CE-9D19-87FA5707D3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5398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98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23440" y="1600200"/>
            <a:ext cx="263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5398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23440" y="1600200"/>
            <a:ext cx="263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263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5398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5ADA7-23A5-4BF4-A7DC-6DA617FEF8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23440" y="1600200"/>
            <a:ext cx="263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223440" y="3964320"/>
            <a:ext cx="263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223440" y="1600200"/>
            <a:ext cx="263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539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9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539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23440" y="1600200"/>
            <a:ext cx="263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263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223440" y="3964320"/>
            <a:ext cx="263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173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2040" y="1600200"/>
            <a:ext cx="173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07600" y="1600200"/>
            <a:ext cx="173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173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282040" y="3964320"/>
            <a:ext cx="173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107600" y="3964320"/>
            <a:ext cx="173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98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CDC7B-D469-45ED-A51F-3BBCA1DD75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223440" y="1600200"/>
            <a:ext cx="263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99B9E-51A4-4A2A-A0D4-384EF74D6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72841-B493-45E6-938E-0CC6047309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5398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2A05C-6EC7-4B98-BC2F-9909B58E5B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223440" y="1600200"/>
            <a:ext cx="263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263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34429-98CB-460A-AF21-D6D6D504BB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223440" y="1600200"/>
            <a:ext cx="263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23440" y="3964320"/>
            <a:ext cx="263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72605-F40E-4879-A893-3B095A108C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223440" y="1600200"/>
            <a:ext cx="263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539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B6BA0-54A9-4EEE-A8F1-7F8533EB4A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SKL_ppt_element_bla"/>
          <p:cNvPicPr/>
          <p:nvPr/>
        </p:nvPicPr>
        <p:blipFill>
          <a:blip r:embed="rId2"/>
          <a:stretch/>
        </p:blipFill>
        <p:spPr>
          <a:xfrm>
            <a:off x="6227640" y="0"/>
            <a:ext cx="291636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568c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5398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16668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1080" indent="-16668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27120" indent="-15552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974960" indent="-14616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974960" indent="-14616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974960" indent="-14616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92720" y="6408360"/>
            <a:ext cx="874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EFE4-6452-4099-A89A-70191EF956D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519120" y="6305400"/>
            <a:ext cx="1843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SKL_ppt_element_bla"/>
          <p:cNvPicPr/>
          <p:nvPr/>
        </p:nvPicPr>
        <p:blipFill>
          <a:blip r:embed="rId2"/>
          <a:stretch/>
        </p:blipFill>
        <p:spPr>
          <a:xfrm>
            <a:off x="6227640" y="0"/>
            <a:ext cx="291636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5"/>
          <p:cNvSpPr/>
          <p:nvPr/>
        </p:nvSpPr>
        <p:spPr>
          <a:xfrm>
            <a:off x="7093080" y="6408720"/>
            <a:ext cx="87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1500-A7C0-4517-B644-674D8259CCD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717120" y="6305400"/>
            <a:ext cx="31708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800" spc="-1" strike="noStrike">
                <a:solidFill>
                  <a:srgbClr val="000000"/>
                </a:solidFill>
                <a:latin typeface="Verdana"/>
              </a:rPr>
              <a:t>Svenska Kommunförbundet och Landstingsförbundet i samverk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568c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5398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16668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1080" indent="-16668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27120" indent="-15552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974960" indent="-14616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974960" indent="-14616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974960" indent="-14616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ekerstin.wiss.holmdahl@skl.se" TargetMode="External"/><Relationship Id="rId2" Type="http://schemas.openxmlformats.org/officeDocument/2006/relationships/hyperlink" Target="mailto:Peter.noren@esv.se" TargetMode="External"/><Relationship Id="rId3" Type="http://schemas.openxmlformats.org/officeDocument/2006/relationships/hyperlink" Target="mailto:tekniskt.kansli@skl.se" TargetMode="External"/><Relationship Id="rId4" Type="http://schemas.openxmlformats.org/officeDocument/2006/relationships/hyperlink" Target="http://www.sfti.se/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.wmf"/><Relationship Id="rId9" Type="http://schemas.openxmlformats.org/officeDocument/2006/relationships/audio" Target="../media/KASSAAPP.WAV"/><Relationship Id="rId10" Type="http://schemas.openxmlformats.org/officeDocument/2006/relationships/audio" Target="../media/KASSAAPP.WAV"/><Relationship Id="rId11" Type="http://schemas.openxmlformats.org/officeDocument/2006/relationships/audio" Target="../media/KASSAAPP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tshållare för bildnummer 3"/>
          <p:cNvSpPr/>
          <p:nvPr/>
        </p:nvSpPr>
        <p:spPr>
          <a:xfrm>
            <a:off x="7093080" y="6408720"/>
            <a:ext cx="87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3767-F095-47E2-85BC-9C2BC803B0C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3716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1568c"/>
                </a:solidFill>
                <a:latin typeface="Verdana"/>
              </a:rPr>
              <a:t>E-procurement standards </a:t>
            </a:r>
            <a:br>
              <a:rPr sz="3200"/>
            </a:br>
            <a:r>
              <a:rPr b="1" lang="en-GB" sz="3200" spc="-1" strike="noStrike">
                <a:solidFill>
                  <a:srgbClr val="11568c"/>
                </a:solidFill>
                <a:latin typeface="Verdana"/>
              </a:rPr>
              <a:t>in the Swedish public sector</a:t>
            </a:r>
            <a:endParaRPr b="1" lang="en-US" sz="32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4267080"/>
            <a:ext cx="63248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Kerstin Wiss Holmdah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wedish Association of Local Authorities and Reg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eter Noré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wedish National Financial Management Author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ingle Face To Industry (SFTI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5" descr="ESV_40mm_Neg"/>
          <p:cNvPicPr/>
          <p:nvPr/>
        </p:nvPicPr>
        <p:blipFill>
          <a:blip r:embed="rId1"/>
          <a:stretch/>
        </p:blipFill>
        <p:spPr>
          <a:xfrm>
            <a:off x="7610400" y="1341360"/>
            <a:ext cx="14479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tshållare för bildnummer 3"/>
          <p:cNvSpPr/>
          <p:nvPr/>
        </p:nvSpPr>
        <p:spPr>
          <a:xfrm>
            <a:off x="7093080" y="6408720"/>
            <a:ext cx="87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9CC4-F71E-4544-939B-5A21692AD74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568c"/>
                </a:solidFill>
                <a:latin typeface="Verdana"/>
              </a:rPr>
              <a:t>Thank you!</a:t>
            </a: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2514240"/>
            <a:ext cx="699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0640" indent="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Kerstin Wiss Holmdah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0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Legal advisor/project lead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0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wedish Association of Local Authorities and Region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0640" indent="0">
              <a:lnSpc>
                <a:spcPct val="80000"/>
              </a:lnSpc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/SFTI (Single Face To Industry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0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kerstin.wiss.holmdahl@skl.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0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+46 8 452 79 8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0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0640" indent="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eter Noré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0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roject lead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0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wedish National Financial Management Authority / SFT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0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eter.noren@esv.se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, +46 8 690 45 9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0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0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0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F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0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echnical staff: </a:t>
            </a:r>
            <a:r>
              <a:rPr b="0" lang="en-GB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tekniskt.kansli@skl.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0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Web page: </a:t>
            </a:r>
            <a:r>
              <a:rPr b="0" lang="en-GB" sz="1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www.sfti.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0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0640" indent="0">
              <a:lnSpc>
                <a:spcPct val="80000"/>
              </a:lnSpc>
              <a:spcBef>
                <a:spcPts val="349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4" descr="ESV_40mm_Neg"/>
          <p:cNvPicPr/>
          <p:nvPr/>
        </p:nvPicPr>
        <p:blipFill>
          <a:blip r:embed="rId5"/>
          <a:stretch/>
        </p:blipFill>
        <p:spPr>
          <a:xfrm>
            <a:off x="7610400" y="1341360"/>
            <a:ext cx="14479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tshållare för bildnummer 3"/>
          <p:cNvSpPr/>
          <p:nvPr/>
        </p:nvSpPr>
        <p:spPr>
          <a:xfrm>
            <a:off x="7093080" y="6408720"/>
            <a:ext cx="87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BE75-A412-4276-BBFB-03B68F666E6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598824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568c"/>
                </a:solidFill>
                <a:latin typeface="Verdana"/>
              </a:rPr>
              <a:t>Single Face To Industry (SFTI)</a:t>
            </a: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Was initiated as an e-commerce project, in 1995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Now a public sector program, lead jointly by the Government, through The Swedish National Financial Management Authority (ESV), and The Swedish Association of Local Authorities and Regions (SKL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ur objectives for e-procurement ar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16668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impler and more efficient procurement in public sect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16668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Better compliance with frame work agreements (i.e. buy from right supplier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16668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Free resources for the core business (i.e. for schools, hospitals, elderly care etc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040" indent="0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4" descr="ESV_40mm_Neg"/>
          <p:cNvPicPr/>
          <p:nvPr/>
        </p:nvPicPr>
        <p:blipFill>
          <a:blip r:embed="rId1"/>
          <a:stretch/>
        </p:blipFill>
        <p:spPr>
          <a:xfrm>
            <a:off x="7610400" y="1341360"/>
            <a:ext cx="14479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tshållare för bildnummer 3"/>
          <p:cNvSpPr/>
          <p:nvPr/>
        </p:nvSpPr>
        <p:spPr>
          <a:xfrm>
            <a:off x="7093080" y="6408720"/>
            <a:ext cx="87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96DF-5731-46D5-9603-C12FA734E58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598824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568c"/>
                </a:solidFill>
                <a:latin typeface="Verdana"/>
              </a:rPr>
              <a:t>SFTI – our role</a:t>
            </a: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63230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tablish standardised business processes for public buyers and their suppli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16668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ub-ordering (call off) from framework agreements is the most used business scenar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16668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eriodic invoicing is also used in a large sca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rovide for complementary use of stand-alone electronic messages (invoice, ord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rovide user support through implementation guidelines, awareness, training, technical advice, et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ncourage the development of e-procurement/e-business solu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ESV_40mm_Neg"/>
          <p:cNvPicPr/>
          <p:nvPr/>
        </p:nvPicPr>
        <p:blipFill>
          <a:blip r:embed="rId1"/>
          <a:stretch/>
        </p:blipFill>
        <p:spPr>
          <a:xfrm>
            <a:off x="7610400" y="1341360"/>
            <a:ext cx="14479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tshållare för bildnummer 3"/>
          <p:cNvSpPr/>
          <p:nvPr/>
        </p:nvSpPr>
        <p:spPr>
          <a:xfrm>
            <a:off x="7093080" y="6408720"/>
            <a:ext cx="87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6181-EB92-43CB-BB13-AC6F934B415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6649920" y="3218040"/>
            <a:ext cx="1049400" cy="1981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6497640" y="2836800"/>
            <a:ext cx="1049400" cy="1981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3"/>
          <a:stretch/>
        </p:blipFill>
        <p:spPr>
          <a:xfrm>
            <a:off x="6421320" y="2455920"/>
            <a:ext cx="990720" cy="17524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620280"/>
            <a:ext cx="632448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11568c"/>
                </a:solidFill>
                <a:latin typeface="Verdana"/>
              </a:rPr>
              <a:t>An example</a:t>
            </a:r>
            <a:r>
              <a:rPr b="1" i="1" lang="sv-SE" sz="2000" spc="-1" strike="noStrike">
                <a:solidFill>
                  <a:srgbClr val="11568c"/>
                </a:solidFill>
                <a:latin typeface="Verdana"/>
              </a:rPr>
              <a:t>:</a:t>
            </a:r>
            <a:br>
              <a:rPr sz="1600"/>
            </a:b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SFTI/ESAP Sc 6.1 Sub-ordering from frame work agreements, based on UN/EDIFACT</a:t>
            </a:r>
            <a:r>
              <a:rPr b="0" lang="en-GB" sz="1700" spc="-1" strike="noStrike">
                <a:solidFill>
                  <a:srgbClr val="11568c"/>
                </a:solidFill>
                <a:latin typeface="Verdana"/>
              </a:rPr>
              <a:t> </a:t>
            </a: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and EANCOM</a:t>
            </a:r>
            <a:endParaRPr b="1" lang="en-US" sz="1700" spc="-1" strike="noStrike">
              <a:solidFill>
                <a:srgbClr val="11568c"/>
              </a:solidFill>
              <a:latin typeface="Verdana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3048120" y="2438280"/>
            <a:ext cx="2895480" cy="609840"/>
            <a:chOff x="3048120" y="2438280"/>
            <a:chExt cx="2895480" cy="609840"/>
          </a:xfrm>
        </p:grpSpPr>
        <p:sp>
          <p:nvSpPr>
            <p:cNvPr id="107" name="AutoShape 7"/>
            <p:cNvSpPr/>
            <p:nvPr/>
          </p:nvSpPr>
          <p:spPr>
            <a:xfrm>
              <a:off x="3048120" y="2438280"/>
              <a:ext cx="2895480" cy="609840"/>
            </a:xfrm>
            <a:prstGeom prst="rightArrow">
              <a:avLst>
                <a:gd name="adj1" fmla="val 50000"/>
                <a:gd name="adj2" fmla="val 118698"/>
              </a:avLst>
            </a:prstGeom>
            <a:solidFill>
              <a:srgbClr val="798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8"/>
            <p:cNvSpPr/>
            <p:nvPr/>
          </p:nvSpPr>
          <p:spPr>
            <a:xfrm>
              <a:off x="4119120" y="2608200"/>
              <a:ext cx="1134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sv-SE" sz="1400" spc="-1" strike="noStrike">
                  <a:solidFill>
                    <a:srgbClr val="ffffff"/>
                  </a:solidFill>
                  <a:latin typeface="Arial"/>
                </a:rPr>
                <a:t>Sub-ord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9"/>
          <p:cNvGrpSpPr/>
          <p:nvPr/>
        </p:nvGrpSpPr>
        <p:grpSpPr>
          <a:xfrm>
            <a:off x="5962680" y="1989000"/>
            <a:ext cx="1984320" cy="3835440"/>
            <a:chOff x="5962680" y="1989000"/>
            <a:chExt cx="1984320" cy="3835440"/>
          </a:xfrm>
        </p:grpSpPr>
        <p:sp>
          <p:nvSpPr>
            <p:cNvPr id="110" name="Rectangle 10"/>
            <p:cNvSpPr/>
            <p:nvPr/>
          </p:nvSpPr>
          <p:spPr>
            <a:xfrm>
              <a:off x="5962680" y="1989000"/>
              <a:ext cx="1984320" cy="3835440"/>
            </a:xfrm>
            <a:prstGeom prst="rect">
              <a:avLst/>
            </a:prstGeom>
            <a:gradFill rotWithShape="0">
              <a:gsLst>
                <a:gs pos="0">
                  <a:srgbClr val="bae0c6"/>
                </a:gs>
                <a:gs pos="100000">
                  <a:srgbClr val="64b6b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11" descr=""/>
            <p:cNvPicPr/>
            <p:nvPr/>
          </p:nvPicPr>
          <p:blipFill>
            <a:blip r:embed="rId4"/>
            <a:srcRect l="0" t="32951" r="7575" b="-5421"/>
            <a:stretch/>
          </p:blipFill>
          <p:spPr>
            <a:xfrm>
              <a:off x="5991840" y="2500200"/>
              <a:ext cx="193716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Rectangle 12"/>
            <p:cNvSpPr/>
            <p:nvPr/>
          </p:nvSpPr>
          <p:spPr>
            <a:xfrm>
              <a:off x="6157080" y="2013120"/>
              <a:ext cx="1491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ppli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13"/>
          <p:cNvGrpSpPr/>
          <p:nvPr/>
        </p:nvGrpSpPr>
        <p:grpSpPr>
          <a:xfrm>
            <a:off x="3009960" y="1904760"/>
            <a:ext cx="3000240" cy="533160"/>
            <a:chOff x="3009960" y="1904760"/>
            <a:chExt cx="3000240" cy="533160"/>
          </a:xfrm>
        </p:grpSpPr>
        <p:sp>
          <p:nvSpPr>
            <p:cNvPr id="114" name="AutoShape 14"/>
            <p:cNvSpPr/>
            <p:nvPr/>
          </p:nvSpPr>
          <p:spPr>
            <a:xfrm rot="10800000">
              <a:off x="3009960" y="1904760"/>
              <a:ext cx="3000240" cy="533160"/>
            </a:xfrm>
            <a:prstGeom prst="rightArrow">
              <a:avLst>
                <a:gd name="adj1" fmla="val 50000"/>
                <a:gd name="adj2" fmla="val 140682"/>
              </a:avLst>
            </a:prstGeom>
            <a:solidFill>
              <a:srgbClr val="798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5"/>
            <p:cNvSpPr/>
            <p:nvPr/>
          </p:nvSpPr>
          <p:spPr>
            <a:xfrm>
              <a:off x="4155480" y="2017800"/>
              <a:ext cx="931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sv-SE" sz="1400" spc="-1" strike="noStrike">
                  <a:solidFill>
                    <a:srgbClr val="ffffff"/>
                  </a:solidFill>
                  <a:latin typeface="Arial"/>
                </a:rPr>
                <a:t>Price li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16"/>
          <p:cNvGrpSpPr/>
          <p:nvPr/>
        </p:nvGrpSpPr>
        <p:grpSpPr>
          <a:xfrm>
            <a:off x="3009600" y="2971800"/>
            <a:ext cx="2948040" cy="833400"/>
            <a:chOff x="3009600" y="2971800"/>
            <a:chExt cx="2948040" cy="833400"/>
          </a:xfrm>
        </p:grpSpPr>
        <p:sp>
          <p:nvSpPr>
            <p:cNvPr id="117" name="AutoShape 17"/>
            <p:cNvSpPr/>
            <p:nvPr/>
          </p:nvSpPr>
          <p:spPr>
            <a:xfrm flipH="1">
              <a:off x="3009240" y="2971800"/>
              <a:ext cx="2948040" cy="833400"/>
            </a:xfrm>
            <a:prstGeom prst="rightArrow">
              <a:avLst>
                <a:gd name="adj1" fmla="val 50000"/>
                <a:gd name="adj2" fmla="val 88434"/>
              </a:avLst>
            </a:prstGeom>
            <a:solidFill>
              <a:srgbClr val="798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8"/>
            <p:cNvSpPr/>
            <p:nvPr/>
          </p:nvSpPr>
          <p:spPr>
            <a:xfrm>
              <a:off x="4154400" y="3108240"/>
              <a:ext cx="180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Order confirm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19"/>
          <p:cNvGrpSpPr/>
          <p:nvPr/>
        </p:nvGrpSpPr>
        <p:grpSpPr>
          <a:xfrm>
            <a:off x="3009960" y="4572000"/>
            <a:ext cx="2954160" cy="606600"/>
            <a:chOff x="3009960" y="4572000"/>
            <a:chExt cx="2954160" cy="606600"/>
          </a:xfrm>
        </p:grpSpPr>
        <p:sp>
          <p:nvSpPr>
            <p:cNvPr id="120" name="AutoShape 20"/>
            <p:cNvSpPr/>
            <p:nvPr/>
          </p:nvSpPr>
          <p:spPr>
            <a:xfrm flipH="1">
              <a:off x="3009960" y="4572000"/>
              <a:ext cx="2954160" cy="606600"/>
            </a:xfrm>
            <a:prstGeom prst="rightArrow">
              <a:avLst>
                <a:gd name="adj1" fmla="val 50000"/>
                <a:gd name="adj2" fmla="val 121751"/>
              </a:avLst>
            </a:prstGeom>
            <a:solidFill>
              <a:srgbClr val="798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1"/>
            <p:cNvSpPr/>
            <p:nvPr/>
          </p:nvSpPr>
          <p:spPr>
            <a:xfrm>
              <a:off x="4156560" y="4729320"/>
              <a:ext cx="799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vo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22"/>
          <p:cNvGrpSpPr/>
          <p:nvPr/>
        </p:nvGrpSpPr>
        <p:grpSpPr>
          <a:xfrm>
            <a:off x="3052800" y="5102280"/>
            <a:ext cx="2941200" cy="866880"/>
            <a:chOff x="3052800" y="5102280"/>
            <a:chExt cx="2941200" cy="866880"/>
          </a:xfrm>
        </p:grpSpPr>
        <p:sp>
          <p:nvSpPr>
            <p:cNvPr id="123" name="Rectangle 23"/>
            <p:cNvSpPr/>
            <p:nvPr/>
          </p:nvSpPr>
          <p:spPr>
            <a:xfrm>
              <a:off x="4129560" y="5324400"/>
              <a:ext cx="785880" cy="417600"/>
            </a:xfrm>
            <a:prstGeom prst="rect">
              <a:avLst/>
            </a:prstGeom>
            <a:solidFill>
              <a:srgbClr val="d18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sv-SE" sz="1300" spc="-1" strike="noStrike">
                  <a:solidFill>
                    <a:srgbClr val="ffffff"/>
                  </a:solidFill>
                  <a:latin typeface="Arial"/>
                </a:rPr>
                <a:t>Ban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24"/>
            <p:cNvGrpSpPr/>
            <p:nvPr/>
          </p:nvGrpSpPr>
          <p:grpSpPr>
            <a:xfrm>
              <a:off x="5025960" y="5102280"/>
              <a:ext cx="968040" cy="852120"/>
              <a:chOff x="5025960" y="5102280"/>
              <a:chExt cx="968040" cy="852120"/>
            </a:xfrm>
          </p:grpSpPr>
          <p:sp>
            <p:nvSpPr>
              <p:cNvPr id="125" name="AutoShape 25"/>
              <p:cNvSpPr/>
              <p:nvPr/>
            </p:nvSpPr>
            <p:spPr>
              <a:xfrm>
                <a:off x="5025960" y="5102280"/>
                <a:ext cx="968040" cy="852120"/>
              </a:xfrm>
              <a:prstGeom prst="rightArrow">
                <a:avLst>
                  <a:gd name="adj1" fmla="val 50000"/>
                  <a:gd name="adj2" fmla="val 28401"/>
                </a:avLst>
              </a:prstGeom>
              <a:solidFill>
                <a:srgbClr val="4da3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6"/>
              <p:cNvSpPr/>
              <p:nvPr/>
            </p:nvSpPr>
            <p:spPr>
              <a:xfrm>
                <a:off x="5027400" y="5344200"/>
                <a:ext cx="9273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Pay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27"/>
            <p:cNvGrpSpPr/>
            <p:nvPr/>
          </p:nvGrpSpPr>
          <p:grpSpPr>
            <a:xfrm>
              <a:off x="3052800" y="5135400"/>
              <a:ext cx="1054800" cy="833760"/>
              <a:chOff x="3052800" y="5135400"/>
              <a:chExt cx="1054800" cy="833760"/>
            </a:xfrm>
          </p:grpSpPr>
          <p:sp>
            <p:nvSpPr>
              <p:cNvPr id="128" name="AutoShape 28"/>
              <p:cNvSpPr/>
              <p:nvPr/>
            </p:nvSpPr>
            <p:spPr>
              <a:xfrm>
                <a:off x="3052800" y="5135400"/>
                <a:ext cx="1054800" cy="833760"/>
              </a:xfrm>
              <a:prstGeom prst="rightArrow">
                <a:avLst>
                  <a:gd name="adj1" fmla="val 50000"/>
                  <a:gd name="adj2" fmla="val 31628"/>
                </a:avLst>
              </a:prstGeom>
              <a:solidFill>
                <a:srgbClr val="4da3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9"/>
              <p:cNvSpPr/>
              <p:nvPr/>
            </p:nvSpPr>
            <p:spPr>
              <a:xfrm>
                <a:off x="3072240" y="5337000"/>
                <a:ext cx="758160" cy="46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To pa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Group 30"/>
          <p:cNvGrpSpPr/>
          <p:nvPr/>
        </p:nvGrpSpPr>
        <p:grpSpPr>
          <a:xfrm>
            <a:off x="1143000" y="1989000"/>
            <a:ext cx="1887480" cy="3835440"/>
            <a:chOff x="1143000" y="1989000"/>
            <a:chExt cx="1887480" cy="3835440"/>
          </a:xfrm>
        </p:grpSpPr>
        <p:sp>
          <p:nvSpPr>
            <p:cNvPr id="131" name="Rectangle 31"/>
            <p:cNvSpPr/>
            <p:nvPr/>
          </p:nvSpPr>
          <p:spPr>
            <a:xfrm>
              <a:off x="1143000" y="1989000"/>
              <a:ext cx="1887480" cy="3835440"/>
            </a:xfrm>
            <a:prstGeom prst="rect">
              <a:avLst/>
            </a:prstGeom>
            <a:gradFill rotWithShape="0">
              <a:gsLst>
                <a:gs pos="0">
                  <a:srgbClr val="64b6b4"/>
                </a:gs>
                <a:gs pos="100000">
                  <a:srgbClr val="bae0c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32"/>
            <p:cNvSpPr/>
            <p:nvPr/>
          </p:nvSpPr>
          <p:spPr>
            <a:xfrm>
              <a:off x="1181160" y="2013120"/>
              <a:ext cx="1808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urchas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3" name="Object 33"/>
            <p:cNvGraphicFramePr/>
            <p:nvPr/>
          </p:nvGraphicFramePr>
          <p:xfrm>
            <a:off x="1143000" y="2541600"/>
            <a:ext cx="1883160" cy="2430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4" name="Object 3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143000" y="2541600"/>
                      <a:ext cx="1883160" cy="243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5" name="Text Box 34"/>
          <p:cNvSpPr/>
          <p:nvPr/>
        </p:nvSpPr>
        <p:spPr>
          <a:xfrm>
            <a:off x="2516400" y="60958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35"/>
          <p:cNvGrpSpPr/>
          <p:nvPr/>
        </p:nvGrpSpPr>
        <p:grpSpPr>
          <a:xfrm>
            <a:off x="3021120" y="3886200"/>
            <a:ext cx="2900160" cy="611280"/>
            <a:chOff x="3021120" y="3886200"/>
            <a:chExt cx="2900160" cy="611280"/>
          </a:xfrm>
        </p:grpSpPr>
        <p:sp>
          <p:nvSpPr>
            <p:cNvPr id="137" name="AutoShape 36"/>
            <p:cNvSpPr/>
            <p:nvPr/>
          </p:nvSpPr>
          <p:spPr>
            <a:xfrm flipH="1">
              <a:off x="3021120" y="3886200"/>
              <a:ext cx="2900160" cy="611280"/>
            </a:xfrm>
            <a:prstGeom prst="rightArrow">
              <a:avLst>
                <a:gd name="adj1" fmla="val 50000"/>
                <a:gd name="adj2" fmla="val 118610"/>
              </a:avLst>
            </a:prstGeom>
            <a:solidFill>
              <a:srgbClr val="4da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37"/>
            <p:cNvSpPr/>
            <p:nvPr/>
          </p:nvSpPr>
          <p:spPr>
            <a:xfrm>
              <a:off x="4156560" y="4048200"/>
              <a:ext cx="879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live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Picture 38" descr=""/>
            <p:cNvPicPr/>
            <p:nvPr/>
          </p:nvPicPr>
          <p:blipFill>
            <a:blip r:embed="rId7"/>
            <a:srcRect l="0" t="22196" r="0" b="0"/>
            <a:stretch/>
          </p:blipFill>
          <p:spPr>
            <a:xfrm>
              <a:off x="3527280" y="4029120"/>
              <a:ext cx="702000" cy="363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" name="Picture 39" descr="ESV_40mm_Neg"/>
          <p:cNvPicPr/>
          <p:nvPr/>
        </p:nvPicPr>
        <p:blipFill>
          <a:blip r:embed="rId8"/>
          <a:stretch/>
        </p:blipFill>
        <p:spPr>
          <a:xfrm>
            <a:off x="7610400" y="1341360"/>
            <a:ext cx="1447920" cy="622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KASSAAP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KASSAAP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KASSAAP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tshållare för bildnummer 3"/>
          <p:cNvSpPr/>
          <p:nvPr/>
        </p:nvSpPr>
        <p:spPr>
          <a:xfrm>
            <a:off x="7093080" y="6408720"/>
            <a:ext cx="87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E8EA-BBF1-4919-AE52-10AE31FE251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568c"/>
                </a:solidFill>
                <a:latin typeface="Verdana"/>
              </a:rPr>
              <a:t>Message standards</a:t>
            </a: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From start our EDI messages were based on UN/EDIFACT, in accordance with the EANCOM implementation guideline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16668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nitially we chose directory D93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16668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ince 1999 we use directory D96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16668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No later directories adopt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n recent years XML-based messages have been increasingly asked f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16668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Because of the new technology itself,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16668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Because of new target groups, notably the SMEs, requiring simpler procedur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This has lead to the introduction of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81080" indent="-16668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Basic invoice (UBL 1.0; since 2004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81080" indent="-16668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Basic order only (UBL 2.0/NES; since 2008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But we continue to use also UN/EDIFACT messa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Picture 4" descr="ESV_40mm_Neg"/>
          <p:cNvPicPr/>
          <p:nvPr/>
        </p:nvPicPr>
        <p:blipFill>
          <a:blip r:embed="rId1"/>
          <a:stretch/>
        </p:blipFill>
        <p:spPr>
          <a:xfrm>
            <a:off x="7610400" y="1341360"/>
            <a:ext cx="14479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tshållare för bildnummer 3"/>
          <p:cNvSpPr/>
          <p:nvPr/>
        </p:nvSpPr>
        <p:spPr>
          <a:xfrm>
            <a:off x="7093080" y="6408720"/>
            <a:ext cx="87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4A9F-F650-4493-8793-DEF1CB343DC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568c"/>
                </a:solidFill>
                <a:latin typeface="Verdana"/>
              </a:rPr>
              <a:t>Other related standards</a:t>
            </a:r>
            <a:r>
              <a:rPr b="1" lang="en-GB" sz="2000" spc="-1" strike="noStrike">
                <a:solidFill>
                  <a:srgbClr val="11568c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38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rd party operators (VAN, banks, etc) are common in Swe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1666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 bridge various addressing standards we introduced an UN/CEFACT-based envelope, SBDH (Standard Business Document Head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e recommend the use of an ebMS-based transport pro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e have defined an object envelope for attachments to electronic mess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4" descr="ESV_40mm_Neg"/>
          <p:cNvPicPr/>
          <p:nvPr/>
        </p:nvPicPr>
        <p:blipFill>
          <a:blip r:embed="rId1"/>
          <a:stretch/>
        </p:blipFill>
        <p:spPr>
          <a:xfrm>
            <a:off x="7610400" y="1341360"/>
            <a:ext cx="14479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tshållare för bildnummer 3"/>
          <p:cNvSpPr/>
          <p:nvPr/>
        </p:nvSpPr>
        <p:spPr>
          <a:xfrm>
            <a:off x="7093080" y="6408720"/>
            <a:ext cx="87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3843-C882-4475-BA93-DF833127A6B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568c"/>
                </a:solidFill>
                <a:latin typeface="Verdana"/>
              </a:rPr>
              <a:t>International collaborations</a:t>
            </a: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32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Although our task is to serve organisations in Sweden we recognise the need for international collaboration, for examp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We have participated in UN/CEFACT, since 1998, bot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16668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at UN/CEFACT Forum every year, an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16668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n TBG 1(Martin Forsberg from SFTI is responsible for the work regarding order-messa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We also participate in CEN workshops, notably CEN/BII. Martin Forsberg chairs the working group focusing on convergence between UN/CEFACT and UB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weden, through SFTI, will participate in the Pan-European PEPPOL project to test cross-border e-invoic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4" descr="ESV_40mm_Neg"/>
          <p:cNvPicPr/>
          <p:nvPr/>
        </p:nvPicPr>
        <p:blipFill>
          <a:blip r:embed="rId1"/>
          <a:stretch/>
        </p:blipFill>
        <p:spPr>
          <a:xfrm>
            <a:off x="7610400" y="1341360"/>
            <a:ext cx="14479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tshållare för bildnummer 3"/>
          <p:cNvSpPr/>
          <p:nvPr/>
        </p:nvSpPr>
        <p:spPr>
          <a:xfrm>
            <a:off x="7093080" y="6408720"/>
            <a:ext cx="87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1ACB-5EC5-442C-B018-1B11B1DFE48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568c"/>
                </a:solidFill>
                <a:latin typeface="Verdana"/>
              </a:rPr>
              <a:t>Our involvement in UN/CEFACT</a:t>
            </a: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324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We see UN/CEFACT as the only platform that can bring together a wide range of heterogeneous user groups from all over the worl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We appreciate the collaborative atmosphere in the convergence work between UN/CEFACT/TBG1 and UBL, and regret that limited resources have not made possible to extend it wide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We are pleased with the recent progress in UN/CEFACT regard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16668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The second generation of the cross-industry invoice, representing a successful merger of various user groups’ require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16668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The new base standards CCTS3 and NDR3, which will bring significant improvement for users of UN/CEFACT implement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We look forward to an up-take in the implementation of UN/CECFACT specifications as richer libraries based on these specs become availabl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4" descr="ESV_40mm_Neg"/>
          <p:cNvPicPr/>
          <p:nvPr/>
        </p:nvPicPr>
        <p:blipFill>
          <a:blip r:embed="rId1"/>
          <a:stretch/>
        </p:blipFill>
        <p:spPr>
          <a:xfrm>
            <a:off x="7610400" y="1341360"/>
            <a:ext cx="14479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tshållare för bildnummer 1"/>
          <p:cNvSpPr/>
          <p:nvPr/>
        </p:nvSpPr>
        <p:spPr>
          <a:xfrm>
            <a:off x="7093080" y="6408720"/>
            <a:ext cx="87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F765-0FE4-4329-B566-36FC55AEBDA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568c"/>
                </a:solidFill>
                <a:latin typeface="Verdana"/>
              </a:rPr>
              <a:t>Our involvement in UN/CEFACT</a:t>
            </a:r>
            <a:endParaRPr b="1" lang="en-US" sz="20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600200"/>
            <a:ext cx="5398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Verdana"/>
              </a:rPr>
              <a:t>The work is however far from ov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Verdana"/>
              </a:rPr>
              <a:t>There are challenges that need to be addressed regarding the XML-syntax, versioning and code lis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Verdana"/>
              </a:rPr>
              <a:t>We see the Standards Advisory Board and CCLF (Core Component Library Framework) as important plattforms to find solutions to the challen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Verdana"/>
              </a:rPr>
              <a:t>We hope that our experience from having used CCTS-based XML-standards in many years will be useful in this environ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Verdana"/>
              </a:rPr>
              <a:t>We will continue to support the work within UN/Cefac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tshållare för bildnummer 3"/>
          <p:cNvSpPr/>
          <p:nvPr/>
        </p:nvSpPr>
        <p:spPr>
          <a:xfrm>
            <a:off x="7093080" y="6408720"/>
            <a:ext cx="87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5808-3518-41B2-B5D2-6BE9443A61C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ESV_40mm_Neg"/>
          <p:cNvPicPr/>
          <p:nvPr/>
        </p:nvPicPr>
        <p:blipFill>
          <a:blip r:embed="rId1"/>
          <a:stretch/>
        </p:blipFill>
        <p:spPr>
          <a:xfrm>
            <a:off x="7610400" y="1341360"/>
            <a:ext cx="14479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9:05:54Z</dcterms:created>
  <dc:creator>lmj</dc:creator>
  <dc:description/>
  <dc:language>en-US</dc:language>
  <cp:lastModifiedBy>User</cp:lastModifiedBy>
  <dcterms:modified xsi:type="dcterms:W3CDTF">2009-11-06T16:24:27Z</dcterms:modified>
  <cp:revision>29</cp:revision>
  <dc:subject/>
  <dc:title>E-business in public sector in Sweden, the concept of SFTI</dc:title>
</cp:coreProperties>
</file>