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KASSAAP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568c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D49-3B39-4F9A-A09F-106590D1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tshållare för bildnummer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EE0-F381-44E5-8AD4-56D56E68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tshållare för bildnummer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62B-4EB7-4B1B-A3DD-A85AC8AC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1D87-7232-47A1-B818-C6195F6C7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84320" y="8701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4680" y="4716360"/>
            <a:ext cx="49798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tshållare för bildnummer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C08F-F715-41AB-9DD5-E410B77D5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A842-3476-4883-BBF0-FC71CE5D6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5637-1BBD-4E69-8BE7-9C83D45C4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5784-F2EC-4DF0-A988-133B3000A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0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760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820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760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4093-73B3-44B6-925A-5028BCBEA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98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0C73-F5B6-42C1-ACBA-0E67F055F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204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07600" y="160020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8204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07600" y="3964320"/>
            <a:ext cx="173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68A3-8A11-4ACB-8176-1D0A454C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CAA8-95D6-497B-8AA1-95B21DE65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142F-F882-40EB-B092-35167B2F7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98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4881-564B-46B8-AE49-1DB5C0D9C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85B9-8321-4F81-A24B-10AB0FABD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23440" y="396432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62DD-C5AF-48B5-B1D2-8081D7657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23440" y="1600200"/>
            <a:ext cx="2634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3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9566-EE01-432F-B8E8-4E9FF4595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KL_ppt_element_bla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568c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7120" indent="-15552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92720" y="6408360"/>
            <a:ext cx="87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B75-D7A0-4EA3-B6CA-60AEBE6F622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519120" y="6305400"/>
            <a:ext cx="184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SKL_ppt_element_bla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5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EF2E-E111-476B-8D99-BACE27132D8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717120" y="6305400"/>
            <a:ext cx="3170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800" spc="-1" strike="noStrike">
                <a:solidFill>
                  <a:srgbClr val="000000"/>
                </a:solidFill>
                <a:latin typeface="Verdana"/>
              </a:rPr>
              <a:t>Svenska Kommunförbundet och Landstingsförbundet i samverk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568c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7120" indent="-15552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1461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ekerstin.wiss.holmdahl@skl.se" TargetMode="External"/><Relationship Id="rId2" Type="http://schemas.openxmlformats.org/officeDocument/2006/relationships/hyperlink" Target="mailto:Peter.noren@esv.se" TargetMode="External"/><Relationship Id="rId3" Type="http://schemas.openxmlformats.org/officeDocument/2006/relationships/hyperlink" Target="mailto:tekniskt.kansli@skl.se" TargetMode="External"/><Relationship Id="rId4" Type="http://schemas.openxmlformats.org/officeDocument/2006/relationships/hyperlink" Target="http://www.sfti.se/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wmf"/><Relationship Id="rId9" Type="http://schemas.openxmlformats.org/officeDocument/2006/relationships/audio" Target="../media/KASSAAPP.WAV"/><Relationship Id="rId10" Type="http://schemas.openxmlformats.org/officeDocument/2006/relationships/audio" Target="../media/KASSAAPP.WAV"/><Relationship Id="rId11" Type="http://schemas.openxmlformats.org/officeDocument/2006/relationships/audio" Target="../media/KASSAAPP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64CE-5429-43F1-8B9B-04D409B975E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3716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1568c"/>
                </a:solidFill>
                <a:latin typeface="Verdana"/>
              </a:rPr>
              <a:t>E-procurement standards </a:t>
            </a:r>
            <a:br>
              <a:rPr sz="3200"/>
            </a:br>
            <a:r>
              <a:rPr b="1" lang="en-GB" sz="3200" spc="-1" strike="noStrike">
                <a:solidFill>
                  <a:srgbClr val="11568c"/>
                </a:solidFill>
                <a:latin typeface="Verdana"/>
              </a:rPr>
              <a:t>in the Swedish public sector</a:t>
            </a:r>
            <a:endParaRPr b="1" lang="en-US" sz="32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4267080"/>
            <a:ext cx="6324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Kerstin Wiss Holmdah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Association of Local Authorities and Reg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eter Noré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National Financial Management Autho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ingle Face To Industry (SFT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909-5FE0-4D14-BAC9-58D900F981F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Thank you!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Kerstin Wiss Holmdah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egal advisor/project lea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Association of Local Authorities and Regio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/SFTI (Single Face To Industr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kerstin.wiss.holmdahl@skl.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+46 8 452 79 8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eter Noré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oject lea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wedish National Financial Management Authority / SF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eter.noren@esv.se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, +46 8 690 45 9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F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chnical staff: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tekniskt.kansli@skl.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eb page: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sfti.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0640"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ESV_40mm_Neg"/>
          <p:cNvPicPr/>
          <p:nvPr/>
        </p:nvPicPr>
        <p:blipFill>
          <a:blip r:embed="rId5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CC9-00F5-4213-BC73-4D0570AF7D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598824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Single Face To Industry (SFTI)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as initiated as an e-commerce project, in 1995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w a public sector program, lead jointly by the Government, through The Swedish National Financial Management Authority (ESV), and The Swedish Association of Local Authorities and Regions (SK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ur objectives for e-procurement a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impler and more efficient procurement in public se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tter compliance with frame work agreements (i.e. buy from right supplier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ree resources for the core business (i.e. for schools, hospitals, elderly care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225-D8B7-4BC7-ABBA-1A60B8E66A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5988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SFTI – our role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6323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lish standardised business processes for public buyers and their suppli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b-ordering (call off) from framework agreements is the most used business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eriodic invoicing is also used in a large sc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for complementary use of stand-alone electronic messages (invoice, ord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user support through implementation guidelines, awareness, training, technical advice,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courage the development of e-procurement/e-business solu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6CC-2F02-41AB-82B3-A2AA09B1D1A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649920" y="3218040"/>
            <a:ext cx="104940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6497640" y="2836800"/>
            <a:ext cx="104940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6421320" y="2455920"/>
            <a:ext cx="990720" cy="1752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20280"/>
            <a:ext cx="632448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1568c"/>
                </a:solidFill>
                <a:latin typeface="Verdana"/>
              </a:rPr>
              <a:t>An example</a:t>
            </a:r>
            <a:r>
              <a:rPr b="1" i="1" lang="sv-SE" sz="2000" spc="-1" strike="noStrike">
                <a:solidFill>
                  <a:srgbClr val="11568c"/>
                </a:solidFill>
                <a:latin typeface="Verdana"/>
              </a:rPr>
              <a:t>:</a:t>
            </a:r>
            <a:br>
              <a:rPr sz="1600"/>
            </a:b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FTI/ESAP Sc 6.1 Sub-ordering from frame work agreements, based on UN/EDIFACT</a:t>
            </a:r>
            <a:r>
              <a:rPr b="0" lang="en-GB" sz="1700" spc="-1" strike="noStrike">
                <a:solidFill>
                  <a:srgbClr val="11568c"/>
                </a:solidFill>
                <a:latin typeface="Verdana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and EANCOM</a:t>
            </a:r>
            <a:endParaRPr b="1" lang="en-US" sz="1700" spc="-1" strike="noStrike">
              <a:solidFill>
                <a:srgbClr val="11568c"/>
              </a:solidFill>
              <a:latin typeface="Verdana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3048120" y="2438280"/>
            <a:ext cx="2895480" cy="609840"/>
            <a:chOff x="3048120" y="2438280"/>
            <a:chExt cx="2895480" cy="609840"/>
          </a:xfrm>
        </p:grpSpPr>
        <p:sp>
          <p:nvSpPr>
            <p:cNvPr id="107" name="AutoShape 7"/>
            <p:cNvSpPr/>
            <p:nvPr/>
          </p:nvSpPr>
          <p:spPr>
            <a:xfrm>
              <a:off x="3048120" y="2438280"/>
              <a:ext cx="2895480" cy="609840"/>
            </a:xfrm>
            <a:prstGeom prst="rightArrow">
              <a:avLst>
                <a:gd name="adj1" fmla="val 50000"/>
                <a:gd name="adj2" fmla="val 118698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4119120" y="260820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Sub-or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5962680" y="1989000"/>
            <a:ext cx="1984320" cy="3835440"/>
            <a:chOff x="5962680" y="1989000"/>
            <a:chExt cx="1984320" cy="3835440"/>
          </a:xfrm>
        </p:grpSpPr>
        <p:sp>
          <p:nvSpPr>
            <p:cNvPr id="110" name="Rectangle 10"/>
            <p:cNvSpPr/>
            <p:nvPr/>
          </p:nvSpPr>
          <p:spPr>
            <a:xfrm>
              <a:off x="5962680" y="1989000"/>
              <a:ext cx="1984320" cy="3835440"/>
            </a:xfrm>
            <a:prstGeom prst="rect">
              <a:avLst/>
            </a:prstGeom>
            <a:gradFill rotWithShape="0">
              <a:gsLst>
                <a:gs pos="0">
                  <a:srgbClr val="bae0c6"/>
                </a:gs>
                <a:gs pos="100000">
                  <a:srgbClr val="64b6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1" descr=""/>
            <p:cNvPicPr/>
            <p:nvPr/>
          </p:nvPicPr>
          <p:blipFill>
            <a:blip r:embed="rId4"/>
            <a:srcRect l="0" t="32951" r="7575" b="-5421"/>
            <a:stretch/>
          </p:blipFill>
          <p:spPr>
            <a:xfrm>
              <a:off x="5991840" y="2500200"/>
              <a:ext cx="19371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12"/>
            <p:cNvSpPr/>
            <p:nvPr/>
          </p:nvSpPr>
          <p:spPr>
            <a:xfrm>
              <a:off x="6157080" y="2013120"/>
              <a:ext cx="1491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3"/>
          <p:cNvGrpSpPr/>
          <p:nvPr/>
        </p:nvGrpSpPr>
        <p:grpSpPr>
          <a:xfrm>
            <a:off x="3009960" y="1904760"/>
            <a:ext cx="3000240" cy="533160"/>
            <a:chOff x="3009960" y="1904760"/>
            <a:chExt cx="3000240" cy="533160"/>
          </a:xfrm>
        </p:grpSpPr>
        <p:sp>
          <p:nvSpPr>
            <p:cNvPr id="114" name="AutoShape 14"/>
            <p:cNvSpPr/>
            <p:nvPr/>
          </p:nvSpPr>
          <p:spPr>
            <a:xfrm rot="10800000">
              <a:off x="3009960" y="1904760"/>
              <a:ext cx="3000240" cy="533160"/>
            </a:xfrm>
            <a:prstGeom prst="rightArrow">
              <a:avLst>
                <a:gd name="adj1" fmla="val 50000"/>
                <a:gd name="adj2" fmla="val 140682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4155480" y="2017800"/>
              <a:ext cx="93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Arial"/>
                </a:rPr>
                <a:t>Price 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6"/>
          <p:cNvGrpSpPr/>
          <p:nvPr/>
        </p:nvGrpSpPr>
        <p:grpSpPr>
          <a:xfrm>
            <a:off x="3009600" y="2971800"/>
            <a:ext cx="2948040" cy="833400"/>
            <a:chOff x="3009600" y="2971800"/>
            <a:chExt cx="2948040" cy="833400"/>
          </a:xfrm>
        </p:grpSpPr>
        <p:sp>
          <p:nvSpPr>
            <p:cNvPr id="117" name="AutoShape 17"/>
            <p:cNvSpPr/>
            <p:nvPr/>
          </p:nvSpPr>
          <p:spPr>
            <a:xfrm flipH="1">
              <a:off x="3009240" y="2971800"/>
              <a:ext cx="2948040" cy="833400"/>
            </a:xfrm>
            <a:prstGeom prst="rightArrow">
              <a:avLst>
                <a:gd name="adj1" fmla="val 50000"/>
                <a:gd name="adj2" fmla="val 88434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154400" y="3108240"/>
              <a:ext cx="180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Order confi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9"/>
          <p:cNvGrpSpPr/>
          <p:nvPr/>
        </p:nvGrpSpPr>
        <p:grpSpPr>
          <a:xfrm>
            <a:off x="3009960" y="4572000"/>
            <a:ext cx="2954160" cy="606600"/>
            <a:chOff x="3009960" y="4572000"/>
            <a:chExt cx="2954160" cy="606600"/>
          </a:xfrm>
        </p:grpSpPr>
        <p:sp>
          <p:nvSpPr>
            <p:cNvPr id="120" name="AutoShape 20"/>
            <p:cNvSpPr/>
            <p:nvPr/>
          </p:nvSpPr>
          <p:spPr>
            <a:xfrm flipH="1">
              <a:off x="3009960" y="4572000"/>
              <a:ext cx="2954160" cy="606600"/>
            </a:xfrm>
            <a:prstGeom prst="rightArrow">
              <a:avLst>
                <a:gd name="adj1" fmla="val 50000"/>
                <a:gd name="adj2" fmla="val 121751"/>
              </a:avLst>
            </a:prstGeom>
            <a:solidFill>
              <a:srgbClr val="798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4156560" y="4729320"/>
              <a:ext cx="79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vo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3052800" y="5102280"/>
            <a:ext cx="2941200" cy="866880"/>
            <a:chOff x="3052800" y="5102280"/>
            <a:chExt cx="2941200" cy="866880"/>
          </a:xfrm>
        </p:grpSpPr>
        <p:sp>
          <p:nvSpPr>
            <p:cNvPr id="123" name="Rectangle 23"/>
            <p:cNvSpPr/>
            <p:nvPr/>
          </p:nvSpPr>
          <p:spPr>
            <a:xfrm>
              <a:off x="4129560" y="5324400"/>
              <a:ext cx="785880" cy="417600"/>
            </a:xfrm>
            <a:prstGeom prst="rect">
              <a:avLst/>
            </a:prstGeom>
            <a:solidFill>
              <a:srgbClr val="d18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300" spc="-1" strike="noStrike">
                  <a:solidFill>
                    <a:srgbClr val="ffffff"/>
                  </a:solidFill>
                  <a:latin typeface="Arial"/>
                </a:rPr>
                <a:t>Ban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24"/>
            <p:cNvGrpSpPr/>
            <p:nvPr/>
          </p:nvGrpSpPr>
          <p:grpSpPr>
            <a:xfrm>
              <a:off x="5025960" y="5102280"/>
              <a:ext cx="968040" cy="852120"/>
              <a:chOff x="5025960" y="5102280"/>
              <a:chExt cx="968040" cy="852120"/>
            </a:xfrm>
          </p:grpSpPr>
          <p:sp>
            <p:nvSpPr>
              <p:cNvPr id="125" name="AutoShape 25"/>
              <p:cNvSpPr/>
              <p:nvPr/>
            </p:nvSpPr>
            <p:spPr>
              <a:xfrm>
                <a:off x="5025960" y="5102280"/>
                <a:ext cx="968040" cy="852120"/>
              </a:xfrm>
              <a:prstGeom prst="rightArrow">
                <a:avLst>
                  <a:gd name="adj1" fmla="val 50000"/>
                  <a:gd name="adj2" fmla="val 28401"/>
                </a:avLst>
              </a:prstGeom>
              <a:solidFill>
                <a:srgbClr val="4da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6"/>
              <p:cNvSpPr/>
              <p:nvPr/>
            </p:nvSpPr>
            <p:spPr>
              <a:xfrm>
                <a:off x="5027400" y="5344200"/>
                <a:ext cx="927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Pay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7"/>
            <p:cNvGrpSpPr/>
            <p:nvPr/>
          </p:nvGrpSpPr>
          <p:grpSpPr>
            <a:xfrm>
              <a:off x="3052800" y="5135400"/>
              <a:ext cx="1054800" cy="833760"/>
              <a:chOff x="3052800" y="5135400"/>
              <a:chExt cx="1054800" cy="833760"/>
            </a:xfrm>
          </p:grpSpPr>
          <p:sp>
            <p:nvSpPr>
              <p:cNvPr id="128" name="AutoShape 28"/>
              <p:cNvSpPr/>
              <p:nvPr/>
            </p:nvSpPr>
            <p:spPr>
              <a:xfrm>
                <a:off x="3052800" y="5135400"/>
                <a:ext cx="1054800" cy="833760"/>
              </a:xfrm>
              <a:prstGeom prst="rightArrow">
                <a:avLst>
                  <a:gd name="adj1" fmla="val 50000"/>
                  <a:gd name="adj2" fmla="val 31628"/>
                </a:avLst>
              </a:prstGeom>
              <a:solidFill>
                <a:srgbClr val="4da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9"/>
              <p:cNvSpPr/>
              <p:nvPr/>
            </p:nvSpPr>
            <p:spPr>
              <a:xfrm>
                <a:off x="3072240" y="5337000"/>
                <a:ext cx="758160" cy="4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To p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30"/>
          <p:cNvGrpSpPr/>
          <p:nvPr/>
        </p:nvGrpSpPr>
        <p:grpSpPr>
          <a:xfrm>
            <a:off x="1143000" y="1989000"/>
            <a:ext cx="1887480" cy="3835440"/>
            <a:chOff x="1143000" y="1989000"/>
            <a:chExt cx="1887480" cy="3835440"/>
          </a:xfrm>
        </p:grpSpPr>
        <p:sp>
          <p:nvSpPr>
            <p:cNvPr id="131" name="Rectangle 31"/>
            <p:cNvSpPr/>
            <p:nvPr/>
          </p:nvSpPr>
          <p:spPr>
            <a:xfrm>
              <a:off x="1143000" y="1989000"/>
              <a:ext cx="1887480" cy="3835440"/>
            </a:xfrm>
            <a:prstGeom prst="rect">
              <a:avLst/>
            </a:prstGeom>
            <a:gradFill rotWithShape="0">
              <a:gsLst>
                <a:gs pos="0">
                  <a:srgbClr val="64b6b4"/>
                </a:gs>
                <a:gs pos="100000">
                  <a:srgbClr val="bae0c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1181160" y="2013120"/>
              <a:ext cx="180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urchas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" name="Object 33"/>
            <p:cNvGraphicFramePr/>
            <p:nvPr/>
          </p:nvGraphicFramePr>
          <p:xfrm>
            <a:off x="1143000" y="2541600"/>
            <a:ext cx="1883160" cy="243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3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43000" y="2541600"/>
                      <a:ext cx="1883160" cy="24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Text Box 34"/>
          <p:cNvSpPr/>
          <p:nvPr/>
        </p:nvSpPr>
        <p:spPr>
          <a:xfrm>
            <a:off x="2516400" y="6095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5"/>
          <p:cNvGrpSpPr/>
          <p:nvPr/>
        </p:nvGrpSpPr>
        <p:grpSpPr>
          <a:xfrm>
            <a:off x="3021120" y="3886200"/>
            <a:ext cx="2900160" cy="611280"/>
            <a:chOff x="3021120" y="3886200"/>
            <a:chExt cx="2900160" cy="611280"/>
          </a:xfrm>
        </p:grpSpPr>
        <p:sp>
          <p:nvSpPr>
            <p:cNvPr id="137" name="AutoShape 36"/>
            <p:cNvSpPr/>
            <p:nvPr/>
          </p:nvSpPr>
          <p:spPr>
            <a:xfrm flipH="1">
              <a:off x="3021120" y="3886200"/>
              <a:ext cx="2900160" cy="611280"/>
            </a:xfrm>
            <a:prstGeom prst="rightArrow">
              <a:avLst>
                <a:gd name="adj1" fmla="val 50000"/>
                <a:gd name="adj2" fmla="val 118610"/>
              </a:avLst>
            </a:prstGeom>
            <a:solidFill>
              <a:srgbClr val="4da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4156560" y="4048200"/>
              <a:ext cx="87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li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38" descr=""/>
            <p:cNvPicPr/>
            <p:nvPr/>
          </p:nvPicPr>
          <p:blipFill>
            <a:blip r:embed="rId7"/>
            <a:srcRect l="0" t="22196" r="0" b="0"/>
            <a:stretch/>
          </p:blipFill>
          <p:spPr>
            <a:xfrm>
              <a:off x="3527280" y="4029120"/>
              <a:ext cx="702000" cy="3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39" descr="ESV_40mm_Neg"/>
          <p:cNvPicPr/>
          <p:nvPr/>
        </p:nvPicPr>
        <p:blipFill>
          <a:blip r:embed="rId8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SSAAP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ASSAAP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KASSAAP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AD69-EE4A-4CE6-AD9E-6EB7498C554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Message standards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rom start our EDI messages were based on UN/EDIFACT, in accordance with the EANCOM implementation guidelin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itially we chose directory D93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ince 1999 we use directory D96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 later directories adop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 recent years XML-based messages have been increasingly asked f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cause of the new technology itself,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cause of new target groups, notably the SMEs, requiring simpler proced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is has lead to the introduction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sic invoice (UBL 1.0; since 2004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10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asic order only (UBL 2.0/NES; since 2008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ut we continue to use also UN/EDIFACT mess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0327-2AF5-47C7-BE94-4852AEB9936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Other related standards</a:t>
            </a:r>
            <a:r>
              <a:rPr b="1" lang="en-GB" sz="2000" spc="-1" strike="noStrike">
                <a:solidFill>
                  <a:srgbClr val="11568c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party operators (VAN, banks, etc) are common in Swe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bridge various addressing standards we introduced an UN/CEFACT-based envelope, SBDH (Standard Business Document Hea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recommend the use of an ebMS-based transport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have defined an object envelope for attachments to electronic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319C-3A1D-4492-94D1-FE499A34213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International collaborations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lthough our task is to serve organisations in Sweden we recognise the need for international collaboration, for 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have participated in UN/CEFACT, since 1998, bo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t UN/CEFACT Forum every year, 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 TBG 1(Martin Forsberg from SFTI is responsible for the work regarding order-mess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also participate in CEN workshops, notably CEN/BII. Martin Forsberg chairs the working group focusing on convergence between UN/CEFACT and UB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weden, through SFTI, will participate in the Pan-European PEPPOL project to test cross-border e-invo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096D-D3CA-4584-830F-12EF7FF0EF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568c"/>
                </a:solidFill>
                <a:latin typeface="Verdana"/>
              </a:rPr>
              <a:t>Our involvement in UN/CEFACT</a:t>
            </a:r>
            <a:endParaRPr b="1" lang="en-US" sz="24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see UN/CEFACT as the only platform that can bring together a wide range of heterogeneous user groups from all over the wor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appreciate the collaborative atmosphere in the convergence work between UN/CEFACT/TBG1 and UBL, and regret that limited resources have not made possible to extend it wide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are pleased with the recent progress in UN/CEFACT regar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second generation of the cross-industry invoice, representing a successful merger of various user groups’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16668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e new base standards CCTS3 and NDR3, which will bring significant improvement for users of UN/CEFACT implement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look forward to an up-take in the implementation of UN/CECFACT specifications as richer libraries based on these specs become availab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tshållare för bildnummer 1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826-3A83-43E0-BE96-65B72095228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568c"/>
                </a:solidFill>
                <a:latin typeface="Verdana"/>
              </a:rPr>
              <a:t>Our involvement in UN/CEFACT</a:t>
            </a:r>
            <a:endParaRPr b="1" lang="en-US" sz="2000" spc="-1" strike="noStrike">
              <a:solidFill>
                <a:srgbClr val="11568c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0020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The work is however far from o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There are challenges that need to be addressed regarding the XML-syntax, versioning and code 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We see the Standards Advisory Board and CCLF (Core Component Library Framework) as important plattforms to find solutions to the 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We hope that our experience from having used CCTS-based XML-standards in many years will be useful in this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We will continue to support the work within UN/Cefa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tshållare för bildnummer 3"/>
          <p:cNvSpPr/>
          <p:nvPr/>
        </p:nvSpPr>
        <p:spPr>
          <a:xfrm>
            <a:off x="7093080" y="6408720"/>
            <a:ext cx="87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95D5-3135-42CB-8297-F4258F783A8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ESV_40mm_Neg"/>
          <p:cNvPicPr/>
          <p:nvPr/>
        </p:nvPicPr>
        <p:blipFill>
          <a:blip r:embed="rId1"/>
          <a:stretch/>
        </p:blipFill>
        <p:spPr>
          <a:xfrm>
            <a:off x="7610400" y="1341360"/>
            <a:ext cx="1447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9:05:54Z</dcterms:created>
  <dc:creator>lmj</dc:creator>
  <dc:description/>
  <dc:language>en-US</dc:language>
  <cp:lastModifiedBy>User</cp:lastModifiedBy>
  <dcterms:modified xsi:type="dcterms:W3CDTF">2009-11-06T16:24:27Z</dcterms:modified>
  <cp:revision>29</cp:revision>
  <dc:subject/>
  <dc:title>E-business in public sector in Sweden, the concept of SFTI</dc:title>
</cp:coreProperties>
</file>